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42.png" ContentType="image/png"/>
  <Override PartName="/ppt/media/image25.jpeg" ContentType="image/jpeg"/>
  <Override PartName="/ppt/media/image22.png" ContentType="image/png"/>
  <Override PartName="/ppt/media/image21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10.jpeg" ContentType="image/jpeg"/>
  <Override PartName="/ppt/media/image35.jpeg" ContentType="image/jpeg"/>
  <Override PartName="/ppt/media/image5.png" ContentType="image/png"/>
  <Override PartName="/ppt/media/image32.jpeg" ContentType="image/jpeg"/>
  <Override PartName="/ppt/media/image33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40.png" ContentType="image/png"/>
  <Override PartName="/ppt/media/image9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41.png" ContentType="image/png"/>
  <Override PartName="/ppt/media/image30.jpeg" ContentType="image/jpeg"/>
  <Override PartName="/ppt/media/image43.png" ContentType="image/png"/>
  <Override PartName="/ppt/media/image44.jpeg" ContentType="image/jpeg"/>
  <Override PartName="/ppt/media/image45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6.png" ContentType="image/png"/>
  <Override PartName="/ppt/media/image29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1635-7368-4F4A-A7C9-E1438819A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1808-8D70-4904-8C22-440D35D5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3A40-CBF6-4DE2-A3BF-B93745168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780B-5AE6-4FF6-B24A-56191CCF6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DDF4-5619-418A-9BCD-2F071E48F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1BD79-DFB5-4B36-8D20-32F1AE96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881B0-6DBA-41A3-A256-D9CAF2B3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12B5-94C1-4B10-8A37-E1985E08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BD01-9A27-4DEC-881C-C8BCB9CF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AF9C-3B93-45F4-8797-1E4D3776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6B89-1EF3-431E-847D-66A82A54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526D-0E47-4AEE-9077-8BB842BB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14FE-287A-4D2D-A007-F8375AB7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DE36-4657-4415-91E6-1DC6F083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BC6C-8152-4CA7-9949-EF52A48D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0120-047B-4926-8A8D-B1784F281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F8CA-0955-4BFC-87CF-F46F03F10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3F12-923F-4367-A68C-22D94BC2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F052-5043-4305-8E4C-546A1A07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2410-A338-470E-BA15-5EC84071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817A-4FCE-47D3-9A85-03B62A5A4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CF29-8AF7-4B14-8B75-355B86BD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9F09-CA1C-4BA9-A7AB-13CFA9C3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1EFB-AB80-4F9A-BB90-9A355FD8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41DD-15DE-45E6-8B18-BFA12260D8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C505-C8CC-4460-BBA8-6280619298C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6036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тудентська наукова </a:t>
            </a:r>
            <a:br>
              <a:rPr sz="4000"/>
            </a:br>
            <a:r>
              <a:rPr b="0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облемна група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715920"/>
            <a:ext cx="6400800" cy="24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uk-UA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Науковий керівник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Фролов О.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Федотов Є. 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опійка В. 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одзаголовок 2"/>
          <p:cNvSpPr/>
          <p:nvPr/>
        </p:nvSpPr>
        <p:spPr>
          <a:xfrm>
            <a:off x="539640" y="1989000"/>
            <a:ext cx="81360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ДОСЛІДНИЦЬКА ІМУНОЛОГІЯ ТА БІОТЕХНОЛОГІЯ</a:t>
            </a:r>
            <a:r>
              <a:rPr b="0" lang="uk-UA" sz="21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                        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cfcf"/>
            </a:gs>
            <a:gs pos="100000">
              <a:srgbClr val="e0ef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C:\Documents and Settings\Администратор\Мои документы\Мои рисунки\ФОТО универ\18.12.10 Конференция ЗНУ Биофак\100NCD60\DSC_0227.JPG"/>
          <p:cNvPicPr/>
          <p:nvPr/>
        </p:nvPicPr>
        <p:blipFill>
          <a:blip r:embed="rId1"/>
          <a:stretch/>
        </p:blipFill>
        <p:spPr>
          <a:xfrm>
            <a:off x="826920" y="2492280"/>
            <a:ext cx="3594240" cy="40006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C:\Documents and Settings\Администратор\Мои документы\Мои рисунки\ФОТО универ\18.12.10 Конференция ЗНУ Биофак\100NCD60\DSC_0263.JPG"/>
          <p:cNvPicPr/>
          <p:nvPr/>
        </p:nvPicPr>
        <p:blipFill>
          <a:blip r:embed="rId2"/>
          <a:stretch/>
        </p:blipFill>
        <p:spPr>
          <a:xfrm>
            <a:off x="5435640" y="1773360"/>
            <a:ext cx="3708360" cy="25714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C:\Documents and Settings\Администратор\Мои документы\Мои рисунки\ФОТО универ\18.12.10 Конференция ЗНУ Биофак\100NCD60\DSC_0219.JPG"/>
          <p:cNvPicPr/>
          <p:nvPr/>
        </p:nvPicPr>
        <p:blipFill>
          <a:blip r:embed="rId3"/>
          <a:stretch/>
        </p:blipFill>
        <p:spPr>
          <a:xfrm>
            <a:off x="2700360" y="1844640"/>
            <a:ext cx="3071880" cy="214164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иставка наукових досягнень та секційні засідання</a:t>
            </a:r>
            <a:r>
              <a:rPr b="0" lang="uk-UA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r>
              <a:rPr b="0" lang="uk-UA" sz="2000" spc="-1" strike="noStrike">
                <a:solidFill>
                  <a:srgbClr val="000099"/>
                </a:solidFill>
                <a:latin typeface="Arial"/>
              </a:rPr>
              <a:t>ІІ університетська науково-практична конференції студентів та молодих учених «Актуальні проблеми та перспективи розвитку природничих наук», 18 грудня 2010 р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0" name="Picture 6" descr="C:\Documents and Settings\Администратор\Мои документы\Мои рисунки\ФОТО универ\18.12.10 Конференция ЗНУ Биофак\100NCD60\DSC_0264.JPG"/>
          <p:cNvPicPr/>
          <p:nvPr/>
        </p:nvPicPr>
        <p:blipFill>
          <a:blip r:embed="rId4"/>
          <a:stretch/>
        </p:blipFill>
        <p:spPr>
          <a:xfrm>
            <a:off x="4788000" y="3860640"/>
            <a:ext cx="37814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7" descr=""/>
          <p:cNvPicPr/>
          <p:nvPr/>
        </p:nvPicPr>
        <p:blipFill>
          <a:blip r:embed="rId1"/>
          <a:stretch/>
        </p:blipFill>
        <p:spPr>
          <a:xfrm>
            <a:off x="4427640" y="3809880"/>
            <a:ext cx="4483080" cy="30481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DSC_0276_cr"/>
          <p:cNvPicPr/>
          <p:nvPr/>
        </p:nvPicPr>
        <p:blipFill>
          <a:blip r:embed="rId2"/>
          <a:stretch/>
        </p:blipFill>
        <p:spPr>
          <a:xfrm>
            <a:off x="395280" y="3657600"/>
            <a:ext cx="3119400" cy="32004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991720" cy="884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Обговорення доповідей на університетській науково-практичній конференції студентів та молодих учених «Молода наука - 2010»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4" name="Picture 3" descr=""/>
          <p:cNvPicPr/>
          <p:nvPr/>
        </p:nvPicPr>
        <p:blipFill>
          <a:blip r:embed="rId3"/>
          <a:stretch/>
        </p:blipFill>
        <p:spPr>
          <a:xfrm>
            <a:off x="2987640" y="1268280"/>
            <a:ext cx="3200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cfcf"/>
            </a:gs>
            <a:gs pos="100000">
              <a:srgbClr val="e0ef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C:\Documents and Settings\Администратор\Рабочий стол\на презентацию\фото молода наука\молода наука\P4080054.JPG"/>
          <p:cNvPicPr/>
          <p:nvPr/>
        </p:nvPicPr>
        <p:blipFill>
          <a:blip r:embed="rId1"/>
          <a:stretch/>
        </p:blipFill>
        <p:spPr>
          <a:xfrm>
            <a:off x="2786040" y="4000680"/>
            <a:ext cx="3214800" cy="250020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Секційні засідання студентської науково-практичної конференції “Молода наука 2011”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7" name="Picture 2" descr="C:\Documents and Settings\Администратор\Рабочий стол\на презентацию\фото молода наука\молода наука\P4080048.JPG"/>
          <p:cNvPicPr/>
          <p:nvPr/>
        </p:nvPicPr>
        <p:blipFill>
          <a:blip r:embed="rId2"/>
          <a:stretch/>
        </p:blipFill>
        <p:spPr>
          <a:xfrm>
            <a:off x="250920" y="1773360"/>
            <a:ext cx="3782880" cy="45259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C:\Documents and Settings\Администратор\Рабочий стол\на презентацию\фото молода наука\DSC_0276.JPG"/>
          <p:cNvPicPr/>
          <p:nvPr/>
        </p:nvPicPr>
        <p:blipFill>
          <a:blip r:embed="rId3"/>
          <a:stretch/>
        </p:blipFill>
        <p:spPr>
          <a:xfrm>
            <a:off x="5557680" y="1700280"/>
            <a:ext cx="358632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Рисунок 2" descr="P1140512"/>
          <p:cNvPicPr/>
          <p:nvPr/>
        </p:nvPicPr>
        <p:blipFill>
          <a:blip r:embed="rId1"/>
          <a:stretch/>
        </p:blipFill>
        <p:spPr>
          <a:xfrm>
            <a:off x="357120" y="2173320"/>
            <a:ext cx="4681440" cy="343044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68000" y="549360"/>
            <a:ext cx="640404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cecff"/>
                </a:solidFill>
                <a:latin typeface="Times New Roman"/>
              </a:rPr>
              <a:t>НАУКОВО-ПРАКТИЧНА КОНФЕРЕНЦІЯ </a:t>
            </a:r>
            <a:br>
              <a:rPr sz="2400"/>
            </a:br>
            <a:r>
              <a:rPr b="0" lang="uk-UA" sz="2400" spc="-1" strike="noStrike">
                <a:solidFill>
                  <a:srgbClr val="ccecff"/>
                </a:solidFill>
                <a:latin typeface="Times New Roman"/>
              </a:rPr>
              <a:t>“НАУКОВИЙ ПОТЕНЦІАЛ ЗНУ ТА ШЛЯХИ ЙОГО РОЗВИТКУ” </a:t>
            </a:r>
            <a:br>
              <a:rPr sz="2400"/>
            </a:br>
            <a:r>
              <a:rPr b="0" lang="uk-UA" sz="2400" spc="-1" strike="noStrike">
                <a:solidFill>
                  <a:srgbClr val="ccecff"/>
                </a:solidFill>
                <a:latin typeface="Times New Roman"/>
              </a:rPr>
              <a:t>12-14 травня 2010 р.</a:t>
            </a:r>
            <a:r>
              <a:rPr b="0" lang="uk-UA" sz="48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4800"/>
            </a:br>
            <a:r>
              <a:rPr b="0" lang="uk-UA" sz="2400" spc="-1" strike="noStrike">
                <a:solidFill>
                  <a:srgbClr val="ccecff"/>
                </a:solidFill>
                <a:latin typeface="Arial"/>
              </a:rPr>
              <a:t>Секція імунології та біохімії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1" name="Рисунок 4" descr=""/>
          <p:cNvPicPr/>
          <p:nvPr/>
        </p:nvPicPr>
        <p:blipFill>
          <a:blip r:embed="rId2"/>
          <a:stretch/>
        </p:blipFill>
        <p:spPr>
          <a:xfrm>
            <a:off x="223920" y="214200"/>
            <a:ext cx="1728720" cy="168768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5" descr="P1140514"/>
          <p:cNvPicPr/>
          <p:nvPr/>
        </p:nvPicPr>
        <p:blipFill>
          <a:blip r:embed="rId3"/>
          <a:stretch/>
        </p:blipFill>
        <p:spPr>
          <a:xfrm>
            <a:off x="4211640" y="2852640"/>
            <a:ext cx="4392720" cy="36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95280" y="1268280"/>
            <a:ext cx="8229600" cy="343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Загальна кількість опублікованих тез доповідей на конференціях </a:t>
            </a:r>
            <a:br>
              <a:rPr sz="4000"/>
            </a:b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(2009-2012 р.р.) – </a:t>
            </a:r>
            <a:br>
              <a:rPr sz="4000"/>
            </a:b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29 робіт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2349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uk-UA" sz="3200" spc="-1" strike="noStrike">
                <a:solidFill>
                  <a:srgbClr val="ff3300"/>
                </a:solidFill>
                <a:latin typeface="Times New Roman"/>
              </a:rPr>
              <a:t>Кравцова А. М., лауреат ІІ туру Всеукраїнського конкурсу студентських наукових робіт з напряму «Клінічна медицина» (2009-2010 навч. р.)</a:t>
            </a:r>
            <a:r>
              <a:rPr b="1" i="1" lang="uk-UA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0" y="2438280"/>
            <a:ext cx="3343320" cy="441972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7" descr=""/>
          <p:cNvPicPr/>
          <p:nvPr/>
        </p:nvPicPr>
        <p:blipFill>
          <a:blip r:embed="rId2"/>
          <a:stretch/>
        </p:blipFill>
        <p:spPr>
          <a:xfrm>
            <a:off x="3492360" y="2682720"/>
            <a:ext cx="2901960" cy="417528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6"/>
          <p:cNvSpPr/>
          <p:nvPr/>
        </p:nvSpPr>
        <p:spPr>
          <a:xfrm>
            <a:off x="6505560" y="2349360"/>
            <a:ext cx="2638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Тема: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“Особливості лабораторних показників периферичної крові хворих на хронічний туберкульоз з супутньою ВІЛ-інфекцією”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Наук. керівник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– к. б. н., доц. кафедри імунології та біохімії Копійка В. 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Литвиненко Р.О., лауреат обласного конкурсу для обдарованої молоді (2010 рік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9" name="Picture 3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5029200" cy="556272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4"/>
          <p:cNvSpPr/>
          <p:nvPr/>
        </p:nvSpPr>
        <p:spPr>
          <a:xfrm>
            <a:off x="5003640" y="1341360"/>
            <a:ext cx="387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К</a:t>
            </a:r>
            <a:r>
              <a:rPr b="1" i="1" lang="uk-UA" sz="1800" spc="-1" strike="noStrike">
                <a:solidFill>
                  <a:srgbClr val="ffff00"/>
                </a:solidFill>
                <a:latin typeface="Arial"/>
              </a:rPr>
              <a:t>онкурс наукових робіт на здобуття премії Запорізької обласної державної адміністрації для обдарованої молоді в галузі “ Наука’’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5060880" y="3373560"/>
            <a:ext cx="3878280" cy="30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Тема: ‘‘Імунологічні аспекти оптимізації репродуктивної функції жінок дітородного періоду та якості їх життя при пери- та менопаузі в промисловому Запорізькому регіоні’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Наук. керівник – д. м. н., проф. кафедри імунології та біохімії Фролов О.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86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Литвиненко Р. О. - випускниця магістратури 2010 року вступила </a:t>
            </a:r>
            <a:br>
              <a:rPr sz="4400"/>
            </a:b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до аспірантури ЗН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2484360" y="3284640"/>
            <a:ext cx="388800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964720" cy="228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Людмила Макєєва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нещодавно повернулася зі Сполучених Штатів Америки. Протягом року вона навчалася в університеті Грейсленд. Це стало можливим завдяки тому, що Людмила вийшла до фіналу міжнародної програми «Global UGRAD»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5" name="Picture 4" descr=""/>
          <p:cNvPicPr/>
          <p:nvPr/>
        </p:nvPicPr>
        <p:blipFill>
          <a:blip r:embed="rId1"/>
          <a:stretch/>
        </p:blipFill>
        <p:spPr>
          <a:xfrm>
            <a:off x="179280" y="2708280"/>
            <a:ext cx="3167280" cy="3075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"/>
          <p:cNvPicPr/>
          <p:nvPr/>
        </p:nvPicPr>
        <p:blipFill>
          <a:blip r:embed="rId2"/>
          <a:stretch/>
        </p:blipFill>
        <p:spPr>
          <a:xfrm>
            <a:off x="6012000" y="2997360"/>
            <a:ext cx="2889000" cy="386064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6"/>
          <p:cNvSpPr/>
          <p:nvPr/>
        </p:nvSpPr>
        <p:spPr>
          <a:xfrm>
            <a:off x="3419640" y="3068640"/>
            <a:ext cx="25923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3564000" y="3282120"/>
            <a:ext cx="2158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ніверситет Грейсленд у штаті Айова (місто Ламон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Мак</a:t>
            </a:r>
            <a:r>
              <a:rPr b="0" lang="uk-UA" sz="3200" spc="-1" strike="noStrike">
                <a:solidFill>
                  <a:srgbClr val="ff3300"/>
                </a:solidFill>
                <a:latin typeface="Arial"/>
              </a:rPr>
              <a:t>єє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ва Л.,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лауреат обласного конкурсу для обдарованої молоді (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2012 рік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5724360" y="1197000"/>
            <a:ext cx="3157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К</a:t>
            </a:r>
            <a:r>
              <a:rPr b="1" i="1" lang="uk-UA" sz="2400" spc="-1" strike="noStrike">
                <a:solidFill>
                  <a:srgbClr val="ffff00"/>
                </a:solidFill>
                <a:latin typeface="Arial"/>
              </a:rPr>
              <a:t>онкурс наукових робіт на здобуття премії Запорізької обласної державної адміністрації для обдарованої молоді в галузі “ Наука’’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5724360" y="5229360"/>
            <a:ext cx="321480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Наук. керівник – д. м. н., проф. кафедри імунології та біохімії Фролов О.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7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390672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прямки </a:t>
            </a: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наукової діяльності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280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зробка імуногенезних методів лабораторної імунології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ультура імунокомпетентних клітин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вчення впливу ендогенних БАР медичної п’явки в умовах клінічної гірудотерапії та у експериментах in vitro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вчення впливу БАР медичної п’явки у тваринництві (на малу та велику рогату худобу)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uk-UA" sz="6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якую за увагу!!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прямки </a:t>
            </a: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наукової діяльності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вчення впливу екзогенних БАР медичної п’явки на сапрофітні та умовно патогенні мікроорганізми, нижчі гриби, найпростіших, нижчих ракоподібних, окремих видів ком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ауністичні дослідження динаміки чисельності популяцій медичної п’явки у природних водоймищах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іотехнологія перспективних кільчеців (медичної п’явки, червоного каліфорнійського хробака) – продуцентів біологічно активних речовин (БАР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1116000" y="3860640"/>
            <a:ext cx="3384720" cy="2833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"/>
          <p:cNvPicPr/>
          <p:nvPr/>
        </p:nvPicPr>
        <p:blipFill>
          <a:blip r:embed="rId2"/>
          <a:stretch/>
        </p:blipFill>
        <p:spPr>
          <a:xfrm>
            <a:off x="5003640" y="3789360"/>
            <a:ext cx="2738520" cy="30686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32000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Діяльність студентської науково-проблемної групи «Дослідницька імунологія та біотехнологія»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3"/>
          <a:stretch/>
        </p:blipFill>
        <p:spPr>
          <a:xfrm>
            <a:off x="5410080" y="304920"/>
            <a:ext cx="3222720" cy="26668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"/>
          <p:cNvPicPr/>
          <p:nvPr/>
        </p:nvPicPr>
        <p:blipFill>
          <a:blip r:embed="rId4"/>
          <a:stretch/>
        </p:blipFill>
        <p:spPr>
          <a:xfrm>
            <a:off x="685800" y="304920"/>
            <a:ext cx="32767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cfcf"/>
            </a:gs>
            <a:gs pos="100000">
              <a:srgbClr val="e0ef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uk-UA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Профорієнтаційні виступи членів кафедри в ЗМІ - статті в газетах, виступи на радіо, телебаченні :</a:t>
            </a:r>
            <a:br>
              <a:rPr sz="2400"/>
            </a:br>
            <a:r>
              <a:rPr b="0" lang="uk-UA" sz="2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Виступи на ТРК «Алекс» у програмі «Народ «за», народ «проти!» щодо введення страхової медицини: </a:t>
            </a:r>
            <a:br>
              <a:rPr sz="2000"/>
            </a:br>
            <a:r>
              <a:rPr b="0" lang="uk-UA" sz="2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У жовтні  виступ проф. Фролов О. К., </a:t>
            </a:r>
            <a:br>
              <a:rPr sz="2000"/>
            </a:br>
            <a:r>
              <a:rPr b="0" lang="uk-UA" sz="20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У грудні виступ доц. Федотов Є. Р.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4" name="Picture 3" descr="F:\Алекс\PA230938.JPG"/>
          <p:cNvPicPr/>
          <p:nvPr/>
        </p:nvPicPr>
        <p:blipFill>
          <a:blip r:embed="rId1"/>
          <a:stretch/>
        </p:blipFill>
        <p:spPr>
          <a:xfrm>
            <a:off x="0" y="3643200"/>
            <a:ext cx="3290760" cy="2468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F:\Алекс\PA230940.JPG"/>
          <p:cNvPicPr/>
          <p:nvPr/>
        </p:nvPicPr>
        <p:blipFill>
          <a:blip r:embed="rId2"/>
          <a:stretch/>
        </p:blipFill>
        <p:spPr>
          <a:xfrm>
            <a:off x="5929200" y="3643200"/>
            <a:ext cx="2957760" cy="2428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F:\Алекс\PA220933.JPG"/>
          <p:cNvPicPr/>
          <p:nvPr/>
        </p:nvPicPr>
        <p:blipFill>
          <a:blip r:embed="rId3"/>
          <a:stretch/>
        </p:blipFill>
        <p:spPr>
          <a:xfrm>
            <a:off x="3143160" y="2428920"/>
            <a:ext cx="2786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cfcf"/>
            </a:gs>
            <a:gs pos="100000">
              <a:srgbClr val="e0ef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За щоденною роботою (лабораторія, напрям “Біотехнологія медичної п явки”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8" name="Picture 2" descr="C:\Documents and Settings\Администратор\Рабочий стол\на презентацию\Пиявки\100_0216.jpg"/>
          <p:cNvPicPr/>
          <p:nvPr/>
        </p:nvPicPr>
        <p:blipFill>
          <a:blip r:embed="rId1"/>
          <a:stretch/>
        </p:blipFill>
        <p:spPr>
          <a:xfrm>
            <a:off x="324000" y="1773360"/>
            <a:ext cx="3671640" cy="2933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C:\Documents and Settings\Администратор\Рабочий стол\на презентацию\Пиявки\100_0234.jpg"/>
          <p:cNvPicPr/>
          <p:nvPr/>
        </p:nvPicPr>
        <p:blipFill>
          <a:blip r:embed="rId2"/>
          <a:stretch/>
        </p:blipFill>
        <p:spPr>
          <a:xfrm>
            <a:off x="4859280" y="1773360"/>
            <a:ext cx="3673440" cy="26874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C:\Documents and Settings\Администратор\Рабочий стол\на презентацию\Пиявки\DSC02340.JPG"/>
          <p:cNvPicPr/>
          <p:nvPr/>
        </p:nvPicPr>
        <p:blipFill>
          <a:blip r:embed="rId3"/>
          <a:stretch/>
        </p:blipFill>
        <p:spPr>
          <a:xfrm>
            <a:off x="2484360" y="3789360"/>
            <a:ext cx="42148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cfcf"/>
            </a:gs>
            <a:gs pos="100000">
              <a:srgbClr val="e0ef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Під час наукової практики (лабораторія, напрям “Біотехнологія медичної п явки”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Picture 2" descr="C:\Documents and Settings\Администратор\Рабочий стол\на презентацию\Пиявки\100_0220.jpg"/>
          <p:cNvPicPr/>
          <p:nvPr/>
        </p:nvPicPr>
        <p:blipFill>
          <a:blip r:embed="rId1"/>
          <a:stretch/>
        </p:blipFill>
        <p:spPr>
          <a:xfrm>
            <a:off x="250920" y="2492280"/>
            <a:ext cx="4321080" cy="31435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C:\Documents and Settings\Администратор\Рабочий стол\на презентацию\Пиявки\100_0222.jpg"/>
          <p:cNvPicPr/>
          <p:nvPr/>
        </p:nvPicPr>
        <p:blipFill>
          <a:blip r:embed="rId2"/>
          <a:stretch/>
        </p:blipFill>
        <p:spPr>
          <a:xfrm>
            <a:off x="3132000" y="1844640"/>
            <a:ext cx="3292560" cy="43894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C:\Documents and Settings\Администратор\Рабочий стол\на презентацию\Пиявки\100_0236.jpg"/>
          <p:cNvPicPr/>
          <p:nvPr/>
        </p:nvPicPr>
        <p:blipFill>
          <a:blip r:embed="rId3"/>
          <a:stretch/>
        </p:blipFill>
        <p:spPr>
          <a:xfrm>
            <a:off x="6000840" y="2643120"/>
            <a:ext cx="28573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cfcf"/>
            </a:gs>
            <a:gs pos="100000">
              <a:srgbClr val="e0ef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Під час переддипломної практик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Picture 2" descr="C:\Documents and Settings\Администратор\Мои документы\Мои рисунки\ФОТО универ\1\2010_10_20\IMG_0500.JPG"/>
          <p:cNvPicPr/>
          <p:nvPr/>
        </p:nvPicPr>
        <p:blipFill>
          <a:blip r:embed="rId1"/>
          <a:stretch/>
        </p:blipFill>
        <p:spPr>
          <a:xfrm>
            <a:off x="395280" y="1341360"/>
            <a:ext cx="3855960" cy="29718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C:\Documents and Settings\Администратор\Мои документы\Мои рисунки\ФОТО универ\1\2010_10_20\IMG_0497.JPG"/>
          <p:cNvPicPr/>
          <p:nvPr/>
        </p:nvPicPr>
        <p:blipFill>
          <a:blip r:embed="rId2"/>
          <a:stretch/>
        </p:blipFill>
        <p:spPr>
          <a:xfrm>
            <a:off x="4788000" y="1413000"/>
            <a:ext cx="2376360" cy="31431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C:\Documents and Settings\Администратор\Мои документы\Мои рисунки\ФОТО универ\1\2010_10_20\IMG_0541.JPG"/>
          <p:cNvPicPr/>
          <p:nvPr/>
        </p:nvPicPr>
        <p:blipFill>
          <a:blip r:embed="rId3"/>
          <a:stretch/>
        </p:blipFill>
        <p:spPr>
          <a:xfrm>
            <a:off x="1332000" y="4108320"/>
            <a:ext cx="3522600" cy="27496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C:\Documents and Settings\Администратор\Мои документы\Мои рисунки\ФОТО универ\1\2010_10_20\IMG_0580.JPG"/>
          <p:cNvPicPr/>
          <p:nvPr/>
        </p:nvPicPr>
        <p:blipFill>
          <a:blip r:embed="rId4"/>
          <a:stretch/>
        </p:blipFill>
        <p:spPr>
          <a:xfrm>
            <a:off x="4932360" y="3860640"/>
            <a:ext cx="370368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991720" cy="12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Обговорення доповідей на університетській науково-практичній конференції студентів та молодих учених «Актуальні проблеми та перспективи розвитку природничих наук»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(12 грудня 2009 року)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6477120" y="1447920"/>
            <a:ext cx="2415960" cy="23619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"/>
          <p:cNvPicPr/>
          <p:nvPr/>
        </p:nvPicPr>
        <p:blipFill>
          <a:blip r:embed="rId2"/>
          <a:stretch/>
        </p:blipFill>
        <p:spPr>
          <a:xfrm>
            <a:off x="3276720" y="2819520"/>
            <a:ext cx="2879640" cy="24382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"/>
          <p:cNvPicPr/>
          <p:nvPr/>
        </p:nvPicPr>
        <p:blipFill>
          <a:blip r:embed="rId3"/>
          <a:stretch/>
        </p:blipFill>
        <p:spPr>
          <a:xfrm>
            <a:off x="380880" y="4343400"/>
            <a:ext cx="2462400" cy="25146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"/>
          <p:cNvPicPr/>
          <p:nvPr/>
        </p:nvPicPr>
        <p:blipFill>
          <a:blip r:embed="rId4"/>
          <a:stretch/>
        </p:blipFill>
        <p:spPr>
          <a:xfrm>
            <a:off x="380880" y="1523880"/>
            <a:ext cx="2462400" cy="25146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"/>
          <p:cNvPicPr/>
          <p:nvPr/>
        </p:nvPicPr>
        <p:blipFill>
          <a:blip r:embed="rId5"/>
          <a:stretch/>
        </p:blipFill>
        <p:spPr>
          <a:xfrm>
            <a:off x="6324480" y="4267080"/>
            <a:ext cx="22082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етяна</cp:lastModifiedBy>
  <dcterms:modified xsi:type="dcterms:W3CDTF">2014-04-14T07:57:10Z</dcterms:modified>
  <cp:revision>60</cp:revision>
  <dc:subject/>
  <dc:title>Студентська наукова група </dc:title>
</cp:coreProperties>
</file>