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png" ContentType="image/png"/>
  <Override PartName="/ppt/media/image45.png" ContentType="image/png"/>
  <Override PartName="/ppt/media/image37.jpeg" ContentType="image/jpeg"/>
  <Override PartName="/ppt/media/image57.png" ContentType="image/png"/>
  <Override PartName="/ppt/media/image36.jpeg" ContentType="image/jpeg"/>
  <Override PartName="/ppt/media/image34.jpeg" ContentType="image/jpeg"/>
  <Override PartName="/ppt/media/image33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4.jpeg" ContentType="image/jpeg"/>
  <Override PartName="/ppt/media/image50.jpeg" ContentType="image/jpeg"/>
  <Override PartName="/ppt/media/image14.jpeg" ContentType="image/jpeg"/>
  <Override PartName="/ppt/media/image41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76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31.png" ContentType="image/png"/>
  <Override PartName="/ppt/media/image71.jpeg" ContentType="image/jpeg"/>
  <Override PartName="/ppt/media/image66.jpeg" ContentType="image/jpeg"/>
  <Override PartName="/ppt/media/image9.jpeg" ContentType="image/jpeg"/>
  <Override PartName="/ppt/media/image2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72.jpeg" ContentType="image/jpeg"/>
  <Override PartName="/ppt/media/image51.jpeg" ContentType="image/jpeg"/>
  <Override PartName="/ppt/media/image13.jpeg" ContentType="image/jpeg"/>
  <Override PartName="/ppt/media/image44.png" ContentType="image/png"/>
  <Override PartName="/ppt/media/image75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D5E8-936D-447B-8460-671C7062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539A-B0B0-4DAE-A21D-0E88AC1D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CBA-E546-4A2E-BF16-CA02888B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7945-0F4A-467C-A017-91118A30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3063-AD93-48E6-8CBC-C61E4ED3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5842-354B-4379-AF51-5B7EFE97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547F-D892-49D3-864A-95FC8C34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4B09-33CF-450C-8C74-419E48FB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033A-73FC-41F8-B1A7-BD661DF5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38B8-2B7C-4F38-99E2-20BA03D5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D73C-C047-4298-9EC8-62F657E5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10F1-F94E-4CEF-B110-967B1C67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C2C9-C56C-4400-9B67-21CF891B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1ACB-5E5C-46FA-BAF2-CFA00A16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22CD-A36B-4AE8-804A-8E8EC886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119F-DCF0-490C-A08E-B438AFAB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C3B4-7BE1-4C56-ABA7-FB0E2839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FB90F-FF4E-441D-8333-0D6CC8F8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58813-EBFC-4A74-B3A0-DEE76D11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0EBA0-79BA-4273-95C7-2857C26F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38770-2FAD-4DBF-9EB5-CF5971DD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983BE-097A-4739-BD8A-E4821429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E7EA-BBE3-43E8-9535-1A5CE422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9677F-355E-404A-AA23-6249B252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875BF-815D-4623-9644-5043C208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F0510-5A46-4667-A877-B0CE2F86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8FFD6-C8D3-47AE-AD9D-00D16115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DE1F6-5110-4CE7-9ADA-8930B818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73610-E83A-4584-9E05-4ED0F573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D7AE1-7688-41E7-8284-14C96431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9F941-C3DF-487D-A538-5824779F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52328-5CCC-4EF1-9D94-601F27FC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C1ED5-2BA5-451E-94D2-31F0B818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79AC-9ACF-40F3-9156-36069C58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740D8-30F7-4E33-8005-3E553776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77FAE-9D3C-4D01-99C0-77D43BB3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03F72-BE00-4FFD-A17A-0744FA12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F71E9-F9EF-4D6C-A534-53B5CC63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8622A-156B-4AA6-A203-5DB6DC14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A096B-1DF5-45CF-AA33-98C03CC9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6FB99-D7D7-4160-B765-3B958AA6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CD9F9-DB70-417D-BF4F-AFAE7B0A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04DEB-C2B4-4967-BCB5-E58FF6FE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9F06-BE65-4C41-AD98-CE5BE600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B2D5-A3D2-4599-9760-C410CC21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6902-E382-4F5D-9645-479FEA6A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A10-6154-44F6-B182-DEFE644D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6CAA-B0D9-4CAF-AA6D-703F58AA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7780-8E23-4C8A-8EB9-1D6C4021F13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9B67-6C99-4142-B3D9-390367472E0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2BB7-75DF-4A24-9CA2-1555ADDCB79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092E-114D-46A7-A1F3-62FFDC41775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pn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CB%C5%CD%20%C4%C5%CA%CE%D0%C0%D2%C8%C2%CD%DB%C9%20&amp;rch=l&amp;jsa=1&amp;sf=0&amp;cf=18&amp;is=0&amp;type=all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91960" y="1079640"/>
            <a:ext cx="8510760" cy="2730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785520" y="421488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Constantia"/>
              </a:rPr>
              <a:t>Кафедра: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ada7a"/>
                </a:solidFill>
                <a:latin typeface="Constantia"/>
              </a:rPr>
              <a:t> </a:t>
            </a:r>
            <a:r>
              <a:rPr b="1" lang="uk-UA" sz="2200" spc="-1" strike="noStrike">
                <a:solidFill>
                  <a:srgbClr val="002060"/>
                </a:solidFill>
                <a:latin typeface="Constantia"/>
              </a:rPr>
              <a:t>Садово –паркового господарства та генетики рослин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ковий керівник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ях В.О., д.б.н., професор, зав. каф.садово-паркового господарства та генетики рослин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Verdana"/>
              </a:rPr>
              <a:t>ГЕНЕТИКА ТА СЕЛЕКЦІЯ ГІБІСКУСУ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Picture 5" descr="0_1987c_87a07511_XL"/>
          <p:cNvPicPr/>
          <p:nvPr/>
        </p:nvPicPr>
        <p:blipFill>
          <a:blip r:embed="rId1"/>
          <a:stretch/>
        </p:blipFill>
        <p:spPr>
          <a:xfrm>
            <a:off x="755640" y="1628640"/>
            <a:ext cx="2857680" cy="2305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0_357_15e51c7d_XL"/>
          <p:cNvPicPr/>
          <p:nvPr/>
        </p:nvPicPr>
        <p:blipFill>
          <a:blip r:embed="rId2"/>
          <a:stretch/>
        </p:blipFill>
        <p:spPr>
          <a:xfrm>
            <a:off x="4427640" y="1557360"/>
            <a:ext cx="2857320" cy="2359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0_14abe_c9262b73_XL"/>
          <p:cNvPicPr/>
          <p:nvPr/>
        </p:nvPicPr>
        <p:blipFill>
          <a:blip r:embed="rId3"/>
          <a:stretch/>
        </p:blipFill>
        <p:spPr>
          <a:xfrm>
            <a:off x="1763640" y="3789360"/>
            <a:ext cx="3095640" cy="2517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0_1b46e_533098fa_XL"/>
          <p:cNvPicPr/>
          <p:nvPr/>
        </p:nvPicPr>
        <p:blipFill>
          <a:blip r:embed="rId4"/>
          <a:stretch/>
        </p:blipFill>
        <p:spPr>
          <a:xfrm>
            <a:off x="5435640" y="3860640"/>
            <a:ext cx="3240000" cy="23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56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Verdana"/>
              </a:rPr>
              <a:t>ГЕНЕТИКА АРАБІДОПСІС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2" descr="http://www.cellbiol.ru/files/editor4/arabidopsis.jpg"/>
          <p:cNvPicPr/>
          <p:nvPr/>
        </p:nvPicPr>
        <p:blipFill>
          <a:blip r:embed="rId1"/>
          <a:stretch/>
        </p:blipFill>
        <p:spPr>
          <a:xfrm>
            <a:off x="428760" y="1857240"/>
            <a:ext cx="2643120" cy="4083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Arabidopsis thaliana, он же - резушка Таля"/>
          <p:cNvPicPr/>
          <p:nvPr/>
        </p:nvPicPr>
        <p:blipFill>
          <a:blip r:embed="rId2"/>
          <a:stretch/>
        </p:blipFill>
        <p:spPr>
          <a:xfrm>
            <a:off x="3357720" y="2071800"/>
            <a:ext cx="510840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Б</a:t>
            </a:r>
            <a:r>
              <a:rPr b="1" i="1" lang="uk-UA" sz="4000" spc="-1" strike="noStrike">
                <a:solidFill>
                  <a:srgbClr val="ff0000"/>
                </a:solidFill>
                <a:latin typeface="Verdana"/>
              </a:rPr>
              <a:t>ІОХІМІЯ    РОСЛИН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2843280" y="2349360"/>
            <a:ext cx="6121440" cy="433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8" name="Picture 4" descr="D:\Мои документы\ДОКУМЕНТАЦИЯ ПО ЛАБ\Фото\Фото для презент\фото семена\IMG_3863.1.jpg"/>
          <p:cNvPicPr/>
          <p:nvPr/>
        </p:nvPicPr>
        <p:blipFill>
          <a:blip r:embed="rId2"/>
          <a:stretch/>
        </p:blipFill>
        <p:spPr>
          <a:xfrm>
            <a:off x="142920" y="1285920"/>
            <a:ext cx="3624120" cy="2717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Verdana"/>
              </a:rPr>
              <a:t>Б</a:t>
            </a:r>
            <a:r>
              <a:rPr b="1" i="1" lang="uk-UA" sz="3600" spc="-1" strike="noStrike">
                <a:solidFill>
                  <a:srgbClr val="ff0000"/>
                </a:solidFill>
                <a:latin typeface="Verdana"/>
              </a:rPr>
              <a:t>ІОХІМІЯ  ЛІКАРСЬКИХ РОСЛИН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Picture 5" descr="i-111"/>
          <p:cNvPicPr/>
          <p:nvPr/>
        </p:nvPicPr>
        <p:blipFill>
          <a:blip r:embed="rId1"/>
          <a:stretch/>
        </p:blipFill>
        <p:spPr>
          <a:xfrm>
            <a:off x="611280" y="119700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i-71"/>
          <p:cNvPicPr/>
          <p:nvPr/>
        </p:nvPicPr>
        <p:blipFill>
          <a:blip r:embed="rId2"/>
          <a:stretch/>
        </p:blipFill>
        <p:spPr>
          <a:xfrm>
            <a:off x="6804000" y="378936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i-43"/>
          <p:cNvPicPr/>
          <p:nvPr/>
        </p:nvPicPr>
        <p:blipFill>
          <a:blip r:embed="rId3"/>
          <a:stretch/>
        </p:blipFill>
        <p:spPr>
          <a:xfrm>
            <a:off x="5219640" y="2349360"/>
            <a:ext cx="2857680" cy="1876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goruzwet"/>
          <p:cNvPicPr/>
          <p:nvPr/>
        </p:nvPicPr>
        <p:blipFill>
          <a:blip r:embed="rId4"/>
          <a:stretch/>
        </p:blipFill>
        <p:spPr>
          <a:xfrm>
            <a:off x="3564000" y="4221000"/>
            <a:ext cx="2857320" cy="1933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aronik"/>
          <p:cNvPicPr/>
          <p:nvPr/>
        </p:nvPicPr>
        <p:blipFill>
          <a:blip r:embed="rId5"/>
          <a:stretch/>
        </p:blipFill>
        <p:spPr>
          <a:xfrm>
            <a:off x="3143160" y="2000160"/>
            <a:ext cx="1933560" cy="2857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5" descr="i-70"/>
          <p:cNvPicPr/>
          <p:nvPr/>
        </p:nvPicPr>
        <p:blipFill>
          <a:blip r:embed="rId6"/>
          <a:stretch/>
        </p:blipFill>
        <p:spPr>
          <a:xfrm>
            <a:off x="900000" y="3789360"/>
            <a:ext cx="2143080" cy="2857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Анатомо-фізіологічні дослідження хлорофільних мутантів льону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0" y="1714680"/>
            <a:ext cx="4952880" cy="3647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chlor_mutant"/>
          <p:cNvPicPr/>
          <p:nvPr/>
        </p:nvPicPr>
        <p:blipFill>
          <a:blip r:embed="rId2"/>
          <a:stretch/>
        </p:blipFill>
        <p:spPr>
          <a:xfrm>
            <a:off x="5796000" y="1773360"/>
            <a:ext cx="3155760" cy="3387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Золотистый"/>
          <p:cNvPicPr/>
          <p:nvPr/>
        </p:nvPicPr>
        <p:blipFill>
          <a:blip r:embed="rId3"/>
          <a:stretch/>
        </p:blipFill>
        <p:spPr>
          <a:xfrm>
            <a:off x="2786040" y="3924360"/>
            <a:ext cx="4229280" cy="2933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157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Всеукраїнський конкурс студентських наукових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робіт  із  природничих,  технічних  і  гуманітарних наук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2011/2012  н.р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00040" y="285768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ікторія  Яранцева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біологічний факультет; науковий керівник – к.б.н., доц.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лякова  І.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добула Диплом І ступеня в галузі «Біологічні науки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Б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охімічні та анатомо-морфологічні особливості будови фотосинтетичного апарату хлорофільних мутвнтів льону олійного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хлороплас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3" descr="H:\фото\PICT11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3949560" cy="62150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5643720" y="0"/>
            <a:ext cx="3500280" cy="26398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57" name="Picture 6" descr="C:\Documents and Settings\Admin\Рабочий стол\Levchuk_Zp chloroplast\ФОТО К СТАТЬЕ\JPEG\рис. 3 ж .jpg"/>
          <p:cNvPicPr/>
          <p:nvPr/>
        </p:nvPicPr>
        <p:blipFill>
          <a:blip r:embed="rId3"/>
          <a:stretch/>
        </p:blipFill>
        <p:spPr>
          <a:xfrm>
            <a:off x="5556240" y="4286160"/>
            <a:ext cx="3587760" cy="2571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58" name="Picture 2" descr=""/>
          <p:cNvPicPr/>
          <p:nvPr/>
        </p:nvPicPr>
        <p:blipFill>
          <a:blip r:embed="rId4"/>
          <a:stretch/>
        </p:blipFill>
        <p:spPr>
          <a:xfrm>
            <a:off x="3643200" y="1785960"/>
            <a:ext cx="2878200" cy="3357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259" name="TextBox 8"/>
          <p:cNvSpPr/>
          <p:nvPr/>
        </p:nvSpPr>
        <p:spPr>
          <a:xfrm>
            <a:off x="2428920" y="585792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Ци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4572000" y="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М-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0"/>
          <p:cNvSpPr/>
          <p:nvPr/>
        </p:nvSpPr>
        <p:spPr>
          <a:xfrm>
            <a:off x="4000680" y="12142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М-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1"/>
          <p:cNvSpPr/>
          <p:nvPr/>
        </p:nvSpPr>
        <p:spPr>
          <a:xfrm>
            <a:off x="7929720" y="378612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М-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2" descr="http://cs319222.userapi.com/v319222464/105b/bzR6JZex1UI.jpg"/>
          <p:cNvPicPr/>
          <p:nvPr/>
        </p:nvPicPr>
        <p:blipFill>
          <a:blip r:embed="rId1"/>
          <a:stretch/>
        </p:blipFill>
        <p:spPr>
          <a:xfrm>
            <a:off x="0" y="-195120"/>
            <a:ext cx="3857760" cy="7053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http://cs319222.userapi.com/v319222464/b8f/YZuPW7R5b9I.jpg"/>
          <p:cNvPicPr/>
          <p:nvPr/>
        </p:nvPicPr>
        <p:blipFill>
          <a:blip r:embed="rId2"/>
          <a:stretch/>
        </p:blipFill>
        <p:spPr>
          <a:xfrm>
            <a:off x="3786120" y="0"/>
            <a:ext cx="5357880" cy="4186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http://cs319222.userapi.com/v319222464/b7b/K6n4jViBJns.jpg"/>
          <p:cNvPicPr/>
          <p:nvPr/>
        </p:nvPicPr>
        <p:blipFill>
          <a:blip r:embed="rId3"/>
          <a:stretch/>
        </p:blipFill>
        <p:spPr>
          <a:xfrm>
            <a:off x="3929040" y="3441600"/>
            <a:ext cx="2428920" cy="3416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http://cs319222.userapi.com/v319222464/b85/uokJZJxeXrE.jpg"/>
          <p:cNvPicPr/>
          <p:nvPr/>
        </p:nvPicPr>
        <p:blipFill>
          <a:blip r:embed="rId4"/>
          <a:stretch/>
        </p:blipFill>
        <p:spPr>
          <a:xfrm>
            <a:off x="6572160" y="3429000"/>
            <a:ext cx="244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b050"/>
                </a:solidFill>
                <a:latin typeface="Verdana"/>
              </a:rPr>
              <a:t>МИ СПІВПРАЦЮЄМО З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571760"/>
            <a:ext cx="850752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0066"/>
                </a:solidFill>
                <a:latin typeface="Verdana"/>
              </a:rPr>
              <a:t>НІКІТСЬКИМ БОТАНІЧНИМ САДОМ М.ЯЛ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4" descr="2115649_58e6728c"/>
          <p:cNvPicPr/>
          <p:nvPr/>
        </p:nvPicPr>
        <p:blipFill>
          <a:blip r:embed="rId1"/>
          <a:stretch/>
        </p:blipFill>
        <p:spPr>
          <a:xfrm>
            <a:off x="250920" y="2421000"/>
            <a:ext cx="4646520" cy="34862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IMG_5735"/>
          <p:cNvPicPr/>
          <p:nvPr/>
        </p:nvPicPr>
        <p:blipFill>
          <a:blip r:embed="rId2"/>
          <a:stretch/>
        </p:blipFill>
        <p:spPr>
          <a:xfrm>
            <a:off x="4859280" y="3284640"/>
            <a:ext cx="4284720" cy="35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12"/>
          <p:cNvSpPr/>
          <p:nvPr/>
        </p:nvSpPr>
        <p:spPr>
          <a:xfrm>
            <a:off x="4857840" y="1643040"/>
            <a:ext cx="38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Лях В.О.,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.б.н., профе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3"/>
          <p:cNvSpPr/>
          <p:nvPr/>
        </p:nvSpPr>
        <p:spPr>
          <a:xfrm>
            <a:off x="500040" y="1214280"/>
            <a:ext cx="2214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87026"/>
                </a:solidFill>
                <a:latin typeface="Constantia"/>
              </a:rPr>
              <a:t>Члени гуртк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4"/>
          <p:cNvSpPr/>
          <p:nvPr/>
        </p:nvSpPr>
        <p:spPr>
          <a:xfrm>
            <a:off x="428760" y="1643040"/>
            <a:ext cx="2571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ранцева В.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ренко 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овченко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евчук О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ігова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ремчук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епенко 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опович С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яло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іщук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Гончарова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еленська 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оркішко 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Гудошнік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оскальов 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Битківський 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"/>
          <p:cNvSpPr/>
          <p:nvPr/>
        </p:nvSpPr>
        <p:spPr>
          <a:xfrm>
            <a:off x="500040" y="604080"/>
            <a:ext cx="74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87026"/>
                </a:solidFill>
                <a:latin typeface="Constantia"/>
                <a:ea typeface="Times New Roman"/>
              </a:rPr>
              <a:t>Назва групи:  </a:t>
            </a:r>
            <a:r>
              <a:rPr b="0" lang="uk-UA" sz="2400" spc="-1" strike="noStrike">
                <a:solidFill>
                  <a:srgbClr val="ffc000"/>
                </a:solidFill>
                <a:latin typeface="Constantia"/>
                <a:ea typeface="Times New Roman"/>
              </a:rPr>
              <a:t>        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гурток «Генетик - селекціон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2" descr="CIMG0682.JPG"/>
          <p:cNvPicPr/>
          <p:nvPr/>
        </p:nvPicPr>
        <p:blipFill>
          <a:blip r:embed="rId1"/>
          <a:stretch/>
        </p:blipFill>
        <p:spPr>
          <a:xfrm>
            <a:off x="3071880" y="2214720"/>
            <a:ext cx="5716440" cy="42861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8"/>
          <p:cNvSpPr/>
          <p:nvPr/>
        </p:nvSpPr>
        <p:spPr>
          <a:xfrm>
            <a:off x="3143160" y="164304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87026"/>
                </a:solidFill>
                <a:latin typeface="Constantia"/>
              </a:rPr>
              <a:t>Керівн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66"/>
                </a:solidFill>
                <a:latin typeface="Verdana"/>
              </a:rPr>
              <a:t>ДЕНДРОПАРКОМ «СОФІЇВКА»</a:t>
            </a:r>
            <a:br>
              <a:rPr sz="2600"/>
            </a:br>
            <a:r>
              <a:rPr b="1" lang="ru-RU" sz="2600" spc="-1" strike="noStrike">
                <a:solidFill>
                  <a:srgbClr val="ff0066"/>
                </a:solidFill>
                <a:latin typeface="Verdana"/>
              </a:rPr>
              <a:t>М. УМАНЬ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4" name="Picture 4" descr="PA300029"/>
          <p:cNvPicPr/>
          <p:nvPr/>
        </p:nvPicPr>
        <p:blipFill>
          <a:blip r:embed="rId1"/>
          <a:stretch/>
        </p:blipFill>
        <p:spPr>
          <a:xfrm>
            <a:off x="0" y="1484280"/>
            <a:ext cx="4140360" cy="2925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PA300303"/>
          <p:cNvPicPr/>
          <p:nvPr/>
        </p:nvPicPr>
        <p:blipFill>
          <a:blip r:embed="rId2"/>
          <a:stretch/>
        </p:blipFill>
        <p:spPr>
          <a:xfrm>
            <a:off x="500040" y="3741840"/>
            <a:ext cx="3786120" cy="31161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PA300123"/>
          <p:cNvPicPr/>
          <p:nvPr/>
        </p:nvPicPr>
        <p:blipFill>
          <a:blip r:embed="rId3"/>
          <a:stretch/>
        </p:blipFill>
        <p:spPr>
          <a:xfrm>
            <a:off x="4929120" y="3965400"/>
            <a:ext cx="3857760" cy="28926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PA300138"/>
          <p:cNvPicPr/>
          <p:nvPr/>
        </p:nvPicPr>
        <p:blipFill>
          <a:blip r:embed="rId4"/>
          <a:stretch/>
        </p:blipFill>
        <p:spPr>
          <a:xfrm>
            <a:off x="5072040" y="1500120"/>
            <a:ext cx="3716280" cy="2643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PA300029"/>
          <p:cNvPicPr/>
          <p:nvPr/>
        </p:nvPicPr>
        <p:blipFill>
          <a:blip r:embed="rId5"/>
          <a:stretch/>
        </p:blipFill>
        <p:spPr>
          <a:xfrm>
            <a:off x="0" y="1428840"/>
            <a:ext cx="4140360" cy="29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50716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0066"/>
                </a:solidFill>
                <a:latin typeface="Verdana"/>
              </a:rPr>
              <a:t>ІНСТИТУТОМ ФІЗІОЛОГІЇ РОСЛИН ТА ГЕНЕТИКИ </a:t>
            </a:r>
            <a:br>
              <a:rPr sz="2600"/>
            </a:br>
            <a:r>
              <a:rPr b="1" i="1" lang="uk-UA" sz="2600" spc="-1" strike="noStrike">
                <a:solidFill>
                  <a:srgbClr val="ff0066"/>
                </a:solidFill>
                <a:latin typeface="Verdana"/>
              </a:rPr>
              <a:t>М. КИЇВ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0" name="Picture 7" descr="IFRG"/>
          <p:cNvPicPr/>
          <p:nvPr/>
        </p:nvPicPr>
        <p:blipFill>
          <a:blip r:embed="rId1"/>
          <a:stretch/>
        </p:blipFill>
        <p:spPr>
          <a:xfrm>
            <a:off x="1692360" y="22050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5690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0066"/>
                </a:solidFill>
                <a:latin typeface="Verdana"/>
              </a:rPr>
              <a:t>ДРОГОБИЦЬКИМ ПЕДАГОГІЧНИМ УНІВЕРСИТЕТОМ </a:t>
            </a:r>
            <a:br>
              <a:rPr sz="2600"/>
            </a:br>
            <a:r>
              <a:rPr b="1" i="1" lang="uk-UA" sz="2600" spc="-1" strike="noStrike">
                <a:solidFill>
                  <a:srgbClr val="ff0066"/>
                </a:solidFill>
                <a:latin typeface="Verdana"/>
              </a:rPr>
              <a:t>ІМ. І ФРАНКА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2" name="Picture 60" descr="index_10"/>
          <p:cNvPicPr/>
          <p:nvPr/>
        </p:nvPicPr>
        <p:blipFill>
          <a:blip r:embed="rId1"/>
          <a:stretch/>
        </p:blipFill>
        <p:spPr>
          <a:xfrm>
            <a:off x="1643040" y="2071800"/>
            <a:ext cx="5772240" cy="40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5" descr="0_8847.jpg"/>
          <p:cNvPicPr/>
          <p:nvPr/>
        </p:nvPicPr>
        <p:blipFill>
          <a:blip r:embed="rId1"/>
          <a:stretch/>
        </p:blipFill>
        <p:spPr>
          <a:xfrm>
            <a:off x="0" y="357120"/>
            <a:ext cx="5119560" cy="3840120"/>
          </a:xfrm>
          <a:prstGeom prst="rect">
            <a:avLst/>
          </a:prstGeom>
          <a:ln w="0">
            <a:noFill/>
          </a:ln>
        </p:spPr>
      </p:pic>
      <p:pic>
        <p:nvPicPr>
          <p:cNvPr id="284" name="Содержимое 4" descr="[Group]-DSCN4000_DSCN4002-3 images.jpg"/>
          <p:cNvPicPr/>
          <p:nvPr/>
        </p:nvPicPr>
        <p:blipFill>
          <a:blip r:embed="rId2"/>
          <a:stretch/>
        </p:blipFill>
        <p:spPr>
          <a:xfrm>
            <a:off x="914400" y="4340160"/>
            <a:ext cx="8229600" cy="25178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714560" y="785880"/>
            <a:ext cx="4429080" cy="1928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0066"/>
                </a:solidFill>
                <a:latin typeface="Verdana"/>
              </a:rPr>
              <a:t>ІНСТИТУТОМ ОЛІЙНИХ КУЛЬТУР  НААУ </a:t>
            </a:r>
            <a:br>
              <a:rPr sz="2600"/>
            </a:br>
            <a:r>
              <a:rPr b="1" i="1" lang="uk-UA" sz="2600" spc="-1" strike="noStrike">
                <a:solidFill>
                  <a:srgbClr val="ff0066"/>
                </a:solidFill>
                <a:latin typeface="Verdana"/>
              </a:rPr>
              <a:t>М. ЗАПОРІЖЖЯ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1000080" y="1000080"/>
            <a:ext cx="7358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"/>
          <p:cNvSpPr/>
          <p:nvPr/>
        </p:nvSpPr>
        <p:spPr>
          <a:xfrm>
            <a:off x="214200" y="1500120"/>
            <a:ext cx="8461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50"/>
                </a:solidFill>
                <a:latin typeface="Constantia"/>
              </a:rPr>
              <a:t>Члени гуртка  щорічно приймають участь в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50"/>
                </a:solidFill>
                <a:latin typeface="Constantia"/>
              </a:rPr>
              <a:t>- університетській науково-практичній конференції студентів та молодих вчених «Актуальні проблеми та перспективи розвитку природничих нау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214200" y="1857600"/>
            <a:ext cx="89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85672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50"/>
                </a:solidFill>
                <a:latin typeface="Calibri"/>
              </a:rPr>
              <a:t>- науково-практичній конференції</a:t>
            </a:r>
            <a:br>
              <a:rPr sz="4000"/>
            </a:br>
            <a:r>
              <a:rPr b="1" lang="uk-UA" sz="4000" spc="-1" strike="noStrike">
                <a:solidFill>
                  <a:srgbClr val="00b050"/>
                </a:solidFill>
                <a:latin typeface="Calibri"/>
              </a:rPr>
              <a:t> “Молода наука” </a:t>
            </a:r>
            <a:br>
              <a:rPr sz="4000"/>
            </a:br>
            <a:r>
              <a:rPr b="1" lang="uk-UA" sz="4000" spc="-1" strike="noStrike">
                <a:solidFill>
                  <a:srgbClr val="00b050"/>
                </a:solidFill>
                <a:latin typeface="Calibri"/>
              </a:rPr>
              <a:t>- к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онкурсі студентських наукових робіт    «Найкращий знавець біології»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-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нкурсі  студентських наукових робіт «Найкращий знавець  ландшафтного дизайну»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85520" y="404640"/>
            <a:ext cx="7900920" cy="5167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b050"/>
                </a:solidFill>
                <a:latin typeface="Arial"/>
              </a:rPr>
              <a:t>Всеукраїнському конкурсі студентських наукових робіт з природничих, технічних та гуманітарних наук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714320" y="2420640"/>
            <a:ext cx="6972120" cy="39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" descr="C:\Documents and Settings\Admin\Рабочий стол\фото\03102012883.jpg"/>
          <p:cNvPicPr/>
          <p:nvPr/>
        </p:nvPicPr>
        <p:blipFill>
          <a:blip r:embed="rId1"/>
          <a:stretch/>
        </p:blipFill>
        <p:spPr>
          <a:xfrm>
            <a:off x="0" y="0"/>
            <a:ext cx="3774960" cy="42148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C:\Documents and Settings\Admin\Рабочий стол\фото\04102012889.jpg"/>
          <p:cNvPicPr/>
          <p:nvPr/>
        </p:nvPicPr>
        <p:blipFill>
          <a:blip r:embed="rId2"/>
          <a:stretch/>
        </p:blipFill>
        <p:spPr>
          <a:xfrm>
            <a:off x="0" y="3530520"/>
            <a:ext cx="4214880" cy="33274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C:\Documents and Settings\Admin\Рабочий стол\фото\10092012846.jpg"/>
          <p:cNvPicPr/>
          <p:nvPr/>
        </p:nvPicPr>
        <p:blipFill>
          <a:blip r:embed="rId3"/>
          <a:stretch/>
        </p:blipFill>
        <p:spPr>
          <a:xfrm>
            <a:off x="6143760" y="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C:\Documents and Settings\Admin\Рабочий стол\фото\17092012857.jpg"/>
          <p:cNvPicPr/>
          <p:nvPr/>
        </p:nvPicPr>
        <p:blipFill>
          <a:blip r:embed="rId4"/>
          <a:stretch/>
        </p:blipFill>
        <p:spPr>
          <a:xfrm>
            <a:off x="4357800" y="3286080"/>
            <a:ext cx="4786200" cy="3571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C:\Documents and Settings\Admin\Рабочий стол\фото\PICT0260.JPG"/>
          <p:cNvPicPr/>
          <p:nvPr/>
        </p:nvPicPr>
        <p:blipFill>
          <a:blip r:embed="rId5"/>
          <a:stretch/>
        </p:blipFill>
        <p:spPr>
          <a:xfrm>
            <a:off x="3357720" y="0"/>
            <a:ext cx="27860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cs319222.userapi.com/v319222464/dee/RDFmLTUwD4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ff0000"/>
                </a:solidFill>
                <a:latin typeface="Calibri"/>
              </a:rPr>
              <a:t>Під час обговорення доповідей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9" name="Picture 4" descr="P1120258"/>
          <p:cNvPicPr/>
          <p:nvPr/>
        </p:nvPicPr>
        <p:blipFill>
          <a:blip r:embed="rId1"/>
          <a:stretch/>
        </p:blipFill>
        <p:spPr>
          <a:xfrm>
            <a:off x="214200" y="1285920"/>
            <a:ext cx="3643560" cy="26114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P1120283"/>
          <p:cNvPicPr/>
          <p:nvPr/>
        </p:nvPicPr>
        <p:blipFill>
          <a:blip r:embed="rId2"/>
          <a:stretch/>
        </p:blipFill>
        <p:spPr>
          <a:xfrm>
            <a:off x="5072040" y="1285920"/>
            <a:ext cx="3600360" cy="2735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http://cs319222.userapi.com/v319222464/1064/yH7jJELdSL8.jpg"/>
          <p:cNvPicPr/>
          <p:nvPr/>
        </p:nvPicPr>
        <p:blipFill>
          <a:blip r:embed="rId3"/>
          <a:stretch/>
        </p:blipFill>
        <p:spPr>
          <a:xfrm>
            <a:off x="2500200" y="3786120"/>
            <a:ext cx="409572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"/>
          <p:cNvSpPr/>
          <p:nvPr/>
        </p:nvSpPr>
        <p:spPr>
          <a:xfrm>
            <a:off x="285840" y="1000080"/>
            <a:ext cx="84294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87026"/>
                </a:solidFill>
                <a:latin typeface="Constantia"/>
              </a:rPr>
              <a:t>Мета і завдан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нування студентами теоретичних  основ генетико-селекційних досліджень та одержання практичних навичок з планування, проведення польових та лабораторних експериментів та аналізу  отриманих дан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1"/>
          <p:cNvSpPr/>
          <p:nvPr/>
        </p:nvSpPr>
        <p:spPr>
          <a:xfrm>
            <a:off x="285840" y="5000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onstantia"/>
              </a:rPr>
              <a:t>Згідно плану  закладаються польові  дослі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Рисунок 1" descr="CIMG0099.jpg"/>
          <p:cNvPicPr/>
          <p:nvPr/>
        </p:nvPicPr>
        <p:blipFill>
          <a:blip r:embed="rId1"/>
          <a:stretch/>
        </p:blipFill>
        <p:spPr>
          <a:xfrm>
            <a:off x="0" y="1571760"/>
            <a:ext cx="3462480" cy="256356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1" descr="мастер-класс)).jpg"/>
          <p:cNvPicPr/>
          <p:nvPr/>
        </p:nvPicPr>
        <p:blipFill>
          <a:blip r:embed="rId2"/>
          <a:stretch/>
        </p:blipFill>
        <p:spPr>
          <a:xfrm>
            <a:off x="5357880" y="982800"/>
            <a:ext cx="3676680" cy="2757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http://cs319221.userapi.com/v319221464/58e/RcwxYo-96BY.jpg"/>
          <p:cNvPicPr/>
          <p:nvPr/>
        </p:nvPicPr>
        <p:blipFill>
          <a:blip r:embed="rId3"/>
          <a:stretch/>
        </p:blipFill>
        <p:spPr>
          <a:xfrm>
            <a:off x="1571760" y="3664080"/>
            <a:ext cx="6773760" cy="31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Рисунок 1" descr="CIMG0676.JPG"/>
          <p:cNvPicPr/>
          <p:nvPr/>
        </p:nvPicPr>
        <p:blipFill>
          <a:blip r:embed="rId1"/>
          <a:stretch/>
        </p:blipFill>
        <p:spPr>
          <a:xfrm>
            <a:off x="0" y="3933720"/>
            <a:ext cx="4572000" cy="292428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1" descr="CIMG0679.JPG"/>
          <p:cNvPicPr/>
          <p:nvPr/>
        </p:nvPicPr>
        <p:blipFill>
          <a:blip r:embed="rId2"/>
          <a:stretch/>
        </p:blipFill>
        <p:spPr>
          <a:xfrm>
            <a:off x="0" y="1052640"/>
            <a:ext cx="4572000" cy="295092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6"/>
          <p:cNvSpPr/>
          <p:nvPr/>
        </p:nvSpPr>
        <p:spPr>
          <a:xfrm>
            <a:off x="539640" y="11592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Згідно плану проводяться лабораторні   дослідж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7" descr="C:\Documents and Settings\Admin\Рабочий стол\фото\PICT0276.JPG"/>
          <p:cNvPicPr/>
          <p:nvPr/>
        </p:nvPicPr>
        <p:blipFill>
          <a:blip r:embed="rId3"/>
          <a:stretch/>
        </p:blipFill>
        <p:spPr>
          <a:xfrm>
            <a:off x="4572000" y="3728880"/>
            <a:ext cx="2346480" cy="3129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C:\Documents and Settings\Admin\Рабочий стол\фото\PICT0277.JPG"/>
          <p:cNvPicPr/>
          <p:nvPr/>
        </p:nvPicPr>
        <p:blipFill>
          <a:blip r:embed="rId4"/>
          <a:stretch/>
        </p:blipFill>
        <p:spPr>
          <a:xfrm>
            <a:off x="4476600" y="714240"/>
            <a:ext cx="4667400" cy="3500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C:\Documents and Settings\Admin\Рабочий стол\фото\PICT0284.JPG"/>
          <p:cNvPicPr/>
          <p:nvPr/>
        </p:nvPicPr>
        <p:blipFill>
          <a:blip r:embed="rId5"/>
          <a:stretch/>
        </p:blipFill>
        <p:spPr>
          <a:xfrm>
            <a:off x="6946920" y="3929040"/>
            <a:ext cx="219708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30088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результатами  досліджень, проведених за участю студентів, в Державне сортовипробування передано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новий сорт льону великоквіткового “Вогник”.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еред його авторів студентка  спеціальності “Садово-паркового господарства”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Хамазюк Ольга.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3" name="Picture 5" descr="fon1"/>
          <p:cNvPicPr/>
          <p:nvPr/>
        </p:nvPicPr>
        <p:blipFill>
          <a:blip r:embed="rId1"/>
          <a:stretch/>
        </p:blipFill>
        <p:spPr>
          <a:xfrm>
            <a:off x="3386160" y="2836800"/>
            <a:ext cx="561672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68000" y="620280"/>
            <a:ext cx="835164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Участь студентів у проведенні наукових досліджень згідно тематики кафедри та написанні наукових статей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 участю студентів  (Шляхова В. Тигова А., Яремчук М., Буренко К., Бережна А., Поляков В., Яранцева В., Ушкевич Н., Тоцький І., Калмикова К., Клименко О. )були опубліковані роботи у наукових фахових виданнях 2011-2012 р.р.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Вісник Запорізького національного університету: Збірник наукових праць. Біологічні науки. – Запоріжжя: Запорізький національний університет, 2011. № 1, №2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Електронне наукове видання «Актуальні питання біології, екології та хімії» 2011 № 1, № 2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Електронне наукове видання «Актуальні питання біології, екології та хімії» 2012 № 1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Лента лицом вниз 2"/>
          <p:cNvSpPr/>
          <p:nvPr/>
        </p:nvSpPr>
        <p:spPr>
          <a:xfrm>
            <a:off x="0" y="4071960"/>
            <a:ext cx="9144000" cy="228600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38088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287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0000"/>
                </a:solidFill>
                <a:latin typeface="Arial"/>
              </a:rPr>
              <a:t>Дякуємо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0000"/>
                </a:solidFill>
                <a:latin typeface="Arial"/>
              </a:rPr>
              <a:t>за увагу!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7" name="Picture 3" descr="C:\Documents and Settings\Admin\Рабочий стол\фото\PICT0262.JPG"/>
          <p:cNvPicPr/>
          <p:nvPr/>
        </p:nvPicPr>
        <p:blipFill>
          <a:blip r:embed="rId1"/>
          <a:stretch/>
        </p:blipFill>
        <p:spPr>
          <a:xfrm>
            <a:off x="3000240" y="0"/>
            <a:ext cx="320832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1" descr="CIMG06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0000"/>
                </a:solidFill>
                <a:latin typeface="Calibri"/>
              </a:rPr>
              <a:t>Основні напрямки робот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907560"/>
            <a:ext cx="896472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Constantia"/>
              </a:rPr>
              <a:t>Генетика та селекція різних рослин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Constantia"/>
              </a:rPr>
              <a:t>Створення генетичних колекцій</a:t>
            </a: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3400" spc="-1" strike="noStrike">
                <a:solidFill>
                  <a:srgbClr val="000000"/>
                </a:solidFill>
                <a:latin typeface="Constantia"/>
              </a:rPr>
              <a:t>рослин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Constantia"/>
              </a:rPr>
              <a:t>Вивчення фізіолого-біохімічних та анатомічних особливостей колекційних зразків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C:\Documents and Settings\Admin\Рабочий стол\фото\PICT0280.JPG"/>
          <p:cNvPicPr/>
          <p:nvPr/>
        </p:nvPicPr>
        <p:blipFill>
          <a:blip r:embed="rId1"/>
          <a:stretch/>
        </p:blipFill>
        <p:spPr>
          <a:xfrm>
            <a:off x="3214800" y="3143160"/>
            <a:ext cx="2786040" cy="3714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C:\Documents and Settings\Admin\Рабочий стол\фото\PICT0288.JPG"/>
          <p:cNvPicPr/>
          <p:nvPr/>
        </p:nvPicPr>
        <p:blipFill>
          <a:blip r:embed="rId2"/>
          <a:stretch/>
        </p:blipFill>
        <p:spPr>
          <a:xfrm>
            <a:off x="6357960" y="3143160"/>
            <a:ext cx="2786040" cy="3714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Documents and Settings\Admin\Рабочий стол\фото\z_22889768.jpg"/>
          <p:cNvPicPr/>
          <p:nvPr/>
        </p:nvPicPr>
        <p:blipFill>
          <a:blip r:embed="rId3"/>
          <a:stretch/>
        </p:blipFill>
        <p:spPr>
          <a:xfrm>
            <a:off x="0" y="3105000"/>
            <a:ext cx="2685960" cy="37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3300"/>
                </a:solidFill>
                <a:latin typeface="Verdana"/>
              </a:rPr>
              <a:t>ГЕНЕТИКА ТА СЕЛЕКЦІЯ ЛЬОНУ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6" descr="p-1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286080"/>
            <a:ext cx="3333600" cy="3333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1714680" y="1714680"/>
            <a:ext cx="4464000" cy="3120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сканирование0001"/>
          <p:cNvPicPr/>
          <p:nvPr/>
        </p:nvPicPr>
        <p:blipFill>
          <a:blip r:embed="rId4"/>
          <a:stretch/>
        </p:blipFill>
        <p:spPr>
          <a:xfrm>
            <a:off x="4664160" y="3618000"/>
            <a:ext cx="4479840" cy="324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3300"/>
                </a:solidFill>
                <a:latin typeface="Verdana"/>
              </a:rPr>
              <a:t>ГЕНЕТИКА ТА СЕЛЕКЦІЯ РИЦИН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4" descr="b8b803e498f3"/>
          <p:cNvPicPr/>
          <p:nvPr/>
        </p:nvPicPr>
        <p:blipFill>
          <a:blip r:embed="rId1"/>
          <a:stretch/>
        </p:blipFill>
        <p:spPr>
          <a:xfrm>
            <a:off x="2714760" y="1643040"/>
            <a:ext cx="2342880" cy="3508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ricinus-communis-new-zealand-purple02"/>
          <p:cNvPicPr/>
          <p:nvPr/>
        </p:nvPicPr>
        <p:blipFill>
          <a:blip r:embed="rId2"/>
          <a:stretch/>
        </p:blipFill>
        <p:spPr>
          <a:xfrm>
            <a:off x="6031080" y="1214280"/>
            <a:ext cx="3112920" cy="207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Picture 7" descr="ууу"/>
          <p:cNvPicPr/>
          <p:nvPr/>
        </p:nvPicPr>
        <p:blipFill>
          <a:blip r:embed="rId3"/>
          <a:stretch/>
        </p:blipFill>
        <p:spPr>
          <a:xfrm>
            <a:off x="0" y="2881440"/>
            <a:ext cx="2570040" cy="3976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2"/>
          <p:cNvPicPr/>
          <p:nvPr/>
        </p:nvPicPr>
        <p:blipFill>
          <a:blip r:embed="rId4"/>
          <a:stretch/>
        </p:blipFill>
        <p:spPr>
          <a:xfrm>
            <a:off x="5364000" y="3500280"/>
            <a:ext cx="3535560" cy="29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4" descr="небесно-голубой-и-огромный.jpg"/>
          <p:cNvPicPr/>
          <p:nvPr/>
        </p:nvPicPr>
        <p:blipFill>
          <a:blip r:embed="rId1"/>
          <a:stretch/>
        </p:blipFill>
        <p:spPr>
          <a:xfrm>
            <a:off x="428760" y="2000160"/>
            <a:ext cx="5041800" cy="395928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8" descr="Ipomoea_purpurea.jpg"/>
          <p:cNvPicPr/>
          <p:nvPr/>
        </p:nvPicPr>
        <p:blipFill>
          <a:blip r:embed="rId2"/>
          <a:stretch/>
        </p:blipFill>
        <p:spPr>
          <a:xfrm>
            <a:off x="6175440" y="1285920"/>
            <a:ext cx="2968560" cy="30178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3" descr="7d5c95cbeaed.jpg"/>
          <p:cNvPicPr/>
          <p:nvPr/>
        </p:nvPicPr>
        <p:blipFill>
          <a:blip r:embed="rId3"/>
          <a:stretch/>
        </p:blipFill>
        <p:spPr>
          <a:xfrm>
            <a:off x="5000760" y="4143240"/>
            <a:ext cx="3314520" cy="253368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4"/>
          <p:cNvSpPr/>
          <p:nvPr/>
        </p:nvSpPr>
        <p:spPr>
          <a:xfrm>
            <a:off x="1285920" y="142920"/>
            <a:ext cx="642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3300"/>
                </a:solidFill>
                <a:latin typeface="Verdana"/>
              </a:rPr>
              <a:t>ГЕНЕТИКА ТА СЕЛЕКЦІЯ ІПОМЕ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9" descr="0_1baee_aca4a04e_XL"/>
          <p:cNvPicPr/>
          <p:nvPr/>
        </p:nvPicPr>
        <p:blipFill>
          <a:blip r:embed="rId1"/>
          <a:stretch/>
        </p:blipFill>
        <p:spPr>
          <a:xfrm>
            <a:off x="500040" y="4122720"/>
            <a:ext cx="3240000" cy="2735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0_b680_6df16e06_XL"/>
          <p:cNvPicPr/>
          <p:nvPr/>
        </p:nvPicPr>
        <p:blipFill>
          <a:blip r:embed="rId2"/>
          <a:stretch/>
        </p:blipFill>
        <p:spPr>
          <a:xfrm>
            <a:off x="1714680" y="1785960"/>
            <a:ext cx="3876480" cy="290844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1285920" y="142920"/>
            <a:ext cx="70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3300"/>
                </a:solidFill>
                <a:latin typeface="Verdana"/>
              </a:rPr>
              <a:t>ГЕНЕТИКА ТА СЕЛЕКЦІЯ ШТОК-РО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0_1a3d7_542c5906_XL"/>
          <p:cNvPicPr/>
          <p:nvPr/>
        </p:nvPicPr>
        <p:blipFill>
          <a:blip r:embed="rId3"/>
          <a:stretch/>
        </p:blipFill>
        <p:spPr>
          <a:xfrm>
            <a:off x="4425840" y="2571840"/>
            <a:ext cx="4718160" cy="36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7:18:55Z</dcterms:created>
  <dc:creator>Office</dc:creator>
  <dc:description/>
  <dc:language>en-US</dc:language>
  <cp:lastModifiedBy>Тетяна</cp:lastModifiedBy>
  <dcterms:modified xsi:type="dcterms:W3CDTF">2014-04-14T08:06:32Z</dcterms:modified>
  <cp:revision>127</cp:revision>
  <dc:subject/>
  <dc:title>Слайд 1</dc:title>
</cp:coreProperties>
</file>