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4.jpeg" ContentType="image/jpeg"/>
  <Override PartName="/ppt/media/image8.png" ContentType="image/png"/>
  <Override PartName="/ppt/media/image13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3226-C36C-4574-9CD2-A6F369CC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1A5-9E05-4D9E-8DCB-99973501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289-673E-4741-8ACB-3F62015E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5D2-A1E6-4151-9218-AF772039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3FE3-F223-4FB3-B545-2140F97F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6017-D406-4BE2-ADBC-4905D74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A6AD-3D21-447E-A1A3-C5770382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1852-A8C6-42D6-AC13-74643F4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0BBB-015A-41D8-B189-5BCC4F67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9AF9-A564-41CF-BA59-BF8C1A23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DB96-445F-4F70-A507-300B48F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4F1-6568-4ECD-BC6E-0DCF3C7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96B0-2EB9-4527-B433-6DCA8FC1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84E2-C8D8-40C3-AA55-AD212DBC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2AB5-1D42-4499-8A02-94D0F76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23A9-A4B0-462A-8965-5D6D0362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B75-D155-4038-9A01-F2D6A49B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B47-F6AC-4739-AEBF-0F86785D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8077-F9EA-4345-A289-4AF543C1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EAF-D93D-40C0-AD18-E10E16A3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BE21-CD4B-46A0-972B-EE062A3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6D2-9240-4E28-9537-4C8AC22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744E-E7C7-4D10-919E-D394FA13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7BA-FFBF-4E16-9444-5756F0BC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836D-50E3-493A-B69F-3FD2EE33E5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DCBB-C74C-4891-8380-FBBF9A98F4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6666"/>
                </a:solidFill>
                <a:latin typeface="Arial"/>
              </a:rPr>
              <a:t>Назва групи</a:t>
            </a:r>
            <a:r>
              <a:rPr b="0" lang="uk-UA" sz="3500" spc="-1" strike="noStrike">
                <a:solidFill>
                  <a:srgbClr val="006666"/>
                </a:solidFill>
                <a:latin typeface="Arial"/>
              </a:rPr>
              <a:t>: Вивчення антропогенного стресу та пристосування до нього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00000"/>
                </a:solidFill>
                <a:latin typeface="Verdana"/>
              </a:rPr>
              <a:t>Тема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: Оцінка стану довкілля за допомогою тест – об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uk-UA" sz="3300" spc="-1" strike="noStrike">
                <a:solidFill>
                  <a:srgbClr val="000000"/>
                </a:solidFill>
                <a:latin typeface="Verdana"/>
              </a:rPr>
              <a:t>єкті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Verdana"/>
              </a:rPr>
              <a:t>Наукові керівники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: Корж О.П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IMG_0006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659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IMG_0031"/>
          <p:cNvPicPr/>
          <p:nvPr/>
        </p:nvPicPr>
        <p:blipFill>
          <a:blip r:embed="rId2"/>
          <a:stretch/>
        </p:blipFill>
        <p:spPr>
          <a:xfrm>
            <a:off x="0" y="0"/>
            <a:ext cx="4356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Times New Roman"/>
              </a:rPr>
              <a:t>Дослідження стану питної води в м. Запоріжжя показало наступні результат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6292800" cy="43387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2"/>
          <p:cNvSpPr/>
          <p:nvPr/>
        </p:nvSpPr>
        <p:spPr>
          <a:xfrm>
            <a:off x="103320" y="114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1687320" y="1699200"/>
            <a:ext cx="56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сунок 4 Моніторинг хімічних показник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86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2"/>
          <a:stretch/>
        </p:blipFill>
        <p:spPr>
          <a:xfrm>
            <a:off x="4572000" y="3068640"/>
            <a:ext cx="4572000" cy="3789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4"/>
          <p:cNvSpPr txBox="1"/>
          <p:nvPr/>
        </p:nvSpPr>
        <p:spPr>
          <a:xfrm>
            <a:off x="611280" y="4797360"/>
            <a:ext cx="288108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итна вод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ПЕРЕЛІК ОПУБЛІКОВАНИХ НАУКОВИХ ПРАЦ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еукраїнська науково–парактична конференція студентів. Аспірантів та молодих учених «Актуальні проблеми та перспективи розвитку природничих наук»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 Чутливість Raphanus sativus до дії водних розчинів хімічних речовин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762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Левченко Я.Ю. Екологічна оцінка р. М. Московка за біологічними показникам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431120" y="0"/>
            <a:ext cx="1712880" cy="15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2. ІІ університетська науково – практична конференція студентів  та молодих вчених «Актуальні проблеми та перспективи розвитку природничих наук”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 Ч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утливість тест – об’єктів до дії різних токсиканті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авченко І. Гура Н. Вплив важких металів на ріст та розвиток рослин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Verdana"/>
              </a:rPr>
              <a:t>3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Збірник праць студентів, аспірантів та викладачів Запорізького національного університет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лалаєвська О. Вплив промислового навантаження на стан атмосфери на прикладі ВАТ «Запорізький Абразивний комбінат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4. Університетська конференція студентів та молодих учених «Актуальні проблеми та перспективи розвитку природничих наук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Дударєва Г.Ф, Якобі С. Екотоксикологічне обґрунтування застосування сучасних пестицидів при вирощуванні зернових культур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6666"/>
                </a:solidFill>
                <a:latin typeface="Verdana"/>
              </a:rPr>
              <a:t>5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Науково – дослідницький сектор. Наукове товариство студентів та аспірантів. До 80-річчя ЗНУ «Молода наука»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2010 р. Збірник статей і тез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Times New Roman"/>
              </a:rPr>
              <a:t>Клеваник М. Використання лишайників у біоіндикаційних дослідження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Здобутки та перемог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валенко Г.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ереможець університетського етапу (ІІ місце), став учасником ІІ другого етапу Всеукраїнської олімпіади з екології у м. Одеса, 2010 р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Отримав ІІ місце за конкурс наукових робіт “Найкращий знавець екології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убас Є. являється стипендіатом програми Фонду Віктора Пінчук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TP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» (науковий керівник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Корж О.П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155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Перспективи розвитку наукової проблемної груп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лідження стану питної води та поверхневих вод м. Запоріжжя та області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изначення впливу важких металів на різні тест – о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к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Дослідження впливу та показників токсичності промислових викидів в деяких районах міста Запоріжж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41440" indent="-54144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ня порівняльних характеристик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чутливості різних тест – об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єкті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6666"/>
                </a:solidFill>
                <a:latin typeface="Arial"/>
              </a:rPr>
              <a:t>Висновк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856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1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Індикатор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phanu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иявився більш чутливим до еталонного розчину біхромату калію (К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2О7), ніж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cumi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. Це співпадає із літературними даними, згідно яких сам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phanus sativus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більш чутливо реагує на токсиканти органічного та неорганічного походження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2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плив промислового навантаження на стан атмосфери м. Запоріжжя (на прикладі бенз(а)пирену) є негативний, так як з деяких джерел викидів підприємства ВАТ «Запорізький абразивний комбінат» ця надзвичайно небезпечна речовина перевищує ГДК подекуди в 2 – 7 раз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666"/>
                </a:solidFill>
                <a:latin typeface="Times New Roman"/>
              </a:rPr>
              <a:t>3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Високий вміст важких металів у ґрунті пригнічує як схожість, так і ростові процеси рослин – біоіндикаторів: гальмування ростових процесів важкими металами в субстраті позначаються в першу чергу на довжині та вазі росли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6666"/>
                </a:solidFill>
                <a:latin typeface="Times New Roman"/>
              </a:rPr>
              <a:t>4.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За нашими результатами, питну воду м. Запоріжжя вживати без додаткових засобів очищення не бажано. Для зменшення рівня токсичності слід воду відстоювати строком не менше 3 – х діб. Кип’ятіння води слід використовувати після відповідного відстоювання.</a:t>
            </a:r>
            <a:r>
              <a:rPr b="0" lang="uk-UA" sz="1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</a:rPr>
              <a:t>Студентська наукова проблемна група складається з </a:t>
            </a:r>
            <a:r>
              <a:rPr b="1" lang="uk-UA" sz="2800" spc="-1" strike="noStrike">
                <a:solidFill>
                  <a:srgbClr val="006666"/>
                </a:solidFill>
                <a:latin typeface="Times New Roman"/>
              </a:rPr>
              <a:t>11 учасників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Якобі С.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Левченко 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Чубас Є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валенко Г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ак 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Гура 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леваник М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рпенко 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оба С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рін 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46840" indent="-54684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Талалаєвська 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79640" y="2708280"/>
            <a:ext cx="5761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ДЯКУЄМО ЗА УВАГУ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Студентська наукова проблемна група займається вивченням проблем, які пов</a:t>
            </a: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006666"/>
                </a:solidFill>
                <a:latin typeface="Times New Roman"/>
              </a:rPr>
              <a:t>язані з антропогенним стресом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557360"/>
            <a:ext cx="7313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зв'язку зі стрімким процесом урбанізації в останні роки особливо гостро постала проблема оптимізації міського середовищ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иторія міст характеризується наявністю великої кількості джерел забруднення, їх нерівномірним розташуванням, а також досить складним поширенням забруднюючих речовин. Незважаючи на величезну деформаційну функцію у навколишньому середовищі, біогеоценотичному покриві, і речовинно – енергетичному обміні територій, місто ще не стало об'єктом комплексних екологічних досліджен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обливої актуальності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бувають роботи, спрямовані на створення системи інформативних біоіндикаторів і біомаркерів для адекватної оцінки стану довкілля та моніторингу урбанізованих систе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Мета і завдання наукової проблемної груп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изначення впливу антропогенно – індукованого стресу та пристосування до ньог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908000" y="3213000"/>
            <a:ext cx="57596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При дослідженні оцінки рівня чутливості тест – об’єктів, а саме рослинних об’єктів (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Cucumis sativus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6666"/>
                </a:solidFill>
                <a:latin typeface="Times New Roman"/>
              </a:rPr>
              <a:t>Raphanus sativus</a:t>
            </a:r>
            <a:r>
              <a:rPr b="0" lang="uk-UA" sz="2000" spc="-1" strike="noStrike">
                <a:solidFill>
                  <a:srgbClr val="006666"/>
                </a:solidFill>
                <a:latin typeface="Times New Roman"/>
              </a:rPr>
              <a:t>) до одного з рекомендованих еталонних розчинів, а саме біхромату калію отримані такі результати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551640" cy="4608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836640" y="1537920"/>
            <a:ext cx="709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1 – Вплив розчину К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О</a:t>
            </a:r>
            <a:r>
              <a:rPr b="0" lang="uk-UA" sz="1800" spc="-1" strike="noStrike" baseline="-25000">
                <a:solidFill>
                  <a:srgbClr val="000000"/>
                </a:solidFill>
                <a:latin typeface="Verdana"/>
              </a:rPr>
              <a:t>7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на чутливість тест-об’єкті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5076720" cy="3500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Безымянный8"/>
          <p:cNvPicPr/>
          <p:nvPr/>
        </p:nvPicPr>
        <p:blipFill>
          <a:blip r:embed="rId2"/>
          <a:stretch/>
        </p:blipFill>
        <p:spPr>
          <a:xfrm>
            <a:off x="3995640" y="3502080"/>
            <a:ext cx="5148360" cy="3355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8"/>
          <p:cNvSpPr/>
          <p:nvPr/>
        </p:nvSpPr>
        <p:spPr>
          <a:xfrm>
            <a:off x="5148360" y="69084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плив еталонних розчинів на рослин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6666"/>
                </a:solidFill>
                <a:latin typeface="Arial"/>
              </a:rPr>
              <a:t>Дослідження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ВПЛИВУ ПРОМИСЛОВОГО НАВАНТАЖЕННЯ 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НА </a:t>
            </a: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СТАН АТМОСФЕРИ НА ПРИКЛАДІ ВАТ «ЗАПОРІЗЬКИЙ АБРАЗИВНИЙ КОМБІНАТ» показало такі результати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771800" cy="39117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C:\Documents and Settings\administrator\Мои документы\Мои результаты сканировани\2010-06 (июн)\сканирование0002.jpg"/>
          <p:cNvPicPr/>
          <p:nvPr/>
        </p:nvPicPr>
        <p:blipFill>
          <a:blip r:embed="rId2"/>
          <a:stretch/>
        </p:blipFill>
        <p:spPr>
          <a:xfrm>
            <a:off x="6012000" y="3500280"/>
            <a:ext cx="2376360" cy="16574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284760" y="1556640"/>
            <a:ext cx="84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Максимальна приземна концентрація бенз(а)пирену, мг/м3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Times New Roman"/>
              </a:rPr>
              <a:t>При дослідженні впливу важких металів на ріст та розвиток рослин отримано такі результати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335640" cy="43909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52760" y="1483920"/>
            <a:ext cx="594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Рисунок 3 – Результати схожості редиски та огіркі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на досліджуваних зразках ґрунт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6:05:55Z</dcterms:created>
  <dc:creator>user</dc:creator>
  <dc:description/>
  <dc:language>en-US</dc:language>
  <cp:lastModifiedBy>Тетяна</cp:lastModifiedBy>
  <dcterms:modified xsi:type="dcterms:W3CDTF">2014-04-14T07:48:57Z</dcterms:modified>
  <cp:revision>16</cp:revision>
  <dc:subject/>
  <dc:title>Оцінка стану довкілля за допомогою тест – об’єктів</dc:title>
</cp:coreProperties>
</file>