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B0B-F552-4792-BFA5-F4575AB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571-3FA1-4D8B-9B85-FFB049D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150-E225-4D11-868F-4EEF1584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522-D46D-4E57-862D-F6927551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8638-21A1-49DE-BCF4-D86FDF4B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6078-5CE7-429D-9DF3-C6625001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81EC-E5C8-470A-B347-8A04F14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B89F-6582-4709-846A-0C7C516D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BCA-89EC-464F-A10D-BD79183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87AA-5DC9-4DF7-8302-A07744CD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821B-1080-4F63-8FFC-FCA85A8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C9F-1190-49F3-9ECF-E206C37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9CA5-0F29-4D42-BE90-F146698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0A8-2FB9-400F-A5E8-D7FFBA3F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8FD-9B89-46A0-A56E-6BB898E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25BC-141A-4397-8556-B7EA973B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C2F9-AB17-4A91-AA1F-87AD979D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3E7-7C2B-4EA8-B257-9AD52B53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CCE-84DA-4EAA-A536-78D4F695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BEF-EB74-4BBF-99C4-28F53C56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CB0-560C-46B7-85F6-91A8AFA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534-B1F3-4DB8-A358-8F2C562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FD6-37FC-44B9-92EA-9428DE3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32D-C647-42A9-A080-B438D2D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DCF-155A-4D14-9E49-A64F41FA34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02A3-5481-46C8-9F5D-9FEE0ADFD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6666"/>
                </a:solidFill>
                <a:latin typeface="Arial"/>
              </a:rPr>
              <a:t>Назва групи</a:t>
            </a:r>
            <a:r>
              <a:rPr b="0" lang="uk-UA" sz="3500" spc="-1" strike="noStrike">
                <a:solidFill>
                  <a:srgbClr val="006666"/>
                </a:solidFill>
                <a:latin typeface="Arial"/>
              </a:rPr>
              <a:t>: Вивчення антропогенного стресу та пристосування до нього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: Оцінка стану довкілля за допомогою тест – об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єкті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Наукові керівники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: Корж О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IMG_0006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59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MG_0031"/>
          <p:cNvPicPr/>
          <p:nvPr/>
        </p:nvPicPr>
        <p:blipFill>
          <a:blip r:embed="rId2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Times New Roman"/>
              </a:rPr>
              <a:t>Дослідження стану питної води в м. Запоріжжя показало наступні результа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92800" cy="433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10332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687320" y="169920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Моніторинг хімічних показник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611280" y="4797360"/>
            <a:ext cx="28810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на 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ЕРЕЛІК ОПУБЛІКОВАНИХ НАУКОВИХ ПРАЦ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еукраїнська науково–парактична конференція студентів. Аспірантів та молодих учених «Актуальні проблеми та перспективи розвитку природничих наук»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 Чутливість Raphanus sativus до дії водних розчинів хімічних речовин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Левченко Я.Ю. Екологічна оцінка р. М. Московка за біологічними показника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431120" y="0"/>
            <a:ext cx="171288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2. ІІ університетська науково – практична конференція студентів  та молодих вчених «Актуальні проблеми та перспективи розвитку природничих наук”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 Ч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тливість тест – об’єктів до дії різних токсиканті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авченко І. Гура Н. Вплив важких металів на ріст та розвиток росли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Verdana"/>
              </a:rPr>
              <a:t>3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Збірник праць студентів, аспірантів та викладачів Запорізького національного університе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лалаєвська О. Вплив промислового навантаження на стан атмосфери на прикладі ВАТ «Запорізький Абразивний комбінат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4. Університетська конференція студентів та молодих учених «Актуальні проблеми та перспективи розвитку природничих наук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Дударєва Г.Ф, Якобі С. Екотоксикологічне обґрунтування застосування сучасних пестицидів при вирощуванні зернових культур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Verdana"/>
              </a:rPr>
              <a:t>5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Науково – дослідницький сектор. Наукове товариство студентів та аспірантів. До 80-річчя ЗНУ «Молода наука»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2010 р. Збірник статей і тез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Клеваник М. Використання лишайників у біоіндикаційних дослідження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Здобутки та перемог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валенко Г.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еможець університетського етапу (ІІ місце), став учасником ІІ другого етапу Всеукраїнської олімпіади з екології у м. Одеса, 2010 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тримав ІІ місце за конкурс наукових робіт “Найкращий знавець екології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убас Є. являється стипендіатом програми Фонду Віктора Пінчу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TP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» (науковий керівник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рж О.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Перспективи розвитку наукової проблемної груп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лідження стану питної води та поверхневих вод м. Запоріжжя та област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значення впливу важких металів на різні тест – 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к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лідження впливу та показників токсичності промислових викидів в деяких районах міста Запоріжж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ня порівняльних характеристик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утливості різних тест – о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кт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Висновк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856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Індикато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phanu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иявився більш чутливим до еталонного розчину біхромату калію (К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О7), ніж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cumi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Це співпадає із літературними даними, згідно яких са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phanu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більш чутливо реагує на токсиканти органічного та неорганічного походжен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плив промислового навантаження на стан атмосфери м. Запоріжжя (на прикладі бенз(а)пирену) є негативний, так як з деяких джерел викидів підприємства ВАТ «Запорізький абразивний комбінат» ця надзвичайно небезпечна речовина перевищує ГДК подекуди в 2 – 7 раз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исокий вміст важких металів у ґрунті пригнічує як схожість, так і ростові процеси рослин – біоіндикаторів: гальмування ростових процесів важкими металами в субстраті позначаються в першу чергу на довжині та вазі росл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 нашими результатами, питну воду м. Запоріжжя вживати без додаткових засобів очищення не бажано. Для зменшення рівня токсичності слід воду відстоювати строком не менше 3 – х діб. Кип’ятіння води слід використовувати після відповідного відстоювання.</a:t>
            </a: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</a:rPr>
              <a:t>Студентська наукова проблемна група складається з 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11 учасників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кобі С.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Левченко 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валенко 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ак 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ура 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леваник 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рпенко 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ба С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рін 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лалаєвська 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79640" y="2708280"/>
            <a:ext cx="576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ЯКУЄМО ЗА УВАГУ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Студентська наукова проблемна група займається вивченням проблем, які пов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язані з антропогенним стресом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зв'язку зі стрімким процесом урбанізації в останні роки особливо гостро постала проблема оптимізації міського середовищ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иторія міст характеризується наявністю великої кількості джерел забруднення, їх нерівномірним розташуванням, а також досить складним поширенням забруднюючих речовин. Незважаючи на величезну деформаційну функцію у навколишньому середовищі, біогеоценотичному покриві, і речовинно – енергетичному обміні територій, місто ще не стало об'єктом комплексних екологічних дослідж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ливої актуальност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бувають роботи, спрямовані на створення системи інформативних біоіндикаторів і біомаркерів для адекватної оцінки стану довкілля та моніторингу урбанізованих сист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а і завдання наукової проблемної груп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изначення впливу антропогенно – індукованого стресу та пристосування до нь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75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При дослідженні оцінки рівня чутливості тест – об’єктів, а саме рослинних об’єктів (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Cucumis sativus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Raphanus sativus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) до одного з рекомендованих еталонних розчинів, а саме біхромату калію отримані такі результати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551640" cy="4608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836640" y="1537920"/>
            <a:ext cx="709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1 – Вплив розчину 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на чутливість тест-об’єкт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507672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Безымянный8"/>
          <p:cNvPicPr/>
          <p:nvPr/>
        </p:nvPicPr>
        <p:blipFill>
          <a:blip r:embed="rId2"/>
          <a:stretch/>
        </p:blipFill>
        <p:spPr>
          <a:xfrm>
            <a:off x="3995640" y="3502080"/>
            <a:ext cx="5148360" cy="3355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5148360" y="69084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плив еталонних розчинів на росли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Дослідже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ВПЛИВУ ПРОМИСЛОВОГО НАВАНТАЖЕННЯ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НА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СТАН АТМОСФЕРИ НА ПРИКЛАДІ ВАТ «ЗАПОРІЗЬКИЙ АБРАЗИВНИЙ КОМБІНАТ» показало такі результати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771800" cy="39117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C:\Documents and Settings\administrator\Мои документы\Мои результаты сканировани\2010-06 (июн)\сканирование0002.jpg"/>
          <p:cNvPicPr/>
          <p:nvPr/>
        </p:nvPicPr>
        <p:blipFill>
          <a:blip r:embed="rId2"/>
          <a:stretch/>
        </p:blipFill>
        <p:spPr>
          <a:xfrm>
            <a:off x="6012000" y="3500280"/>
            <a:ext cx="2376360" cy="1657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84760" y="1556640"/>
            <a:ext cx="84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аксимальна приземна концентрація бенз(а)пирену, мг/м3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</a:rPr>
              <a:t>При дослідженні впливу важких металів на ріст та розвиток рослин отримано такі результат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335640" cy="4390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52760" y="148392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3 – Результати схожості редиски та огіркі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 досліджуваних зразках ґрун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05:55Z</dcterms:created>
  <dc:creator>user</dc:creator>
  <dc:description/>
  <dc:language>en-US</dc:language>
  <cp:lastModifiedBy>Тетяна</cp:lastModifiedBy>
  <dcterms:modified xsi:type="dcterms:W3CDTF">2014-04-14T07:48:57Z</dcterms:modified>
  <cp:revision>16</cp:revision>
  <dc:subject/>
  <dc:title>Оцінка стану довкілля за допомогою тест – об’єктів</dc:title>
</cp:coreProperties>
</file>