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6D7-EF5D-4D26-98E8-32D0C10F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A26-C4CB-485F-BBF7-0CB878A5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F2F9-14CC-490D-B590-DAA57690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648-8A6F-4205-BAE7-9AC52797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5747F-E54B-4D91-B7E8-1CAC5026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400D7-5873-48F8-8635-A85222C1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899EA-464B-41B3-9B36-56260B1C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55D93-FB1D-45BE-9BA5-6712D752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7EBCA-847B-4805-A83A-22CC48CE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62CDD-09E8-40F9-B8B6-267BFAFD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26175-6789-4812-8624-1AFDED5E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490-F4DF-428F-B153-04057CE6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8B315-B192-4BEB-AA0E-3CF43908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AD2FA-4D1B-4BA0-BF36-E5DAE693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8709-268C-4D31-82C6-5F15EA22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D9F42-32D7-4463-8A32-7682A2D45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4015E-50C5-4BB8-BAF1-F68949BC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AB5-BC92-4078-BBF8-35FFD01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B48-FDA0-48E9-B0F3-F7BDFAAA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0686-40B6-4859-8273-5E0D438B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8C8-5425-471E-B3F2-1FF89F78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785E-BEB4-47E7-B831-F18A8080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FD1-1822-4655-9E9F-3B93CE7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57D0-6323-46BE-8F8F-F8F748EF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2727-BA3F-4DC4-BBBA-5CD4CDBFC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716-0908-484C-869B-6E361E8820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6"/>
          <p:cNvSpPr txBox="1"/>
          <p:nvPr/>
        </p:nvSpPr>
        <p:spPr>
          <a:xfrm>
            <a:off x="1000080" y="1785960"/>
            <a:ext cx="77486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"/>
              </a:rPr>
              <a:t>Моніторінг та мето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857160" y="4000680"/>
            <a:ext cx="7459920" cy="158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визначення грун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мірюють рН водної витяжка на потенціометрі. Ретельно промивають електроди дистильованою водою і знімають надлишок вологи з електрод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зташовують електроди у склянці з приготовленою сольовою витяжкою. Змірюють рН сольової витя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закінчення роботи електроди  промивають  та занурюють у дистильовану воду. Прилад виключають із мереж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2800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2300"/>
                            </p:stCondLst>
                            <p:childTnLst>
                              <p:par>
                                <p:cTn id="1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жте порожній алюмінієвий кухоль. Запишіть його масу (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ипте в кухоль роздрібнений ґрунтовий зразок і зважте. Запишіть його масу (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істите алюмінієвий кухоль із ґрунтом на 24 години на сушильну шафу при температурі 110 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189000"/>
            <a:ext cx="792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imes New Roman"/>
              </a:rPr>
              <a:t>Визначення вмісту води в грунті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6" descr="1260346804"/>
          <p:cNvPicPr/>
          <p:nvPr/>
        </p:nvPicPr>
        <p:blipFill>
          <a:blip r:embed="rId1"/>
          <a:stretch/>
        </p:blipFill>
        <p:spPr>
          <a:xfrm>
            <a:off x="3995640" y="4076640"/>
            <a:ext cx="4969080" cy="2637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9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йміть зразок із сушильної шафи та дайте йому остигнути в ексикатор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важте остиглий зразок, запишіть його мас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нову помістить зразок ґрунту на 24 години в сушильну шафу при температурі 110 °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ить операції 4 і 5 раз  доти, поки результати виміру не виявляться однаковими (до постійної маси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пишіть цю масу (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рахуйте процентний вміст води (Св) по наступній формулі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8"/>
              <p:cNvSpPr txBox="1"/>
              <p:nvPr/>
            </p:nvSpPr>
            <p:spPr>
              <a:xfrm>
                <a:off x="2916360" y="5373720"/>
                <a:ext cx="309708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900"/>
                            </p:stCondLst>
                            <p:childTnLst>
                              <p:par>
                                <p:cTn id="2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9300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1700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78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На аналітичних терезах беруть навіски ґрунту 0,1г та розміщують у сухій конічній колбі на 100 м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 бюретки приливають 10 мл 0,4н. розчи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озчиненого у сірчаній кислот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олбу закривають пробкою-холодильником та ставлять на електричну плитку з азбестовою сіткою.  Кипіння повинно бути слабким та продовжуватися точно 5 х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кі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чення колбі дають охолонути, потім доводять об'єм  у ній до 30-40 мл. Додають 4 краплі індикатору фінілант акрилової кислоти, титрують 0.2н. розчином солі Мора до переходу червоно-бурого кольору пляшечно-зе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WordArt 4"/>
          <p:cNvSpPr txBox="1"/>
          <p:nvPr/>
        </p:nvSpPr>
        <p:spPr>
          <a:xfrm>
            <a:off x="395280" y="0"/>
            <a:ext cx="79218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Визначення гумусу в грунті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p:transition spd="slow">
    <p:pull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100"/>
                            </p:stCondLst>
                            <p:childTnLst>
                              <p:par>
                                <p:cTn id="2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900"/>
                            </p:stCondLst>
                            <p:childTnLst>
                              <p:par>
                                <p:cTn id="2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ісля кіп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чення колбі дають охолонути, потім доводять об'єм  у ній до 30-40 мл. Додають 4 краплі індикатору фінілант акрилової кислоти, титрують 0.2н. розчином солі Мора до переходу червоно-бурого кольору пляшечно-зел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ити, скільки солі Мора йде на титрування 10м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– холосте визначення(роблять усе в тій же послідовності, тільки без навісу ґрунт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міст гумусу вираховують за формуло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835280" y="45813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362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wheel spokes="3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cccc"/>
            </a:gs>
            <a:gs pos="50000">
              <a:srgbClr val="00ffcc"/>
            </a:gs>
            <a:gs pos="100000">
              <a:srgbClr val="33cc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71516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e3e3ff"/>
                </a:solidFill>
                <a:latin typeface="Arial"/>
              </a:rPr>
              <a:t>ВИСНОВК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3416"/>
                </a:solidFill>
                <a:latin typeface="Arial"/>
              </a:rPr>
              <a:t>Глобальне погіршення екологічної ситуації в Україні, в тому числі агроекологічного стану грунтового покриву – основного природного компонента, який щільно пов’язаний і взаємодіє з іншими об’єктами навколишнього середовища, насамперед з грунтовими водами, рослинністю, атмосферним повітрям і сильно впливає на їх склад та хімічну чистоту, -вимагає від Держагрохімслужби негайного переходу від агрохімічного обстеження грунтів до проведення суцільного грунтово – агрохімічного моніторингу сільськогосподарських угідь. Останній, як відомо, належить до моніторингу екологічного типу і складається з трьох основних ланок: обстеження грунтів (включаючи проведення лабораторних аналізів) – оцінки їх еколого – агрохімічного стану - прогнозування змін відповідних показників та управління грунтовою родючістю.( тобто такою специфічною властивістю грунтів, що якісно відрізняє їх від вихідної (материнської) гірської породи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6438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3e3ff"/>
                </a:solidFill>
                <a:latin typeface="Arial"/>
              </a:rPr>
              <a:t>ВИКОРИСТАНА  ЛІТЕРАТУРА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мельний кодекс України” коментар “Одісея” Харків, 2002 р. Гетаном А.П., Шульга М.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іторинг земель”. “Навчальний посібник”. Львів, 1997 р. Сохнич А.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іторинг земель і прогнозування земельних ресурсів”. Рівен, 1999 р. Ніщинський А.Г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етодика суцільного грунтово- агрохімічного моніторингу сільськогосподарських угідь України \\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О.О.Созінов, Б.С. Прістера\\ Київ 1994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ст 56, 1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Родючість грунтів. Моніторинг та управління </a:t>
            </a: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\\ В.В. Медведєв\\ Київ 1992 “Урожай”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ст 3, 153, 2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раель Ю.А. Экология и контороль состояния природной среды М. «Гидрометеоиздат» 1984 ст 17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ненков Б. Н.‚ Юдинцев Е.В. Основи сельськохозяйственной радиологии. М. Агропромиздат‚ 1191 ст .2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ременные методические рекомендации по контролю загрязнения почв (под редакцией С.Г. Малахова) М.‚ 1983 ч.1‚ ст. 127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640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ніторинг ґрунт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це система спостережень за станом ґрунтового покриву, у тому числі ґрунтів, розташованих у зонах радіоактивного та інших забруднень, з метою своєчасного виявлення змін, їх оцінки,відвернення й  ліквідації наслідків негативних процес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Мета: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зглянути системи спостережень за станом грунт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ів;розглянути систему моніторингу грунтів; проаналізувати стан грунтового покриву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авдання моніторингу ґрунтів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ування і підтримання на сучасному рівні системи інформації про стан ґрунтового покрив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лучення його у господарське або інше використання на певній території, а саме про зміни у стані ґрунтів, викликаних антропогенними діям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сновним завданням моніторингу ґрунті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є формування і підтримання на сучасному рівні системи інформації про стан ґрунтового покриву, залучення його у господарське або інше використання на певній території, а саме про зміни у стані ґрунтів, викликаних антропогенними діями. Для виконання цього завдання проводиться оцінка екологічного стану ґрунтів у такій послідовності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збирання інформації про стан ґрунтів за спеціальним переліком показникі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творення банку дани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аналіз та обробка інформації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рівняння фактичних параметрів з нормативними;- групування ґрунтів за категоріями згідно з нормативами (агровиробниче групування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розробка заходів регулювання, адекватних екологічному стануу стану ґрунтів із визначенням площ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любешов 004"/>
          <p:cNvPicPr/>
          <p:nvPr/>
        </p:nvPicPr>
        <p:blipFill>
          <a:blip r:embed="rId1"/>
          <a:stretch/>
        </p:blipFill>
        <p:spPr>
          <a:xfrm>
            <a:off x="4788000" y="18900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любешов 002"/>
          <p:cNvPicPr/>
          <p:nvPr/>
        </p:nvPicPr>
        <p:blipFill>
          <a:blip r:embed="rId2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79280" y="981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Відбір проб ґрун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Відбір ґрунту для проведення хімічного аналізу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Picture 4" descr="Красноволя 005"/>
          <p:cNvPicPr/>
          <p:nvPr/>
        </p:nvPicPr>
        <p:blipFill>
          <a:blip r:embed="rId1"/>
          <a:stretch/>
        </p:blipFill>
        <p:spPr>
          <a:xfrm>
            <a:off x="324000" y="1197000"/>
            <a:ext cx="8569080" cy="56116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Красноволя 009"/>
          <p:cNvPicPr/>
          <p:nvPr/>
        </p:nvPicPr>
        <p:blipFill>
          <a:blip r:embed="rId1"/>
          <a:stretch/>
        </p:blipFill>
        <p:spPr>
          <a:xfrm>
            <a:off x="179280" y="189000"/>
            <a:ext cx="5324760" cy="3990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Красноволя 010"/>
          <p:cNvPicPr/>
          <p:nvPr/>
        </p:nvPicPr>
        <p:blipFill>
          <a:blip r:embed="rId2"/>
          <a:stretch/>
        </p:blipFill>
        <p:spPr>
          <a:xfrm>
            <a:off x="3780000" y="2835360"/>
            <a:ext cx="5364000" cy="4022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5580000" y="69228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Проведення хімічного аналізу ґрунт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32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320"/>
                            </p:stCondLst>
                            <p:childTnLst>
                              <p:par>
                                <p:cTn id="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00"/>
                </a:solidFill>
                <a:latin typeface="Arial"/>
              </a:rPr>
              <a:t>Показники хімічного аналізу ґрунту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Сума поглинених осн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бмінні кальцій і магні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Ємкість катіонного обмін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лізо рухоме загальн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рН сольов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ідролітична кислотні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моній обмін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зот нітрат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Азот аміач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осфор рухом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алій рухом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арганець обмін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Окисно-відновний потенці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ум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6"/>
          <p:cNvSpPr txBox="1"/>
          <p:nvPr/>
        </p:nvSpPr>
        <p:spPr>
          <a:xfrm>
            <a:off x="539640" y="765000"/>
            <a:ext cx="8064720" cy="446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Визначення кислотності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7" name="WordArt 8"/>
          <p:cNvSpPr txBox="1"/>
          <p:nvPr/>
        </p:nvSpPr>
        <p:spPr>
          <a:xfrm>
            <a:off x="3059280" y="1989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грунт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</p:txBody>
      </p:sp>
      <p:sp>
        <p:nvSpPr>
          <p:cNvPr id="138" name="WordArt 11"/>
          <p:cNvSpPr txBox="1"/>
          <p:nvPr/>
        </p:nvSpPr>
        <p:spPr>
          <a:xfrm>
            <a:off x="468360" y="3933720"/>
            <a:ext cx="8280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18900000"/>
                </a:gradFill>
                <a:latin typeface="Times New Roman"/>
              </a:rPr>
              <a:t>потенціометричний метод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189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wheel spokes="2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 технохімічних терезах беруть 8 г повітряно-сухого ґрунту в склянку місткістю 50м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о навіски ґрунту доливають 20мл свіжої дистильованої води або 20мл розчину хлориду калію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міст склянок перемішують, трясучи на ротаторі 5 хв. дають відстояти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У склянці із приготовленою водною витяжкою розташовують скляний вимірювальний електр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3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4100"/>
                            </p:stCondLst>
                            <p:childTnLst>
                              <p:par>
                                <p:cTn id="1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9:17:37Z</dcterms:created>
  <dc:creator>User</dc:creator>
  <dc:description/>
  <dc:language>en-US</dc:language>
  <cp:lastModifiedBy>Я</cp:lastModifiedBy>
  <dcterms:modified xsi:type="dcterms:W3CDTF">2011-05-05T14:18:10Z</dcterms:modified>
  <cp:revision>9</cp:revision>
  <dc:subject/>
  <dc:title>Слайд 1</dc:title>
</cp:coreProperties>
</file>