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E0E-9C73-4CE4-B23B-7F31F24D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535-02CF-4A7D-A743-8C895F79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644-6454-490C-A2C6-6816DFA8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E7D-6D62-4BEB-9B4C-52483B60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CFF0-D5AC-4ACA-AB7E-24BCC77B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0CE6D-FD2E-4431-AF3B-2F53D7B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F7638-26F2-435B-9AC3-FF3C5C18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55D9D-8551-4478-B095-7767A5F1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3F48B-6289-401F-B9D8-BF44305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44DA1-48C3-4DE2-BC2B-69F31663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5046E-8A47-4CCF-AD7B-2F9E2A0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C57-2195-484F-B057-B49AEA2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C0A26-8148-481F-A33D-04B1F779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AF210-0B58-4A93-A1EC-5FD59CC8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52D32-5674-467F-AA09-8D90D8F9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D5E30-F867-4E11-99CC-5CCA8674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79B5-25EC-4F07-986B-3C100643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491-6B3E-456F-A796-CBBE7C9D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A8B-CB6E-4BDB-B855-4140E768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702-81AC-46B4-9DCC-1553FD0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F27-016A-45F5-BDBC-646FBB8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4E3-957E-4314-8334-ADA1064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A67-C529-4354-9DBA-84301B9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C77-DA2B-4736-AB94-FFCB96C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1102-1D07-4B54-8337-2CC1AF1FA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2FC5-6F85-4A57-9C6B-F26BB12A7B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6"/>
          <p:cNvSpPr txBox="1"/>
          <p:nvPr/>
        </p:nvSpPr>
        <p:spPr>
          <a:xfrm>
            <a:off x="1000080" y="1785960"/>
            <a:ext cx="77486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Моніторінг та мето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857160" y="4000680"/>
            <a:ext cx="745992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визначення грун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мірюють рН водної витяжка на потенціометрі. Ретельно промивають електроди дистильованою водою і знімають надлишок вологи з електрод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ташовують електроди у склянці з приготовленою сольовою витяжкою. Змірюють рН сольової витя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закінчення роботи електроди  промивають  та занурюють у дистильовану воду. Прилад виключають із мереж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ажте порожній алюмінієвий кухоль. Запишіть його масу (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ипте в кухоль роздрібнений ґрунтовий зразок і зважте. Запишіть його масу (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істите алюмінієвий кухоль із ґрунтом на 24 години на сушильну шафу при температурі 110 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468360" y="189000"/>
            <a:ext cx="792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imes New Roman"/>
              </a:rPr>
              <a:t>Визначення вмісту води в грунті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6" descr="1260346804"/>
          <p:cNvPicPr/>
          <p:nvPr/>
        </p:nvPicPr>
        <p:blipFill>
          <a:blip r:embed="rId1"/>
          <a:stretch/>
        </p:blipFill>
        <p:spPr>
          <a:xfrm>
            <a:off x="3995640" y="4076640"/>
            <a:ext cx="4969080" cy="263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йміть зразок із сушильної шафи та дайте йому остигнути в ексикатор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ажте остиглий зразок, запишіть його ма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ову помістить зразок ґрунту на 24 години в сушильну шафу при температурі 110 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ить операції 4 і 5 раз  доти, поки результати виміру не виявляться однаковими (до постійної мас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ишіть цю масу (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зрахуйте процентний вміст води (Св) по наступній формул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916360" y="5373720"/>
                <a:ext cx="30970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900"/>
                            </p:stCondLst>
                            <p:childTnLst>
                              <p:par>
                                <p:cTn id="2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93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78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аналітичних терезах беруть навіски ґрунту 0,1г та розміщують у сухій конічній колбі на 100 м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 бюретки приливають 10 мл 0,4н. розчи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чиненого у сірчаній кисло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олбу закривають пробкою-холодильником та ставлять на електричну плитку з азбестовою сіткою.  Кипіння повинно бути слабким та продовжуватися точно 5 х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кі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чення колбі дають охолонути, потім доводять об'єм  у ній до 30-40 мл. Додають 4 краплі індикатору фінілант акрилової кислоти, титрують 0.2н. розчином солі Мора до переходу червоно-бурого кольору пляшечно-зе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395280" y="0"/>
            <a:ext cx="792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Визначення гумусу в грунті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10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900"/>
                            </p:stCondLst>
                            <p:childTnLst>
                              <p:par>
                                <p:cTn id="2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кі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чення колбі дають охолонути, потім доводять об'єм  у ній до 30-40 мл. Додають 4 краплі індикатору фінілант акрилової кислоти, титрують 0.2н. розчином солі Мора до переходу червоно-бурого кольору пляшечно-зе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ити, скільки солі Мора йде на титрування 10м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– холосте визначення(роблять усе в тій же послідовності, тільки без навісу ґрун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міст гумусу вираховують за формуло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835280" y="45813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62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heel spokes="3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cc"/>
            </a:gs>
            <a:gs pos="50000">
              <a:srgbClr val="00ffcc"/>
            </a:gs>
            <a:gs pos="100000">
              <a:srgbClr val="33cc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71516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ВИСНОВ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416"/>
                </a:solidFill>
                <a:latin typeface="Arial"/>
              </a:rPr>
              <a:t>Глобальне погіршення екологічної ситуації в Україні, в тому числі агроекологічного стану грунтового покриву – основного природного компонента, який щільно пов’язаний і взаємодіє з іншими об’єктами навколишнього середовища, насамперед з грунтовими водами, рослинністю, атмосферним повітрям і сильно впливає на їх склад та хімічну чистоту, -вимагає від Держагрохімслужби негайного переходу від агрохімічного обстеження грунтів до проведення суцільного грунтово – агрохімічного моніторингу сільськогосподарських угідь. Останній, як відомо, належить до моніторингу екологічного типу і складається з трьох основних ланок: обстеження грунтів (включаючи проведення лабораторних аналізів) – оцінки їх еколого – агрохімічного стану - прогнозування змін відповідних показників та управління грунтовою родючістю.( тобто такою специфічною властивістю грунтів, що якісно відрізняє їх від вихідної (материнської) гірської породи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6438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3e3ff"/>
                </a:solidFill>
                <a:latin typeface="Arial"/>
              </a:rPr>
              <a:t>ВИКОРИСТАНА  ЛІТЕРАТУР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мельний кодекс України” коментар “Одісея” Харків, 2002 р. Гетаном А.П., Шульга М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іторинг земель”. “Навчальний посібник”. Львів, 1997 р. Сохнич А.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іторинг земель і прогнозування земельних ресурсів”. Рівен, 1999 р. Ніщинський А.Г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етодика суцільного грунтово- агрохімічного моніторингу сільськогосподарських угідь України \\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.О.Созінов, Б.С. Прістера\\ Київ 1994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ст 56, 1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дючість грунтів. Моніторинг та управління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\\ В.В. Медведєв\\ Київ 1992 “Урожай”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т 3, 153, 2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раель Ю.А. Экология и контороль состояния природной среды М. «Гидрометеоиздат» 1984 ст 17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ненков Б. Н.‚ Юдинцев Е.В. Основи сельськохозяйственной радиологии. М. Агропромиздат‚ 1191 ст .2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енные методические рекомендации по контролю загрязнения почв (под редакцией С.Г. Малахова) М.‚ 1983 ч.1‚ ст. 12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іторинг ґрунт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це система спостережень за станом ґрунтового покриву, у тому числі ґрунтів, розташованих у зонах радіоактивного та інших забруднень, з метою своєчасного виявлення змін, їх оцінки,відвернення й  ліквідації наслідків негативних процес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Мета: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глянути системи спостережень за станом грунт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в;розглянути систему моніторингу грунтів; проаналізувати стан грунтового покриву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вдання моніторингу ґрунтів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ування і підтримання на сучасному рівні системи інформації про стан ґрунтового покрив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лучення його у господарське або інше використання на певній території, а саме про зміни у стані ґрунтів, викликаних антропогенними дія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им завданням моніторингу ґрунт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є формування і підтримання на сучасному рівні системи інформації про стан ґрунтового покриву, залучення його у господарське або інше використання на певній території, а саме про зміни у стані ґрунтів, викликаних антропогенними діями. Для виконання цього завдання проводиться оцінка екологічного стану ґрунтів у такій послідовност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бирання інформації про стан ґрунтів за спеціальним переліком показникі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творення банку да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наліз та обробка інформац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рівняння фактичних параметрів з нормативними;- групування ґрунтів за категоріями згідно з нормативами (агровиробниче групування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озробка заходів регулювання, адекватних екологічному стануу стану ґрунтів із визначенням площ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любешов 004"/>
          <p:cNvPicPr/>
          <p:nvPr/>
        </p:nvPicPr>
        <p:blipFill>
          <a:blip r:embed="rId1"/>
          <a:stretch/>
        </p:blipFill>
        <p:spPr>
          <a:xfrm>
            <a:off x="4788000" y="189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любешов 002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79280" y="98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ідбір проб ґрун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Відбір ґрунту для проведення хімічного аналізу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4" descr="Красноволя 005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611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Красноволя 009"/>
          <p:cNvPicPr/>
          <p:nvPr/>
        </p:nvPicPr>
        <p:blipFill>
          <a:blip r:embed="rId1"/>
          <a:stretch/>
        </p:blipFill>
        <p:spPr>
          <a:xfrm>
            <a:off x="179280" y="189000"/>
            <a:ext cx="5324760" cy="3990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Красноволя 010"/>
          <p:cNvPicPr/>
          <p:nvPr/>
        </p:nvPicPr>
        <p:blipFill>
          <a:blip r:embed="rId2"/>
          <a:stretch/>
        </p:blipFill>
        <p:spPr>
          <a:xfrm>
            <a:off x="3780000" y="283536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5580000" y="69228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роведення хімічного аналізу ґрун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2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320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Показники хімічного аналізу ґрунту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ума поглинених ос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мінні кальцій і магні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Ємкість катіонного обмін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лізо рухоме загаль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Н сольо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ідролітична кислотні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моній обмін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зот нітрат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зот аміач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осфор рухом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лій рухом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арганець обмін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кисно-відновний потенці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ум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539640" y="765000"/>
            <a:ext cx="8064720" cy="446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изначення кислотност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3059280" y="1989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грун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468360" y="3933720"/>
            <a:ext cx="828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imes New Roman"/>
              </a:rPr>
              <a:t>потенціометричний мет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2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 технохімічних терезах беруть 8 г повітряно-сухого ґрунту в склянку місткістю 50м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 навіски ґрунту доливають 20мл свіжої дистильованої води або 20мл розчину хлориду калію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ст склянок перемішують, трясучи на ротаторі 5 хв. дають відстояти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 склянці із приготовленою водною витяжкою розташовують скляний вимірювальний електр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3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1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17:37Z</dcterms:created>
  <dc:creator>User</dc:creator>
  <dc:description/>
  <dc:language>en-US</dc:language>
  <cp:lastModifiedBy>Я</cp:lastModifiedBy>
  <dcterms:modified xsi:type="dcterms:W3CDTF">2011-05-05T14:18:10Z</dcterms:modified>
  <cp:revision>9</cp:revision>
  <dc:subject/>
  <dc:title>Слайд 1</dc:title>
</cp:coreProperties>
</file>