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DF5D-9BE2-4EFD-8189-96D883DB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DC7B-694B-46EA-990D-289DD1CF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D10-F775-48CF-8E99-A03A4B95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C25C-6EE1-404D-8A03-006E9F6A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7812-9921-4E5D-B721-48105F3A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E032-D99A-4EC9-9C93-32ED52AC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825E-256F-4527-AAC0-D1E91EC7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6D57-E7EC-49C5-8F29-19173AD4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289F-155A-4C39-A13B-D1C60ABC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3F8D-7D7C-4ED6-96C9-9726492D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A52B-E7C9-45F2-8E45-C2B5DF0C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8DD8-4C30-4BA0-9605-83EFA550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FA86-8888-4852-97B6-232F12FA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4C10-E7E3-4DEE-969B-9E9DBC24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CA13-157B-458B-83BE-13ADF1B4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1C3F-956D-4A47-97F7-3224563B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881B-E043-41A0-A3B3-722B8054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698AB-51FD-402F-B391-A2D2E5F6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75852-F13A-46BE-92D7-2D7EC283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3EACF-F8CD-4C7B-93AE-14871194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9140D-FEF4-4187-B6D3-DAAF7394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AD5D7-FA21-4DE1-B22B-61AEA5F1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E0C0-1CCA-4535-89F3-974180E8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363A6-1E07-4A67-B3CC-0B3C0C92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E2B41-0674-4B41-8979-AFE420DB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E93D0-B99F-424D-B15B-6383DB44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5FA16-69F7-4BD9-8750-77A61960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77D7F-F520-421A-BA5E-AD0DB300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A53D9-2160-4059-B99A-E6E940F2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13CB0-B6BD-4F41-BD80-ED9C588B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4E6C4-374D-4077-B2B5-75388838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1405B-0CB2-49C9-AA1C-3239D910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79D2A-3427-43A7-BF73-FBE120F2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3922-C4B3-41F7-80DB-F01CB15D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82F37-2C84-404B-9A43-A698AE11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52F9E-0D0C-4649-A445-31E35BF5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19717-C05D-48D4-9648-A880ED22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4FF09-6B59-4C46-B033-69AD9185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5F546-237A-415B-B83A-9721805F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20409-A584-48B8-B8A9-43151E9F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C7261-E8D1-44F9-BC40-852C840D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51F5D-0FD6-4FFA-9193-6032F211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E397F-2AD9-4A55-B29B-AF82295B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C5C4-01D6-4D04-9930-1555FF46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E4E3-9ED8-4DB2-95F6-9527B633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E87F-684D-4C4D-8675-5CC3FA15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3640-5E15-4CBD-94B1-43C8CDF1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9669-347A-46A9-BFFC-64FFA72C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7CA0-6F33-48BA-B18F-28C057CB8E5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902C-816A-4510-821B-FFB77E09BE7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65B8-3B8F-4DF7-B9B0-561A92D3676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2AC2-8EB7-42E9-8A35-AE25E3AAE1C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80960" y="1298520"/>
            <a:ext cx="8102520" cy="2938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НАУКОВІ ШКОЛИ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onstantia"/>
              </a:rPr>
              <a:t>Літературний процес: проблеми типології і спадкоємності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Засновник: Тихомиров Володимир Миколайович, доктор філологічних наук, професор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Наукові керівник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авленко Ірина Яківна, доктор філологічних наук, професор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огребна Вікторія Леонідівна – доктор філологічних наук, професор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Грантова та міжнародна діляьність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Скругленный прямоугольник 3"/>
          <p:cNvSpPr/>
          <p:nvPr/>
        </p:nvSpPr>
        <p:spPr>
          <a:xfrm>
            <a:off x="755640" y="1773360"/>
            <a:ext cx="3240000" cy="1800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Міжнародні програми оакадемічної мобільності студентів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Польщ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Скругленный прямоугольник 4"/>
          <p:cNvSpPr/>
          <p:nvPr/>
        </p:nvSpPr>
        <p:spPr>
          <a:xfrm>
            <a:off x="4794120" y="1916280"/>
            <a:ext cx="3529080" cy="13665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Угоди про співробітництво: Польща (Вроцлав, Люблін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Болгарія (Софі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Словачч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Скругленный прямоугольник 6"/>
          <p:cNvSpPr/>
          <p:nvPr/>
        </p:nvSpPr>
        <p:spPr>
          <a:xfrm>
            <a:off x="611280" y="3789360"/>
            <a:ext cx="3456000" cy="1008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Мовна практика студенті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Скругленный прямоугольник 7"/>
          <p:cNvSpPr/>
          <p:nvPr/>
        </p:nvSpPr>
        <p:spPr>
          <a:xfrm>
            <a:off x="5292720" y="3500280"/>
            <a:ext cx="3024360" cy="12970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Підвищення кваліфкації НП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(2017-2018 рр.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Скругленный прямоугольник 8"/>
          <p:cNvSpPr/>
          <p:nvPr/>
        </p:nvSpPr>
        <p:spPr>
          <a:xfrm>
            <a:off x="541440" y="5013360"/>
            <a:ext cx="3456000" cy="1008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Фінансування наукової продукції (2018 р) – Запорізька обласна ра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Скругленный прямоугольник 9"/>
          <p:cNvSpPr/>
          <p:nvPr/>
        </p:nvSpPr>
        <p:spPr>
          <a:xfrm>
            <a:off x="4818240" y="5067360"/>
            <a:ext cx="3455640" cy="1008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Літні мовні школи (Польщ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Виробнича практика (переклад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4617b"/>
                </a:solidFill>
                <a:latin typeface="Calibri"/>
              </a:rPr>
              <a:t>ПУБЛІКАЦІЙНА АКТИВНІСТЬ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Скругленный прямоугольник 4"/>
          <p:cNvSpPr/>
          <p:nvPr/>
        </p:nvSpPr>
        <p:spPr>
          <a:xfrm>
            <a:off x="1042920" y="2205000"/>
            <a:ext cx="2376720" cy="15843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Фахові  видання – 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Скругленный прямоугольник 6"/>
          <p:cNvSpPr/>
          <p:nvPr/>
        </p:nvSpPr>
        <p:spPr>
          <a:xfrm>
            <a:off x="3780000" y="2133720"/>
            <a:ext cx="2016000" cy="16556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Публікації у зарубіжних наукових виданнях – 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Скругленный прямоугольник 7"/>
          <p:cNvSpPr/>
          <p:nvPr/>
        </p:nvSpPr>
        <p:spPr>
          <a:xfrm>
            <a:off x="971640" y="4292640"/>
            <a:ext cx="3313080" cy="15127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Публікації в іниших наукових виданнях – 4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Скругленный прямоугольник 8"/>
          <p:cNvSpPr/>
          <p:nvPr/>
        </p:nvSpPr>
        <p:spPr>
          <a:xfrm>
            <a:off x="5435640" y="4365720"/>
            <a:ext cx="3168720" cy="1295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Кількість цитувань – 2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Скругленный прямоугольник 9"/>
          <p:cNvSpPr/>
          <p:nvPr/>
        </p:nvSpPr>
        <p:spPr>
          <a:xfrm>
            <a:off x="6372360" y="2133720"/>
            <a:ext cx="2303280" cy="15825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Монографій –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Навчальних посібників – 1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Наукове консульування / експертне середовищ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Скругленный прямоугольник 3"/>
          <p:cNvSpPr/>
          <p:nvPr/>
        </p:nvSpPr>
        <p:spPr>
          <a:xfrm>
            <a:off x="900000" y="2133720"/>
            <a:ext cx="3311640" cy="19429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Експерти МОН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Членство у  редакційних колегіях наукових видань України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Участь у міжнародних експертних рада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- проф. Павленко І.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Скругленный прямоугольник 4"/>
          <p:cNvSpPr/>
          <p:nvPr/>
        </p:nvSpPr>
        <p:spPr>
          <a:xfrm>
            <a:off x="5003640" y="2133720"/>
            <a:ext cx="3313440" cy="16556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Участь у МАН (секція – Російська мов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Секція  - фольколористика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Скругленный прямоугольник 5"/>
          <p:cNvSpPr/>
          <p:nvPr/>
        </p:nvSpPr>
        <p:spPr>
          <a:xfrm>
            <a:off x="2556000" y="4581360"/>
            <a:ext cx="3960720" cy="15116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Співробітництво із науковими установами  НАН Украї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Співробітництво із органами державної влад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СТУДЕНТСЬКА НАУКОВА РОБОТ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Скругленный прямоугольник 3"/>
          <p:cNvSpPr/>
          <p:nvPr/>
        </p:nvSpPr>
        <p:spPr>
          <a:xfrm>
            <a:off x="468360" y="2133720"/>
            <a:ext cx="3311640" cy="1511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Призери  Всеукраїнського конкурс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студентських наукових робіт – 7 осі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Скругленный прямоугольник 4"/>
          <p:cNvSpPr/>
          <p:nvPr/>
        </p:nvSpPr>
        <p:spPr>
          <a:xfrm>
            <a:off x="5148360" y="4437000"/>
            <a:ext cx="3311280" cy="15130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У часть у програмах міжнародного обміну;  грантових програма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(2018 р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Скругленный прямоугольник 5"/>
          <p:cNvSpPr/>
          <p:nvPr/>
        </p:nvSpPr>
        <p:spPr>
          <a:xfrm>
            <a:off x="684360" y="4437000"/>
            <a:ext cx="3311280" cy="15130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Студентські публікації – 80  (у т.ч. у зарубіжних виданнях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Скругленный прямоугольник 6"/>
          <p:cNvSpPr/>
          <p:nvPr/>
        </p:nvSpPr>
        <p:spPr>
          <a:xfrm>
            <a:off x="5003640" y="2205000"/>
            <a:ext cx="3313440" cy="1511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Переможці Всеукраїнської студентської олімпіади з фаху – 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Підготовка та перепідготовка кадрів / аспіранутра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Скругленный прямоугольник 3"/>
          <p:cNvSpPr/>
          <p:nvPr/>
        </p:nvSpPr>
        <p:spPr>
          <a:xfrm>
            <a:off x="468360" y="2133720"/>
            <a:ext cx="3311640" cy="2519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Керівництво аспірантурою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Проф.  Павленко І.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Доц. Хейлік Т.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Доц. Мацегора І.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Скругленный прямоугольник 4"/>
          <p:cNvSpPr/>
          <p:nvPr/>
        </p:nvSpPr>
        <p:spPr>
          <a:xfrm>
            <a:off x="4716360" y="2060640"/>
            <a:ext cx="3311640" cy="25207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Підвищення кваліфкаці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(робота Школи філологічних наук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Участь у роботі Центру перепідготовки державних службоців Запорізької обласної рад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4617b"/>
                </a:solidFill>
                <a:latin typeface="Calibri"/>
              </a:rPr>
              <a:t>НАУКОВІ ЗАХОД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Скругленный прямоугольник 3"/>
          <p:cNvSpPr/>
          <p:nvPr/>
        </p:nvSpPr>
        <p:spPr>
          <a:xfrm>
            <a:off x="468360" y="2133720"/>
            <a:ext cx="3311640" cy="2519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Всеукраїнська наукова конференці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Запорожжя у гуманітарному дискурсі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Скругленный прямоугольник 4"/>
          <p:cNvSpPr/>
          <p:nvPr/>
        </p:nvSpPr>
        <p:spPr>
          <a:xfrm>
            <a:off x="4356000" y="2060640"/>
            <a:ext cx="4103640" cy="2519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Всеукраїнська науково-практична Інтернет- конференція студентів, аспріантів, молодих учени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Актуальні проблеми словянської філології 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2T18:22:33Z</dcterms:created>
  <dc:creator>Иван</dc:creator>
  <dc:description/>
  <dc:language>en-US</dc:language>
  <cp:lastModifiedBy>Иван</cp:lastModifiedBy>
  <dcterms:modified xsi:type="dcterms:W3CDTF">2019-09-23T10:51:06Z</dcterms:modified>
  <cp:revision>32</cp:revision>
  <dc:subject/>
  <dc:title>Презентация PowerPoint</dc:title>
</cp:coreProperties>
</file>