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05B-DAC3-4D00-9A63-CC269B32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644-126A-460A-95AC-811B91ED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AB8-8FE9-46D8-A749-0D071C92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FCF-9FC0-45CC-8D66-38B29ADA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7B48-DB2C-4690-AC92-5637E65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EF71-F29D-4C91-A23A-1E894284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A751-19C1-400D-9009-3C28BB11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FB8E-9654-433E-8D24-760A59C4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5EDE-1E05-48E6-B9B3-4202D77A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F230-427E-4BDC-8F22-581E8A7E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5A8B-2748-4CB2-AAD4-56068C5D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E79-1C2E-46FE-A433-D0DD337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6DB8-F00A-4863-A27A-ED61A872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4E49-C70B-4BB1-9F3E-D2D45750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3BA0-5103-4FAD-AD82-743DA08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75CF-AA2D-4A00-B74A-3BD0FE83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A60A-8D46-4412-A9B3-78F67934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3937C-9C78-41A0-9FAA-1EFE422A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B829D-F8FF-4510-8E22-D983BA5B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E2C5-A701-4B85-BF3F-C4BA5450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99612-5FB0-4B35-B60F-7D13D7B4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2607-6FBD-453B-A201-D3FC3A4A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7B8-D4D8-49FA-B2C7-E0DF0DFA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855A-221F-4617-A5EF-45E9FBF1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937B3-F292-4A7D-ACBA-84C20C7F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3F5C2-5316-4895-9F5D-C8C22A6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861E5-E28B-43DE-AF77-4ABEC4E7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71E2-86FF-4CC1-8ABB-49C074D8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C3AC9-2872-4C5E-88EA-69A629EFA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49FF-C1BA-46CE-A6D0-BC30E709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28EA-5813-410E-92E5-1E003FB8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71734-3B40-49BF-8DA2-9A0FC35B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38786-85C4-4C91-A3BE-2B46518D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F0F-DDCE-4F9D-9540-F85E1A9F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44976-84B6-498F-9565-4D1ABFEE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8799A-1F86-41D3-8FE7-C137FF3D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EF2F-B70A-45C2-800A-7FEC7EEC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BF45-62CC-4365-A47E-D8B44857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32571-0A27-45FE-A84B-86329737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2EE7-2A17-45EB-8B76-247FD053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FBC22-CB40-44BE-9004-6A5C1434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FF1E-75A3-4D81-9211-DC0CF90B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73214-A0A0-4746-A9A7-096CAE5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EFD2-9409-4DBD-902E-8674EAEF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C78-80B0-4238-8825-968D25C4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044-A00D-4D82-A2E6-3D59FC5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B782-08B1-473B-8F96-95B7CB9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31C-65D0-487F-B34A-AAFC16CC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46BC-CAF2-4F25-AB25-9DDF6F9B60E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2AF-8FED-48EC-A176-5D2EE889A35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3E6C-D5C2-4175-B9E4-2685F369FD3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3557-1BD8-422B-A34D-BA0DF71331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80960" y="1298520"/>
            <a:ext cx="8102520" cy="2938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НАУКОВІ ШКОЛИ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Constantia"/>
              </a:rPr>
              <a:t>Літературний процес: проблеми типології і спадкоємност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Засновник: Тихомиров Володимир Миколайович, доктор філологічних наук, професо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аукові керівни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авленко Ірина Яківна, доктор філологічних наук, професор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Погребна Вікторія Леонідівна – доктор філологічних наук, професор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alibri"/>
              </a:rPr>
              <a:t>Грантова та міжнародна діляьність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Скругленный прямоугольник 3"/>
          <p:cNvSpPr/>
          <p:nvPr/>
        </p:nvSpPr>
        <p:spPr>
          <a:xfrm>
            <a:off x="755640" y="1773360"/>
            <a:ext cx="3240000" cy="1800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Міжнародні програми оакадемічної мобільності студентів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оль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Скругленный прямоугольник 4"/>
          <p:cNvSpPr/>
          <p:nvPr/>
        </p:nvSpPr>
        <p:spPr>
          <a:xfrm>
            <a:off x="4794120" y="1916280"/>
            <a:ext cx="3529080" cy="13665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годи про співробітництво: Польща (Вроцлав, Люблі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Болгарія (Софі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ловачч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Скругленный прямоугольник 6"/>
          <p:cNvSpPr/>
          <p:nvPr/>
        </p:nvSpPr>
        <p:spPr>
          <a:xfrm>
            <a:off x="611280" y="3789360"/>
            <a:ext cx="345600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Мовна практика студент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кругленный прямоугольник 7"/>
          <p:cNvSpPr/>
          <p:nvPr/>
        </p:nvSpPr>
        <p:spPr>
          <a:xfrm>
            <a:off x="5292720" y="3500280"/>
            <a:ext cx="3024360" cy="1297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ідвищення кваліфкації НП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(2017-2018 рр.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Скругленный прямоугольник 8"/>
          <p:cNvSpPr/>
          <p:nvPr/>
        </p:nvSpPr>
        <p:spPr>
          <a:xfrm>
            <a:off x="541440" y="5013360"/>
            <a:ext cx="345600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Фінансування наукової продукції (2018 р) – Запорізька обласна ра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кругленный прямоугольник 9"/>
          <p:cNvSpPr/>
          <p:nvPr/>
        </p:nvSpPr>
        <p:spPr>
          <a:xfrm>
            <a:off x="4818240" y="5067360"/>
            <a:ext cx="3455640" cy="1008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Літні мовні школи (Польщ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Виробнича практика (перекла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4617b"/>
                </a:solidFill>
                <a:latin typeface="Calibri"/>
              </a:rPr>
              <a:t>ПУБЛІКАЦІЙНА АКТИВНІСТЬ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Скругленный прямоугольник 4"/>
          <p:cNvSpPr/>
          <p:nvPr/>
        </p:nvSpPr>
        <p:spPr>
          <a:xfrm>
            <a:off x="1042920" y="2205000"/>
            <a:ext cx="2376720" cy="15843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Фахові  видання – 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Скругленный прямоугольник 6"/>
          <p:cNvSpPr/>
          <p:nvPr/>
        </p:nvSpPr>
        <p:spPr>
          <a:xfrm>
            <a:off x="3780000" y="2133720"/>
            <a:ext cx="2016000" cy="1655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ублікації у зарубіжних наукових виданнях – 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Скругленный прямоугольник 7"/>
          <p:cNvSpPr/>
          <p:nvPr/>
        </p:nvSpPr>
        <p:spPr>
          <a:xfrm>
            <a:off x="971640" y="4292640"/>
            <a:ext cx="3313080" cy="1512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ублікації в іниших наукових виданнях – 4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Скругленный прямоугольник 8"/>
          <p:cNvSpPr/>
          <p:nvPr/>
        </p:nvSpPr>
        <p:spPr>
          <a:xfrm>
            <a:off x="5435640" y="4365720"/>
            <a:ext cx="3168720" cy="1295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Кількість цитувань – 2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Скругленный прямоугольник 9"/>
          <p:cNvSpPr/>
          <p:nvPr/>
        </p:nvSpPr>
        <p:spPr>
          <a:xfrm>
            <a:off x="6372360" y="2133720"/>
            <a:ext cx="2303280" cy="15825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Монографій –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Навчальних посібників – 1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Наукове консульування / експертне середовищ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Скругленный прямоугольник 3"/>
          <p:cNvSpPr/>
          <p:nvPr/>
        </p:nvSpPr>
        <p:spPr>
          <a:xfrm>
            <a:off x="900000" y="2133720"/>
            <a:ext cx="3311640" cy="19429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Експерти МО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Членство у  редакційних колегіях наукових видань України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часть у міжнародних експертних ра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- проф. Павленко І.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Скругленный прямоугольник 4"/>
          <p:cNvSpPr/>
          <p:nvPr/>
        </p:nvSpPr>
        <p:spPr>
          <a:xfrm>
            <a:off x="5003640" y="2133720"/>
            <a:ext cx="3313440" cy="1655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часть у МАН (секція – Російська мо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екція  - фольколористика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Скругленный прямоугольник 5"/>
          <p:cNvSpPr/>
          <p:nvPr/>
        </p:nvSpPr>
        <p:spPr>
          <a:xfrm>
            <a:off x="2556000" y="4581360"/>
            <a:ext cx="3960720" cy="151164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півробітництво із науковими установами  НАН Украї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півробітництво із органами державної влад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СТУДЕНТСЬКА НАУКОВА РОБО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Скругленный прямоугольник 3"/>
          <p:cNvSpPr/>
          <p:nvPr/>
        </p:nvSpPr>
        <p:spPr>
          <a:xfrm>
            <a:off x="468360" y="2133720"/>
            <a:ext cx="3311640" cy="1511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ризери  Всеукраїнського конкурс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тудентських наукових робіт – 7 осі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кругленный прямоугольник 4"/>
          <p:cNvSpPr/>
          <p:nvPr/>
        </p:nvSpPr>
        <p:spPr>
          <a:xfrm>
            <a:off x="5148360" y="4437000"/>
            <a:ext cx="3311280" cy="1513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 часть у програмах міжнародного обміну;  грантових програм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(2018 р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кругленный прямоугольник 5"/>
          <p:cNvSpPr/>
          <p:nvPr/>
        </p:nvSpPr>
        <p:spPr>
          <a:xfrm>
            <a:off x="684360" y="4437000"/>
            <a:ext cx="3311280" cy="15130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Студентські публікації – 80  (у т.ч. у зарубіжних видання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кругленный прямоугольник 6"/>
          <p:cNvSpPr/>
          <p:nvPr/>
        </p:nvSpPr>
        <p:spPr>
          <a:xfrm>
            <a:off x="5003640" y="2205000"/>
            <a:ext cx="3313440" cy="1511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ереможці Всеукраїнської студентської олімпіади з фаху – 2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Підготовка та перепідготовка кадрів / аспіранутра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468360" y="2133720"/>
            <a:ext cx="3311640" cy="25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Керівництво аспірантурою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роф.  Павленко І.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Доц. Хейлік Т.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Доц. Мацегора І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Скругленный прямоугольник 4"/>
          <p:cNvSpPr/>
          <p:nvPr/>
        </p:nvSpPr>
        <p:spPr>
          <a:xfrm>
            <a:off x="4716360" y="2060640"/>
            <a:ext cx="3311640" cy="252072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Підвищення кваліфкац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(робота Школи філологічних нау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Участь у роботі Центру перепідготовки державних службоців Запорізької обласної ра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4617b"/>
                </a:solidFill>
                <a:latin typeface="Calibri"/>
              </a:rPr>
              <a:t>НАУКОВІ ЗАХОДИ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Скругленный прямоугольник 3"/>
          <p:cNvSpPr/>
          <p:nvPr/>
        </p:nvSpPr>
        <p:spPr>
          <a:xfrm>
            <a:off x="468360" y="2133720"/>
            <a:ext cx="3311640" cy="25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Всеукраїнська наукова конференці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Запорожжя у гуманітарному дискурсі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Скругленный прямоугольник 4"/>
          <p:cNvSpPr/>
          <p:nvPr/>
        </p:nvSpPr>
        <p:spPr>
          <a:xfrm>
            <a:off x="4356000" y="2060640"/>
            <a:ext cx="4103640" cy="251928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Всеукраїнська науково-практична Інтернет- конференція студентів, аспріантів, молодих учен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uk-UA" sz="1800" spc="-1" strike="noStrike">
                <a:solidFill>
                  <a:srgbClr val="ffffff"/>
                </a:solidFill>
                <a:latin typeface="Constantia"/>
              </a:rPr>
              <a:t>Актуальні проблеми словянської філології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12T18:22:33Z</dcterms:created>
  <dc:creator>Иван</dc:creator>
  <dc:description/>
  <dc:language>en-US</dc:language>
  <cp:lastModifiedBy>Иван</cp:lastModifiedBy>
  <dcterms:modified xsi:type="dcterms:W3CDTF">2019-09-23T10:51:06Z</dcterms:modified>
  <cp:revision>32</cp:revision>
  <dc:subject/>
  <dc:title>Презентация PowerPoint</dc:title>
</cp:coreProperties>
</file>