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825-1614-4817-93C1-966E53B1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3B3-E405-4CAC-B8D5-D92C4876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1CF9-78CD-4E70-AB74-2965D2C0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E2B-9414-45E2-B3A5-B45DA40C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E8D-F34B-4B68-B9DF-75F0C8A9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148-DB32-40E4-9F2A-66A300DF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E2C-806F-4FA5-8BFF-92608BFD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5535-3150-4680-94EC-BA909D7F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74D-02A7-47DE-A80A-ACC999BE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415-696E-40EF-BF4E-F538C90E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92C-478C-4CBC-986B-2CD4A5EC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95B-76DE-4ED7-AA1B-08B2A9FD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B47A-849D-41C3-A03D-E165054E9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9400" y="141120"/>
            <a:ext cx="88452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9400" y="141120"/>
            <a:ext cx="88452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9400" y="141120"/>
            <a:ext cx="88452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9400" y="141120"/>
            <a:ext cx="88452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9400" y="141120"/>
            <a:ext cx="8845200" cy="6573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9400" y="141120"/>
            <a:ext cx="88452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9400" y="141120"/>
            <a:ext cx="88452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9400" y="141120"/>
            <a:ext cx="88452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21-04-18T16:35:28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