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75.xml" ContentType="application/vnd.openxmlformats-officedocument.theme+xml"/>
  <Override PartName="/ppt/theme/theme63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29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70.xml" ContentType="application/vnd.openxmlformats-officedocument.theme+xml"/>
  <Override PartName="/ppt/theme/theme28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</p:sldMasterIdLst>
  <p:notesMasterIdLst>
    <p:notesMasterId r:id="rId76"/>
  </p:notesMasterIdLst>
  <p:sldIdLst>
    <p:sldId id="256" r:id="rId77"/>
    <p:sldId id="257" r:id="rId78"/>
    <p:sldId id="258" r:id="rId79"/>
    <p:sldId id="259" r:id="rId80"/>
    <p:sldId id="260" r:id="rId81"/>
    <p:sldId id="261" r:id="rId82"/>
    <p:sldId id="262" r:id="rId83"/>
    <p:sldId id="263" r:id="rId84"/>
    <p:sldId id="264" r:id="rId85"/>
    <p:sldId id="265" r:id="rId86"/>
    <p:sldId id="266" r:id="rId87"/>
    <p:sldId id="267" r:id="rId88"/>
    <p:sldId id="268" r:id="rId89"/>
    <p:sldId id="269" r:id="rId90"/>
    <p:sldId id="270" r:id="rId91"/>
    <p:sldId id="271" r:id="rId92"/>
    <p:sldId id="272" r:id="rId93"/>
    <p:sldId id="273" r:id="rId94"/>
    <p:sldId id="274" r:id="rId95"/>
    <p:sldId id="275" r:id="rId96"/>
    <p:sldId id="276" r:id="rId97"/>
    <p:sldId id="277" r:id="rId98"/>
    <p:sldId id="278" r:id="rId99"/>
    <p:sldId id="279" r:id="rId100"/>
    <p:sldId id="280" r:id="rId101"/>
    <p:sldId id="281" r:id="rId102"/>
    <p:sldId id="282" r:id="rId103"/>
    <p:sldId id="283" r:id="rId104"/>
    <p:sldId id="284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notesMaster" Target="notesMasters/notesMaster1.xml"/><Relationship Id="rId77" Type="http://schemas.openxmlformats.org/officeDocument/2006/relationships/slide" Target="slides/slide1.xml"/><Relationship Id="rId78" Type="http://schemas.openxmlformats.org/officeDocument/2006/relationships/slide" Target="slides/slide2.xml"/><Relationship Id="rId79" Type="http://schemas.openxmlformats.org/officeDocument/2006/relationships/slide" Target="slides/slide3.xml"/><Relationship Id="rId80" Type="http://schemas.openxmlformats.org/officeDocument/2006/relationships/slide" Target="slides/slide4.xml"/><Relationship Id="rId81" Type="http://schemas.openxmlformats.org/officeDocument/2006/relationships/slide" Target="slides/slide5.xml"/><Relationship Id="rId82" Type="http://schemas.openxmlformats.org/officeDocument/2006/relationships/slide" Target="slides/slide6.xml"/><Relationship Id="rId83" Type="http://schemas.openxmlformats.org/officeDocument/2006/relationships/slide" Target="slides/slide7.xml"/><Relationship Id="rId84" Type="http://schemas.openxmlformats.org/officeDocument/2006/relationships/slide" Target="slides/slide8.xml"/><Relationship Id="rId85" Type="http://schemas.openxmlformats.org/officeDocument/2006/relationships/slide" Target="slides/slide9.xml"/><Relationship Id="rId86" Type="http://schemas.openxmlformats.org/officeDocument/2006/relationships/slide" Target="slides/slide10.xml"/><Relationship Id="rId87" Type="http://schemas.openxmlformats.org/officeDocument/2006/relationships/slide" Target="slides/slide11.xml"/><Relationship Id="rId88" Type="http://schemas.openxmlformats.org/officeDocument/2006/relationships/slide" Target="slides/slide12.xml"/><Relationship Id="rId89" Type="http://schemas.openxmlformats.org/officeDocument/2006/relationships/slide" Target="slides/slide13.xml"/><Relationship Id="rId90" Type="http://schemas.openxmlformats.org/officeDocument/2006/relationships/slide" Target="slides/slide14.xml"/><Relationship Id="rId91" Type="http://schemas.openxmlformats.org/officeDocument/2006/relationships/slide" Target="slides/slide15.xml"/><Relationship Id="rId92" Type="http://schemas.openxmlformats.org/officeDocument/2006/relationships/slide" Target="slides/slide16.xml"/><Relationship Id="rId93" Type="http://schemas.openxmlformats.org/officeDocument/2006/relationships/slide" Target="slides/slide17.xml"/><Relationship Id="rId94" Type="http://schemas.openxmlformats.org/officeDocument/2006/relationships/slide" Target="slides/slide18.xml"/><Relationship Id="rId95" Type="http://schemas.openxmlformats.org/officeDocument/2006/relationships/slide" Target="slides/slide19.xml"/><Relationship Id="rId96" Type="http://schemas.openxmlformats.org/officeDocument/2006/relationships/slide" Target="slides/slide20.xml"/><Relationship Id="rId97" Type="http://schemas.openxmlformats.org/officeDocument/2006/relationships/slide" Target="slides/slide21.xml"/><Relationship Id="rId98" Type="http://schemas.openxmlformats.org/officeDocument/2006/relationships/slide" Target="slides/slide22.xml"/><Relationship Id="rId99" Type="http://schemas.openxmlformats.org/officeDocument/2006/relationships/slide" Target="slides/slide23.xml"/><Relationship Id="rId100" Type="http://schemas.openxmlformats.org/officeDocument/2006/relationships/slide" Target="slides/slide24.xml"/><Relationship Id="rId101" Type="http://schemas.openxmlformats.org/officeDocument/2006/relationships/slide" Target="slides/slide25.xml"/><Relationship Id="rId102" Type="http://schemas.openxmlformats.org/officeDocument/2006/relationships/slide" Target="slides/slide26.xml"/><Relationship Id="rId103" Type="http://schemas.openxmlformats.org/officeDocument/2006/relationships/slide" Target="slides/slide27.xml"/><Relationship Id="rId104" Type="http://schemas.openxmlformats.org/officeDocument/2006/relationships/slide" Target="slides/slide28.xml"/><Relationship Id="rId105" Type="http://schemas.openxmlformats.org/officeDocument/2006/relationships/slide" Target="slides/slide29.xml"/><Relationship Id="rId10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376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 type="dt" idx="149"/>
          </p:nvPr>
        </p:nvSpPr>
        <p:spPr>
          <a:xfrm>
            <a:off x="4279680" y="-360"/>
            <a:ext cx="32684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 type="ftr" idx="150"/>
          </p:nvPr>
        </p:nvSpPr>
        <p:spPr>
          <a:xfrm>
            <a:off x="0" y="10156680"/>
            <a:ext cx="326880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PlaceHolder 6"/>
          <p:cNvSpPr>
            <a:spLocks noGrp="1"/>
          </p:cNvSpPr>
          <p:nvPr>
            <p:ph type="sldNum" idx="151"/>
          </p:nvPr>
        </p:nvSpPr>
        <p:spPr>
          <a:xfrm>
            <a:off x="427968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027CC-8D35-4CD8-9D0F-E1F07F47AB6E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865F4-8805-47D7-8BC9-C9B7471604AE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5505B-6FD6-401D-A7A7-D740F2E18DF9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DB253-9F3B-469A-BAEF-B4990CEBF9A3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DD776-C049-4F9E-A595-097B1A264703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4F05C-90C1-4AFA-92CB-890E4626AE37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43B8B-6845-4357-AFE6-F28FDC1DAAD1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4B51D-16D3-42A2-8995-7B306F0C43C5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8726E-52A3-4EDD-8054-EEBE97B93C39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7E454-691F-4BC1-A189-2685A9C90375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CDD33-0066-4B72-AC8E-EC5B92A71D8F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22BFE-A46A-41F9-AFBB-BD30A999DC1F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36AB2-3FE4-4F35-A08B-125B4D822E64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43E54-C28F-42F9-99D7-5242B0F73231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DC835-B20F-468D-9562-33E4CEF1B6ED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F3DB9-9A72-42FD-BE37-68551EF2FE7B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00DA0-367A-4A47-9305-17FC0210CCA7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603F4-06EE-40F8-B668-B1168199AC0E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86686-F523-4530-8B22-E5B25F25603F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527F2-FEDB-4762-8649-AF198D080069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880328-6E6B-40A7-941E-340F6EA27C41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4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B8058-B360-4F71-AC9B-69329375B238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77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2DB1F-4871-4888-8787-837CA8380EA0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4DE66-A043-4D28-AE15-D9704B91AB2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0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4DE42-2DB3-4B3D-AE88-4785E020BC7F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2AFC1-60D1-436A-B60B-FEED64045C9F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BAA71-4B20-4839-949F-2BB8B2291C94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9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CF974-B3D4-491E-B354-F0A295ABD7C0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4120" cy="4000320"/>
          </a:xfrm>
          <a:prstGeom prst="rect">
            <a:avLst/>
          </a:prstGeom>
          <a:ln w="0">
            <a:noFill/>
          </a:ln>
        </p:spPr>
      </p:sp>
      <p:sp>
        <p:nvSpPr>
          <p:cNvPr id="3111" name="Text Box 2"/>
          <p:cNvSpPr/>
          <p:nvPr/>
        </p:nvSpPr>
        <p:spPr>
          <a:xfrm>
            <a:off x="75564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B6641-AB16-43C1-A853-0D90AC2F777C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A799D-94AA-47A5-8AFB-29008002BBA3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Rectangle 12"/>
          <p:cNvSpPr/>
          <p:nvPr/>
        </p:nvSpPr>
        <p:spPr>
          <a:xfrm>
            <a:off x="4280040" y="10156680"/>
            <a:ext cx="32684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B2593-C424-41EF-8961-829A14783201}" type="slidenum">
              <a:rPr b="0" lang="uk-UA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2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98077-7A09-4252-ABC0-D174805EE9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DD31-5E5B-4E4C-BB41-B5FF1094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E458D-5F90-4AAC-B8A9-746106D7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02249-B47B-4AD4-8191-76EB4926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0BB90-911B-46CC-8FF1-88A00564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39DF4-8C98-493B-A879-36BA08D1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FEFAA-A9DB-4813-B7DE-B50BF30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4D94E-651F-44AC-8467-706FF4A9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F2CA3-72C0-4F4B-B444-DE3E97A6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D1100-4609-4723-888C-B538D35B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F5151-E409-4C1D-A60A-FDE0E67E1C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568FC4-91A4-466D-A47D-D3E3CA50D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426AC-8774-4865-BA86-B3128F73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E143A4-2199-4025-93C7-819972C5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F0277C-5215-4B0A-AC5B-547DAB75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75EC2-CF82-4099-A2B4-7592E502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E6C121-B34B-4DF9-8C5C-0C3AFC88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F60C74-4E11-498A-96A7-B7EBED6F3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F4A72D-6ABC-4F55-8B7A-4104973D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D3CCBB-1268-47B7-A0EB-17ABDE3D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95FAC6-FE80-4C58-9880-E8C39B42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FA7F48-330E-4A08-A4A6-977E4793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DDD640-A9A7-4BCE-9339-F1D25E51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A82D4-C283-4274-827B-54A536EE90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FC6C1-7AC5-4661-B2FC-3582300EF5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80FBEF-C41B-4441-AAB8-DC728B4A7D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54F75A-1D02-4846-B48F-214A913F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2E351D-1E3E-44D9-8EED-FF404C45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FB5920-765D-4E75-8024-A32409288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660DB5-4F74-4B43-8B22-9998F632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384AD8-F177-4184-9654-3AA81DC1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E4A3D4-C81A-4EA8-A919-70F80D1E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91D700-80A5-437A-8A9E-B20E40DC0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242C1C-0B62-440F-B786-F36C0F3E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02D28-BD17-47C1-99B3-9C16CAB0C8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334616-7695-443F-8326-ADFC6E2F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823774-1DC2-4BFC-B718-C30F7D04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2B7F21-85F1-4D94-9460-719FCF4DE9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1D308-592A-41BD-BD21-0CF8B96C12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19627-493E-4558-B73D-B6AAB0D1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21370-087C-4A67-9521-344659DF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70BA-196D-4C93-847E-2CC47985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DA383-0D0D-4686-AF79-EA24318F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A2CFA-99D5-4FAA-824F-DF2F25A4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7A33B-955C-4FD2-9766-B4AFACC3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16710-2B54-4B4F-B1D1-1B1F6486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47166-FE2E-4B00-A62C-15E174F9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8E025-0405-4A47-B420-14DB1CC3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A6809-47DD-4A4A-9035-90B28C31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EFD1B-0110-4369-9023-71842FC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FD93A-F64C-4FAB-933F-DDAE1DCC8F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B8B0C7-868C-4C26-A8FA-32CF25EEB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701177-75AE-4EF2-9DAD-31AE6F5B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DF535A-9094-423E-9E0C-F4759D0F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7BCAEA-CA4F-44FD-AB47-08B0604B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1BA392-3E23-4F8B-BA3C-58F5837F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81D47-C095-431B-9270-25080C8E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DCA5BD-5E5E-406C-B968-05B06B03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407845-35BC-47D1-8822-F54BB411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1C94E8-1E0F-4EB7-AED8-FD4EB58A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CAB479-AACF-4F93-B2D9-C634B978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D3DD06-A412-475D-8DF7-025FE9E1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24F9F-319B-453C-A0C9-A2337B66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27877B-AC1A-49E9-9455-B7A114826C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24573A-C2D9-449C-BF43-2E63445BF2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F3C0A-21F5-432F-80DA-BFD1A635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E81085-C3AB-43F6-91F1-A5D89F21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64DD1-7A07-4D42-9BF9-271226DA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8B9786-149A-44D9-BD9E-2CC8899A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A1DF56-9C2D-4F59-AB96-3812B995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C6161-8ED3-48F6-B237-171B6F9C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FB09CC-42D0-44CB-9D6C-91DB57E49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CAB4EA-B168-41FD-AD62-DA481FCA9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13F95D-1622-448A-B3E2-60179687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DC87F-88BA-4ED6-AE15-61D9BC24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9A4B3-2474-4085-9922-B22979D4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0DEBD3-6B70-40D8-B7CD-A2A9239D36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D96249-FE63-4CAC-8D1C-D92B1C44C5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2111F-0842-4DE6-A1FA-4EC0EC462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52A3C-E5B4-4726-8E49-CE368076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061F6-2DCC-47CE-B584-DA56B392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33249-FC7D-45B3-A4E2-5B1D98D0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8A091E-1858-4E2A-9C30-F263C491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5AD37-454A-40B8-9910-F1A5FE2A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AB0D9-7CC2-4831-AC09-7500B2B6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EB301-BD7A-486C-B7F8-D6900882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DD319-60FC-49F7-915F-B2A82196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CB336-F24C-49F5-9F49-9CB55902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54122-6741-4BBF-AC72-94A8B66B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D6EA3-F95B-4E59-8131-84BE3C00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CFBAC-8DD7-44A9-90A1-4B7F6E65F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D3418A-1B66-4D79-9B8B-43C4468DFE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E37109-7F07-48D4-9FE3-9BD4C1FE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E93408-28A0-46F0-BA57-BF6C6734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EE4D6B-96EA-4BE3-B588-5CDC41CE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DE64FD-82E9-4E81-8993-FA4E99F30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6FC4E9-346F-4670-A859-0D94933C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968807-E361-4221-99CD-462FD034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3885C5-37AD-4BA1-B72F-A7C05BA9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6ECA70-C8CE-45D5-9537-E23A0BDE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78D35-CD4D-410A-A2BB-4F961998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361744E-E80B-4042-9F5F-D8DD95CD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EF5CEAF-C56B-4B45-A97A-8CA0D748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CB8453-058B-4506-B5C6-167883AD72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BC0EFE-92EA-428C-A7C0-79536D3998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19F340-AD2F-497D-8E7A-DFF6C74A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951CD-D666-4E97-A1CC-F4D483A7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C19CF3-1218-44B7-BA40-908965BD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EB30F6-689D-4944-937B-208E4F24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5DB32-878C-4667-A8FC-1FA1FFBE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F4302-A52B-4FDE-A795-D69CF782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1BA4-B469-4EE1-944D-3C1EF150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0B8F8-FC09-4460-B1F7-ACA10E82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D5C09-5DA5-4EDD-99E1-C6E5B967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2178F-D86F-4513-8308-CEE20E27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996A7C-8137-4479-B0DE-EC7FD789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FEC058-537E-4726-9CB1-7D11EE94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4294D-F0CB-4626-95FB-D9D9CD57C1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36897-9212-460C-8F81-D1771E61AF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96221-8452-42D7-AE12-1FDF5672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4372A-5EFE-4DC0-A205-4D439430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13C29-037D-405E-9681-5E252279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BC30D-E4EB-4796-B61A-69B5507F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B5D62-2553-4ECD-804F-CF22DA2A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345F0-6D1C-4163-B629-858133FF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BE982-631A-4716-AC96-92D48D5F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EFADF0-532A-47C6-8793-DDAE0BF3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16A0CD-5080-4032-91D0-8E3224BE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2C435-52D0-476B-ADB2-50582CC0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EDCEB-9DFD-42F7-96A7-8B44134D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6BB1A-704E-43E0-91F4-9217B4CA81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4C6190-4B79-4F53-9AD1-C85F529D9B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99D001-A72E-4A13-9D70-18C864EC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6C567A-65E4-4F1D-B411-6C55E8FF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E79E9-56E0-47F0-9028-4776F547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301C54D-F9B5-4527-BD2C-11BAF5E6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013839-C634-42BE-A133-BCBD1767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C34070-4D8F-438E-882D-F11EA510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49ED0B-9B37-4268-90DF-702FA51A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95B679-89F6-4AF7-B092-F9A6A1D7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254C82-72DA-4B3F-B55F-949C5375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E1494A-7349-4908-A19C-ADE2A582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9CC9A7-760B-4A13-AA35-EAB60816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0C66AB-C7E4-4108-B51E-B17B7AA1F8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733217-6A28-4787-90B0-5319A4C4B6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D5CC0-6E8E-4F9A-A784-1D732A40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5FC1100-42F9-4A40-9803-5048ACB0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4FC7F14-BC4A-4BBF-BD49-E0A8D858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9F4D47-8C97-48BC-9481-096840E4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4E63953-0178-419C-8475-EE75C8A5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99A66E-CFE7-4796-BC34-7CB9EF2C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7227CE-1EB3-4B83-99D3-FEEE05BD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43EE02-E890-4F03-8581-F4686E5F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8EDB856-8708-43D4-ACB6-3050A61E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7F3D17C-8F33-419F-9C89-84844E09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5FABDC-C775-4DBC-8619-069BF7A6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32C17-630B-4648-8C27-ECB6E11ABB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9FC286-45EF-4845-ABB3-02EE75BC2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A631A4-FC40-4936-8394-7A742DA5DE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75D16-1C1A-447A-A8F1-94B00DAE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F2DB02-B00C-49DE-902C-E7286320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3EFDB3-7887-47DB-9750-C533135D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0459D-6803-41F9-AE2D-CDEA17A4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21DC9A-C574-47EE-9305-7FE186CF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A286E5-F8E2-4731-A024-52B20C62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59C4D-C18F-4FCD-B8C4-84D5AA66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F3FE9-742C-4782-88BA-C328F94A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4CCF-3941-4AE3-A7CE-C56B45AB90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48D063-A901-44B0-B05A-C9C90A2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9C32C-7DB4-426E-84A8-E808161B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01802-B069-4508-8846-DF5BEB64B7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12FAE9-6DC5-4C8A-8E08-8F8101259B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9AD7C5-B70C-4ADB-8577-A0EB1955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BC3EB9F-FD55-4E19-81D8-DE7B47DF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80DC6C-0F7D-4AB6-B6DD-9ABE2BE2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73B2AC-653A-4F3B-990A-82E216E2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3DC5640-8EB7-43C5-885A-6EF3A8EC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D4C2C9D-96B0-4A14-AD45-0E971D3B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1175-448F-47B8-A760-5AECA1AC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0A39F9-6030-40E8-8DF9-1CE33299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2F8363C-0229-4F70-892A-D0A655D5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5240AA-EAB2-42E1-8813-1FEB8EEE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E091D1-A12B-43EC-9D9B-937D6771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95C66D9-501B-4EA2-928C-FE5D4AC287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A4C69C9-6EBF-4B00-A2BF-9FC3F00D20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BE3D01D-3C55-44BC-A236-D64C1C6F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2D2E63-A1E2-4777-9E7D-6D6121DF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5D1B26-71D5-4A37-9F2B-2650DE1D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8499D7E-6504-492F-853C-644A35C1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5B1E-A0B3-4CC6-BB4F-5796F86B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71B0E5-1125-44C0-8656-718C283A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9D2799D-ECE7-4298-9EB3-BEE52698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989805-D956-44F2-A714-D48B1C84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518226C-990F-4178-AE6F-6A8E66CE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D89C5B8-9182-4D3C-AA79-A42115A1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451BFB-9A84-4260-AAA3-FBE4F8CC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66BE0E5-84AE-4916-953C-DA2F77F2F1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974168-D76C-48E6-B209-FB2C47A357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8DA6C2-020B-41DD-9A5C-AD1A5C64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3D57F-2891-4CCD-85F3-AFDC1D0B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5DE2-89D4-4BB5-9085-E4ED3409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1E189-7935-4914-8309-EBA18A37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576166-34BA-4C9E-ACD8-F65B34C7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A348AF-1764-4A83-B654-DCBC12F7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EB06F-911A-40B1-921E-803AA224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81699A-D6AD-4D31-8903-D40D8C58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834932-DC7F-48D7-8B8B-8616B15A0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165A5-D81F-449A-8A96-4C975B39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68BCD-4027-48F6-9421-35C62856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7A121-DF76-4EFD-9F32-E97002138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24FC8DD-BF18-407F-959C-5DBD21C0C7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3382-1B77-4413-9099-FC722E64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C40ACFF-325E-436C-A89C-971873AE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36891EE-6228-4287-A583-98CF41F3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33E868-B245-475C-BFDE-BEFF6FA6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20D507-C196-4AC4-81FF-5C759681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1726E90-30D5-4070-A685-B32DB869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331D2F-D28D-4BC1-B9F7-10EF43FB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5150D9-F070-4E8C-BA32-D20CE542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375E988-D6FB-4259-AE81-D3863568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3DA659-9FA8-4CB8-B4EE-51DB782D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74959A-883F-4D35-953B-A5739457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87A2-332B-4390-A0D8-FFA1F498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FF50C-BE14-43E7-91BE-BC415429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810683-C0A8-45AC-9F99-5E4694EC44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C5FC737-6F30-41EB-85CD-F69CC95EE7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C03F1A4-AB02-479E-9C6C-59CAADEC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5748CC-FE95-4021-8683-FA541353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6CDF8D-1C6F-437D-9E5C-47225D2C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B73BF19-4A6F-43FE-AC1C-A33C81E7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A3A77D-3660-4429-9614-4C1F48FD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AFF1A7D-68B0-4227-8A90-F2B32B75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452FF35-B3B5-4585-859A-37F70E90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6E3061-3A25-4458-9EB4-9F699706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DB46-FD22-4805-BEE4-0E1A10C7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DC47A60-4E53-4E94-A874-881101EF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9A525CE-9F0A-409A-8993-4D1180B8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EBFCB66-6281-4279-A61F-1452F782B7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556B9D-C03E-40B8-BE68-A9889B98F6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FFCE6D-568F-48B5-BB24-773EA3C1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AEC611-ECDA-4027-9F75-AA065294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E1C48-0D70-4433-9A26-C62836F9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F805F-6304-496D-AD1E-58DEEA449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4F0BE2-F33B-442D-916F-2F962CA5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2C8F7-AC28-43F1-869C-2D378E12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F407-5EFE-4948-8164-60C90AD5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E59C4F-ED3B-43BD-B13A-897C0ABD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ADECAA-DDEE-480F-B8B4-6D692A70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95EBE6-D813-4C85-BC57-D30E727E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1B5CD0-B0CF-47E6-92EA-E0CD091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E8E1A-6F81-4495-BBCF-08C1F3569C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7770D8-A07C-473D-831C-AEAC625CEF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6EDB37-74AF-47BF-AB3F-AD0C8C17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72FCFE-0D03-4217-ABE4-D6176B4C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064911-C8DB-46BF-A951-F8A3FC63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681C3F6-A33E-4371-8956-E1034992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0498-1DC1-4BFA-BD97-AF4CEF0A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91BA8A-15D1-4BE8-9D4B-788847E6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1363982-71DA-4E4F-A2D8-895F0C4A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6D4750-C89A-4F34-98F4-236EE037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2D30E55-20C7-4C0E-86DC-9C13BB9B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27A575F-B4AA-48C7-BA8C-20D135F2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1AB5E58-5ABF-43EC-889C-6F6AD8B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A4CFFF-3B55-4021-8253-A9DA186F84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6ED8068-6BEB-4212-88D0-8721D2C184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FF5689C-4792-4591-ADB5-C454C9A3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3D45C27-03C0-43B8-AF2D-A434B822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0EC7-486F-45FA-AF9D-840276A9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9C089DC-9DDB-4741-B721-3FC4F7A6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929E50-07B8-4F89-A2DD-B3A9CD297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8A6E4C-FF98-4FD2-A138-04AB9442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338FAA1-0203-445E-A475-BA30E620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587E6E8-D243-4BD3-AB32-3C746F3E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156E365-88F5-4503-A1F2-526A1252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0E2F15-C8AA-4C49-A9B1-6764FCC4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821D5A6-E3CE-44D0-815B-C57C308D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5A7AACF-FFA5-4D8D-B49C-C2CB816275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26FEC-EC3C-4123-BE73-A3440E590A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4D8E-520F-4195-B876-D37F631A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3F9DF3-B0E6-453F-8DFB-850AEC17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94FE9A-78BB-4998-B2DF-9D7E9A23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C2EF3B-D446-463D-9D68-05312949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D6A7F-3C4D-4EAB-8548-A90A5B47F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3A3B54-2FF3-440A-8376-9687BD13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DF53C8-7F4B-4D6D-AAF2-35796732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C4980-34A5-4098-91B5-CE45BAAB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00BD2-B75D-491B-8E84-8B758961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5C2052-A8ED-4CBC-9104-48E9C700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FEC14-B961-4720-805D-431C41A3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3FB1-160A-493B-806B-FBE86D22C6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2BE95-6ABD-452B-B973-ED965AD871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FD4A654-7652-4D13-8A5D-C666402341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CCCA7AD-700A-4F9F-B718-209AC78B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5A547E2-CB7C-47E7-BD75-C73FF695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8ADE92A-84FC-45DD-931E-67E6A0F6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E84237B-690F-4878-A2D9-F7EC39BC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85938FA-453E-4DD7-97C8-72B023EF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ADCE075-A26A-43A1-B47A-3A92C9D7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D815F2-71A6-4184-ABE6-1962C942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AE2C0E9-48B8-425E-A175-CC65C5BE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E52FF6-5088-4BC9-B06C-64BD626F88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D32261D-2DE4-40D6-B302-64B73824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AA7B78C-0348-49C9-9097-1C496CD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476836-0C47-4F14-8DD4-028E2B8778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AE35E6C-1BAF-492B-BEF7-96A62F1660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2BA026-1DF0-419A-932B-6BE1A039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13C3E4A-F5BD-4A36-99B8-EE9271E3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934E7E0-B6F7-4B95-AFAB-D917C74B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F5A31E9-C752-4953-9F03-518E45A8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A4D8F73-E32A-4881-9AC4-E7AC26CC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442E145-4ABC-4496-AA77-17C4D605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814D8-7CBE-4CC5-9E0A-A4B201BF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636FAAA-64EF-4E7C-82EF-14C9F3A2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A050247-889A-473C-9104-B66A7940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C55C7C3-3764-4D79-B19A-B1DF1BDF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B949488-1D38-4555-8D41-FD9B53F3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4AD7785-8367-4927-A193-D2BEBF12C0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70D270-58EC-4185-8BD2-1322786775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023AA4-8BA3-4DD3-9E73-7D5D5F25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7ABE52-7C65-42AE-A605-398B4543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7481AD-2962-416D-BF19-687EF112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4D1DC2-01E5-4258-94CE-BC021794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13F50-C99B-4948-9919-890E3AB7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71FB2A-B1A4-41F2-B5AD-6C738EB7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84B39C-3C59-4B43-9A69-56AC0F3F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0CA9A8-CAD5-40ED-83DA-E07E13AC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A2EC6A-AC5C-4A39-8756-32093ABB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1EABE8-FA88-4209-BD74-6133CDC4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C7103B-9EEE-4A12-A9A6-8E753A44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51A320-B2A6-4DFA-B72B-4C94F4D740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6C8D46-C108-45AB-86C7-94C938B69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4CCA35E-3335-4F17-ABED-E9E2ECC7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5A2E2CB-8AE4-4C9B-B8A9-4598AFBB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4EF3C-0A29-44D9-A8C1-7D54B3C3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18215-ECFE-4F30-83F6-129B7A4F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5A89889-B90C-4B33-B685-EAFB8A1A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A90081E-319B-4C60-8C25-E1E09C7A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EC10574A-7BAB-485D-8981-353F8731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E5D217F-F111-44E2-A4A8-0115A809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7F59DF6-8603-471A-86BE-D29D7A98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9D7DDB8-850B-46D2-8F49-1BC4130A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578D2E1-16C1-4570-B0BD-074A2C6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7430CBC-9C9A-43EC-AA46-95222B55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1098FBB-FD6E-4EAB-B7A9-360880F929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75B592-CBCD-4D69-9105-0F0BD0E48E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22190-C419-4144-910F-2D9BD9A6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21E50F7-BEAA-4E75-A0FF-9543AB5F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B96E3B2-E040-474C-A2C3-D5792DC5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D3F7A1-1A04-436E-BE29-E25C340F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EAD9C3F-6426-4FDE-BFF8-612EFA34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5A3E1A1-4594-47C9-BB69-AA47378C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9099C6B-2F3E-4029-B23E-E330F793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033825F-36D5-45FC-8205-718C907E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2647BD9-D716-4F25-86FE-ACAD3216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65126B8-50DF-4891-B549-BAFC5F3A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1CEDB9F-E938-4E12-8852-4C0AC276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C3347-B365-4014-9BBA-D5E3714F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111B574-3137-48BE-84CE-17BF20A4B9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E68E83-4FD8-42E1-BE53-9DB828422B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295071-C8FC-43FE-AE0B-A68512F8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18E580-0996-4949-8F5D-F22F78F2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B205E6-69EA-4CC7-89DC-93249141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41DC88-1561-477B-A039-B851597E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8B2F1C-869A-4716-8B6D-113524CF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437634-E259-418B-BB33-26D37091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1BE6E0-62D9-4DBD-A6F1-E3D94842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434718-C106-42BA-BD10-F245722F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9EEE31-1B3B-4497-A71E-24471477E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B0D1D6-98DF-4EE0-B248-E0A0C02D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F1A985-361B-433E-87E2-06BB6F91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7B786A-8C52-4563-8D32-E43711396E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7FC44AD-B82E-4F03-B059-33F1EFF740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3944F1F-08D6-4228-BDEE-746013B9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C186854-4B3B-4288-A1CD-9DA20ACD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474681B-1AFA-4E0A-979B-F09D3704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04238B2-F477-4D86-9197-6D91304A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15E6706-5442-4438-80EC-A6EC4C94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07CF41F-3D4D-437E-8B9A-774ED239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FCFCE-1BCB-4FFC-A85C-0F7E2C84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AD93CE5-19C0-4CCD-85FE-CDE8F038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0A804C1-6F12-4EE0-A812-ADDB9334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2292007-95C2-4244-9991-E6ABA2BF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8B2B390-6D03-447C-98D0-D55AB3AC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1C3585C-BAF2-4A6B-AA63-2042C6C888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BB01EED-0A61-455F-9FB7-6CD4377A3A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136879D-6334-47C7-A468-159C25D3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4136781-608A-4175-A5CA-0EAA2618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975F0D2-45EB-4C28-8479-C2470A73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5F0AD77-17EB-4746-A705-FAE553F6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E4C22-0367-4DCE-BF48-B28C72DB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4DEE7A8-24DF-4DB0-B011-C63985620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859F49E-7F94-4BC1-A205-E5BF9A2F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394886A-EA9F-482B-B5C3-29019AB9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BC3DBAF-C9B6-443C-A85F-2DA5A6C8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9932713-C3BB-4E9A-AE40-90004F64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65D11E3-43D3-471F-BD37-12A9BBF7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4C25D33-03D0-4C3B-A8B5-076617A3E2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1A3AC9-C94A-44DE-AC9A-F4A2178D2E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59E93A-6E62-455E-80C1-5790D320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657ED0-E2AA-4EDF-9BF8-17A2CD93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6DDFB-B92F-4AAE-AD4F-89384960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42D694-73BA-4548-BCD5-CF4C7D18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D5DB30-68C7-4B29-9688-E8EB0DF0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A2F30F-CBA2-45A5-BA7D-660EB288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A3FFF6-A717-4DA5-9777-9B517215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272E5A-A317-403C-BDC9-A894845F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EDE5A6-84C6-4793-8170-37F8FF1D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40C759-DBB5-4616-8FD6-5E355BEC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441876-A74A-4C7C-91A4-364A0119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CE0137-7732-4D58-A742-17E686B592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F69764E-DDE1-4501-AAEB-98F043F2BC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863F6-B2D3-453D-95EF-780B000A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8F2CE71-ACD0-4AF8-94A4-920DD922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8173379-1421-416C-BFDD-AAE85BD2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887E817-0EEA-4AC2-9183-E5F3E394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CDE843A-DBD7-4ED0-A986-0DB36718F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6DD87FD-D589-43D0-9B9F-17868AB3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C861F4C-8E80-43E7-9592-4BB01DC3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15BAF64-AA14-4AED-8E1E-92D53175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A507D45-FFE4-4A57-A8B3-8012172E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121598C-7737-4D0A-B9A4-9FE3E3C6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7596D71-CF9D-4901-A029-093216F9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B09DD-D846-4EBA-9290-4CAB83F2F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B4D6BB-D95D-4204-AD0E-3418596D5E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5EF89D6-EF7F-4402-BC3E-CA0B8AA40D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9F00CE1-25CB-431F-9924-EDBCE14E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29FB460-DF76-4C14-B92E-72A02739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C5C627C-1D58-4A36-B723-A57E6F5D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B4A09E6-C9B1-43A5-B474-435BEF1E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63F7613-9DD9-49E0-B34C-63CBB7A9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3FDADE4-4328-4238-A903-1FA5FB92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BEE58D7-3311-410A-B0D7-D7AD2DDE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E87F7C6-DDAD-4466-ACEF-83A78668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205C9A-E072-4147-8D9A-FA315DDD9F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206FBF3-40A5-43BB-B525-AE336998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E56A18B-C364-4BA6-BCAC-26E69766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758B907-2764-4309-85D0-18A9932C94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02E9A2-C5FD-473E-AB40-8B00D75605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210842-E57A-4EC7-B748-AB62F72C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B31C62-E6AC-4EC3-B460-6483176A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C32AE9-5E5C-405C-B964-997D7C49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5D398E-D070-4F28-8933-EBEF316B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A2DB6D-0A6E-4566-8764-CD479110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EA792C-F94E-4D32-BE7C-8ABDA3E67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D0164-753F-4BDA-8B71-6D8FF8CD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B0D9EB-7EDD-4C39-BB7F-6B3C2D1E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ED38AA-7BE2-4197-B3FB-8C19AED9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BAC40E-628E-4E9C-8C74-22E607CE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F9A54C-6126-42AF-806F-56E5DB6A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3AAC9D-9A62-43F7-B23D-02DAB2D3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00B51C-6623-4AAB-B4BB-089098D7B5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2771699-89D0-4C46-AA75-1CA90BC961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4084359-6DD2-4515-AAC9-3026E6B6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2453165-2852-4DD9-8049-960D5F35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A7F00F9-6982-461D-B090-D1E2471C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219C89E-CACE-4C40-AEBD-19E1A7A5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23691-DE16-46FF-81EA-C2FB894D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5472CA3-AE7B-415B-8F46-C3E8630E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E29BEFC-C17D-4C25-83D5-63F15AFD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F80ACED-9A5F-4D66-B988-46361D26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51D1CCC-C89F-4F6C-8469-7AFA0504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4BB4222-3D10-422B-A460-00FF10F9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2E8DE4E-6B87-400B-9681-32796C6A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14A396F-F837-418F-AEBD-40E1BE3C87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FCDBA99-D6B9-4058-AFC3-2212CB3899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B2DBBDA-201E-4340-9AB5-1EB7D152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C7141AE-A89B-4535-A646-ED2FD3B5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91B681-B5FC-4DA3-9560-601DF4E4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0E5B75E-D2B4-47E7-BDE8-C8D3BA29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9D2AF20-A31F-4571-A4B9-D8E51BFA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1CD02FE-33A1-4870-AB0C-465E690D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1FB69CC-9BB2-488F-9BB2-0407886D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8598353-8711-44FE-B0E6-B7FEEFD5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5863F89-3F1E-4C4D-BCC4-D831D78D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9C8D423-48B7-4486-88C2-B239EAB9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210FC0E-6635-4B5A-A41E-53B6F5DA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33B8D9D-B334-44CA-A0BD-E9FBF470B7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24839B-AA36-40A0-A7E7-AFDC53287C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64124B-D97A-4721-A617-3A7380CE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DCD8AE-2B8B-47E3-9006-B66D4B61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68DEFA-AEBA-4006-A2F2-7F0500A9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D13CBA-1A47-4477-B0EB-8B4F58A2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03748E-C02B-4216-AEBA-F19EF5BE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8D65065-DF20-4935-8B8B-723474101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18D4F6-F8FA-4C77-B844-2A8086F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A0F64F-C8DD-45E3-8184-A2BD4DB2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ED28DE-B454-4C0C-A96A-C535E2731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5EFE13-B9AE-4D32-96AC-3B00A907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C49D5B4-7596-496F-9282-17317094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6F1DB-4772-487D-8473-DE83B615E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AEF6D5-C80B-4933-9004-AFD3BCEDC7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93947F5-ABD0-410D-A69A-221D1A69D6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F03B81D-8015-4A64-AFCC-06DCA339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72058A7-69FF-4A19-9FC2-D3DE1313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3E42C2B-B05B-414C-A082-B06C1438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9A8700E-4E51-4892-B825-7C81DB44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473F2BA-01B5-4499-8CEE-5EABE430D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22B4674-0B74-4C4F-9984-DA55519F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7432A26-DD66-4D16-8560-44121623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DE0A4DE-192E-4E23-A118-5FE55530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069A79-B8FC-4BE1-B5EE-854B1606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D76475B-492F-4668-ABE8-5BA1BD94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E1C6776-6413-4BA4-BB91-84F09093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79A16D7-8F7F-4CFE-9042-AB58D51C71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EF61552-B760-47CB-A2BF-978087D877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91BDE9C-7700-4D09-AF6D-6AAAFD11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BBBD717-ADA8-4606-BC6E-B4F1BBD9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44B9A69-71A9-4281-BB13-F586F49D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9D1D085-FF3C-4CBD-9F20-6D65E544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1FBC9C3-03E6-4BB8-8A79-5E04EC7C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8640D74-675A-4606-A138-2420AE30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510A4D-CD1E-4D8A-8586-DD6B6924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8F5FEC8-0D28-41F6-8497-D6ED4628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04F5939-CAE5-43A4-BD73-AD23573B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5360AF2-D147-4783-A6B4-486E899B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B4E77E9-F1DE-4622-B871-DE2BC8B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10D2A28-6318-4375-8A54-94A86A2793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F4D2E0-5A36-407F-AF50-DB5333D60E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5E71F39-DAF0-474F-8677-0821ED72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4B68C0-1CC7-49FB-8E0F-403D9CEC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0D5824-8395-4BE7-B42E-32288B8C5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308B6FE-C5F3-424A-9198-020B8AEC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441C2B-1046-4128-ACFA-02626254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1859749-E1E9-444B-A8CC-C6525EF8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650A11-B85A-4AD0-B683-CD6E475B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8200C8-A10B-4BE6-9448-B651D88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1DD8E0-FAFA-4987-AB5A-92CA8022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674507-A0F2-45EF-B9A8-09517EA6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6DD68A-0073-459D-910C-00962CDC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96FB10-4958-4C8B-8ED3-A72D19DD49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134A8D7-93C1-4D11-9AE1-F56A589A2F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64282E2-D7CB-49C2-94C8-823A357F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D335F70-D843-4DB4-AB8E-7578FF8E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A30202-C08B-495C-B864-ADBE80CE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3BF74C2-235F-4FC2-954C-1D33A0CB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013188B-808D-41E3-A045-704720E8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DE61962-B211-4478-A844-7D206D56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C01F548-F271-4F9F-9A26-C673938B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BF20B4E-FCE0-4B3F-9F51-B7FD7686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BD6DA5C-F935-4BC2-8B76-374A256E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8E70711-C3FF-41E9-B6C2-8AAD0743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15ECDD2-8D7A-4E7B-A3AC-8B72D4ED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DD4D6E8-FC6B-481F-B070-16C0430EE7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77BDCCC-6185-42D0-B11B-5DDA047D31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697E9D-E4ED-43D3-A47B-FDCF9AE8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4D45937-BF78-4795-95AD-94731D07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33AFDFE-D0A6-4C25-BFE6-EA189577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FD3900F-0BBB-4903-8CB0-789647DC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CF134CF-DBFE-4BF4-B73F-13CEF3A3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A3BC4FF-B9E2-4F88-96C8-B791E577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69829C8-BB51-46AB-AB70-3184A677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B15FE73-A6A4-4B86-AC96-6D4BBC83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CD495EB-154C-4836-832A-DCDFDAED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94EA617-EC08-46B4-9F36-49C7C383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9153241-1254-45D8-94CA-D4133EE0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3D84-3BD9-43DF-9794-0224B7FD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357AB-439B-4819-AC59-3D2A822FA7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4A620FB-3730-4856-AA12-D5F80A7C2A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2D58B0-B088-410B-B754-24469CD8E2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3E0D6B-51E5-4F3F-B44B-96F59704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D301B1-A6B0-4217-BCB1-8EB011E1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764202-378F-45B9-8B62-00B203D9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60E395-E92E-4E97-A4F1-73F09ED8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309631-DA7F-4B9A-AAEC-849D1E20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1610A17-EF6D-4CE4-ABBE-FD88633D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092E11-58FA-4296-A065-063F9301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1E4055-3BB9-4C0E-AC2D-A901203B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2E9A5-56E4-4D19-8C78-0B6216F98A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4CC799-DD67-42D0-9ADE-8BE9331C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DD6EAF-8F1E-44A3-9BD8-69ACD8A3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83A3DF-82B0-4791-9F2E-5AE99ED12D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CDE4F7F-14C8-42F9-83F7-94BD772588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0B00465-9B7E-45EF-AFD5-7C1F5E5E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0B40292-B2B7-47A7-8DCF-A371D993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1AA380F-377B-4EBB-9717-5203B1DC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359D49A-FD66-4DCA-9886-785567BD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08323BB-1D1A-429D-B72E-2454670A8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CC60C51-B235-498A-8D97-9B0D7F8E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AF8CD-FA40-46B9-8CAA-60DFF29E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572273B-91E5-4044-9846-8F152783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10F0C5A-7AC5-4070-A571-714339EA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1EE6D28-BDC1-414C-806C-635AF9C2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B5DF614-8ACD-4B3D-A39E-D95AC8A5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C080629-69F3-4CF8-B6A4-169AB17CD9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C3A1869-38DB-4695-A136-B746FE88B1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9CE4EF8-0C58-47D5-B7FF-FDABD02D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119E213-94FC-494C-980D-3C236AEA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A5D1E8F-B6D2-4A5F-BF68-119F93BB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E04C5A2-8243-44A1-ACB3-1BF6311F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3DF14-0C45-482F-84EF-3D6A3446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0E39FCC-BF9B-4FC9-9AF3-C2EFAC5B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989A17C-7E60-4E17-AD72-3467FC92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3DE2CB0-500E-47A7-9EB8-7792BDB9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63BA399-D6E8-435C-80C6-062921AD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415333D-6EEB-4333-AFE5-9A2683AF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F35AB2D-8AC4-4C2D-B29E-A80632C8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918CF5D-B852-4E87-B63B-5DCAD2F2F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A1128C-F5EB-4F70-B1C9-7645A73F84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ACF7DA-8DC1-4BC2-B863-81A9207A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A8E655E-8937-4C41-AB8C-EE1D4891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825C3-B07F-43C8-9B8D-CB4160E2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33AB15-1014-484C-A4EB-821766CE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790D4E-BB53-4BA5-B933-2F01E012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4E58A3-A50E-4648-8D2F-BC4ED887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6882651-4184-47AD-90C1-A91FCD1C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96BCFE-E8F1-4737-A7A3-D5C485E9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25320D4-CBCC-4AA2-9E71-7FD14037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5292A53-5524-4482-96E6-D4549AA9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8BC96B-1F5F-43B9-B507-2F5BB9F5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42F90B-86A8-4285-AE59-15759C57DB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C8F4844-A73A-4BE9-82DA-2E092518B0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A1F7B-66B5-4304-8A5F-E52482D1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1542087-9AB7-4826-B7BF-DDAD8B9E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476DEED-95C3-4AE7-96C2-0B1D94D6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1DC2154-FF04-448B-BD3F-7F6EC095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2F645FC-9EF8-4398-907C-10639E76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FDCAD35-CB27-44E5-9DBC-EE01A603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313FCD7-07F4-4A3F-BAA2-569E8E23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6682B35-BA95-4127-90C8-53C3A9A7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BC27B52-A260-45CF-8B50-40BE63B9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A57C3FA-EF06-43FB-AA35-BD23A3AE8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1F4C1FA-1B4B-4852-9BA2-33B96A45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43DDA-C620-49A5-ABAF-4DDD57F8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FFDCEB9-FFE3-4B65-8CCD-504F1702E0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14B4654-C935-4305-ADE1-2B54A3E894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CDA37A5-0220-41C2-8615-F605E80A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FB5C642-4311-4040-AB5C-DADA162B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753FA99-CB4A-4C75-B70D-DF8C8A00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AFEB4A1-E558-4DC0-A78A-192F7B1B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E9BE5A2-8303-459A-9F82-6801DB2C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CEECFE9-A039-4EDB-A71F-F56F3A10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F077EDD-5226-437D-ACD3-24342749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C3E4291-F068-4E3C-9F57-9A1DE8D5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D3713-92EE-4E56-8CEF-EF4CFAD7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43A6FFF-E2CE-403D-AC9D-A406CA01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2A7FFF7-8D13-4793-A9EC-18843CBA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3FBA4A6-B787-454E-8360-87D17EB3DD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F4F6F6-3EDD-47FF-912C-257B707008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74A3ED-98D7-43B7-96BB-E2865344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BC336C-4767-4259-B505-A6DD5236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D22458-801E-460A-BA2D-FF0C0E56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ACB31F-1375-478B-BB44-75545A90E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8E64BF-86A0-4242-AECE-81984BF1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5A49C84-2434-4954-8B62-19891236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9FD48-A780-4378-933B-309F2159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2AB496D-4CCF-43D0-B7B3-3F87FD27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046D89-2D0F-4557-BBC5-A95D7ADB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10ACA1C-2F2B-424B-B528-C68F41FF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99FDAF-64AC-4B08-B88E-8FB5AD36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B7C00F-935E-476B-B37D-16A7BB2329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589CC7C8-6A68-49F2-83B5-EF827D0FA9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51AA06A-6C28-4F0F-B425-B5D5995F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B5404DA-6BD2-4B77-A8B9-2AB9F4CA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BB7E072-E8BF-48F3-8D83-E4C11F44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CA965B9-E4F9-4255-8B3E-6CFE6C44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54D47-8B62-4532-909C-72264C2C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19AA57EE-4F55-4A44-97BE-146EF700D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55D033D-40CC-4C2E-8A52-3613A271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FD4711D5-0BF8-4FDC-8FBB-15699A2F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79C0401-A1FF-4F0B-9BAB-AA154E65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16EFE24-21F8-4EC6-93E4-744717EA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2779029-556B-4F31-B8E0-0C0243FB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BAE6063-2EC4-48B5-B04F-B4357EC859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F2D05CC-07F2-444B-BC6F-52DE236C3B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121334D-5F8D-48EE-8D5D-B747C78D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9032B2F-8E54-4D4F-869E-5A419C9B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BA6C-CCE2-4E7E-965E-43883574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895C0-865B-4B30-ABE6-B7988BC8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442827F-DFD6-4ED8-80D4-EAEE0612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75901B8-0CBF-45B7-B26E-8C211CF0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BC2ED50-5684-4839-B700-E05CF779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0D92105-4605-4D82-9AC2-EF3E6C37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D910572-FF3C-47B8-B97A-8D055C61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38B8680-AFD1-47B9-85B7-3648DD77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5B6CBF3-6673-4E17-B44A-32B81A5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CB25C34-FADD-46A9-9846-D3E9F13F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B14696E-D4E2-41D7-A408-023DB4E2C28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6B89D45-AFF3-4F50-A858-10D72CDB38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6855-2E73-4283-ACEE-0E5A7E3B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61FD97-A7DC-4321-B43E-C50EA242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0EAD5A-0676-428E-8DC9-623B29260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1E82126-A42F-4B78-8FC1-E8B00A1A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FC14816-AF53-43C4-89A9-5C29D6C3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6CFA5B-874C-4996-90C2-561D2245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D926B0E-6006-47C1-A9CA-4C6381EB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2DBAE7-8CD8-4FCE-BB4C-31CCC203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1CD1A24-65D1-4DA1-85CC-CA57B05D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81B720C-0C33-4CFB-946A-4D5A7E01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8E2BFB1-35DB-45FB-8E42-111C71B8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C52AF-74BD-4AE7-9615-3E5328FD76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5B65446-F238-4D93-9258-AE69A7188B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1A97603-8761-4607-95EE-B01BFEB21B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36A5566-90A9-4C69-A767-112C2BED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A2EBD05-4EAE-4C9C-9D6F-1F6537F5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97CAC03-C448-47DE-AA18-AB861C13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2EB448B-E050-47BC-AB81-8F16EA77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D0D903DB-1E37-413A-A184-231D22FB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8F7F3CB-2857-41C7-8286-49EB9F65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B68D755-F4A7-4D5F-AE35-D5649DEC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253B5AF-C65A-453B-8259-AAC1C7A0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B5926-FD52-4C3F-AA2C-21EE64DF33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542CF9F-5B89-4EC8-98EF-0D0F6DAD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383FD5E-590A-4FEE-A8C3-DA9D0EBD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0C86C0E1-31CA-4190-8DF6-CB164B3C6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6398C2D-BEC4-4561-B381-7CCAA8A24D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8845D05-3425-4F51-AD4F-2B47815A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9B0F26F-4511-4BB1-9547-F3CE9424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0B277E7-A3F4-4844-98B6-47B1EB24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1CAB4F7-F4DD-4575-B0E7-9F133922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6530EC4-5E0F-4D9E-9CC9-3B48C40E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93C4A11-94C6-4524-BA0A-68EFDBF8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B153E-0DFF-4C85-AD72-DC05A0C6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32E99FDF-B2B2-48AF-899E-A3FA7AF1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8312422-726D-4E4D-8F9B-304A5B51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0B1802F-752A-4D15-A90E-651C8CF5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8980178-3092-47AA-A9DE-971773C4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9F22FA6-C152-4938-BFBC-8925D3BF06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B087D36-0B72-41A8-90CF-AC6860F4D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0357E0D-E8DC-4666-B0BC-EAF50C60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025199-89F5-4986-8295-510F927A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FF8824-0536-4ED1-9B80-F951AAFB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7F5CB5-FF7F-4D93-8E66-92894604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4CE7B-1406-46AB-BBA8-F259C497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BF1F1F5-80DD-4D12-B616-75181CCC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DCED19F-3809-4C19-A9C5-37F5730F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AFF857-0510-4919-A3FD-E3F3BF9F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A4ABAE-6193-4D64-BC11-F41D7067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3BA55FC-1704-44AA-9D06-17D6D098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C0751F-0A9D-42E7-91A0-D99E1BBF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EA0537-B7D9-4ABB-B0C0-3465B1B138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CDCD374-0E75-43B2-9D16-C1F38994CB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F83EDA4-171F-4C99-8D75-F120AE3A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DBF38F8-96B6-4BB9-AEE3-67F73E2B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9BFA1-42FE-4C5C-9357-88195A49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87E6A3B-0B2A-4204-A4DB-DE3F016D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63EF5B41-247F-40DC-A7B7-EC8D2D33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CB00F87-6DEF-4FF3-90F3-6C9C4BEDB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0DBE3E37-780E-4B89-BE62-AC5674C7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219BA84-F969-405D-B782-8A679A51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09FE7F1-6C10-450E-B0E7-5288EAAD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8777C4E-940A-45F2-B268-65DDFBD4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0DD53AA-6279-4B8C-A7DF-CAE91B1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85624FB-2056-421B-A55B-FCFCC0C006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8535C41-FC60-4273-A873-6D187AE906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FC85F4-82A9-443E-B68F-67675C1C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4B7CA85-982F-41E4-BE94-3997CB51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253C637-D711-436F-B21B-09B08F2B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AB37CB0-B15F-4337-A798-1CB2CF86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B3E3325-086E-4D0A-B996-08605F8B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71F3CA58-9C11-4BD4-B966-65624786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B0675204-3C3F-4690-9A35-147B9B57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9647938-99DA-45A0-A343-6D5C4A8B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87AEEFFD-21B0-47AC-8FEB-ECABD241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AB2A0E1-B98F-49D8-9EC4-F6EC923D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1972AB7-6023-4682-B386-94D4A161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4DAA02-A68C-48DF-AA19-94D6A473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1B4506E-91A2-4E28-A0B9-B0307782D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09E4327-3D3A-443B-8892-B1C1B217A5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8106E69-2F28-48AA-875A-94737D1D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9477D9-B4B8-4B37-8BC0-5A16DCD8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F34071C-2AFD-41CA-9148-F32C3E8D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AB682F1-1405-4114-83DE-85E4D797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A95C53-96BE-4771-9748-E02B71D4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B80B53-6683-44CD-8DAB-FA26F88C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2FA8AFB-21FC-470C-A7BB-FCB5BB90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73726F9-8C7C-468D-B2A4-F3246F49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6AB82E-C8BD-4C7D-B9C5-BC0DD2D9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3860D54-5C5A-45FD-98AC-D15F4AF8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A569A23-BF5E-4E00-8681-738F9BE6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6274E5-F6AE-4643-B821-7F6EA91A66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C3D5523-8D8F-4DCD-8EF3-5290715805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19F8DA3-464D-4030-AFA8-2DBC6F05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F64BE0D-C97B-4972-BF9C-14706A04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CC36759-59E6-4D90-87DA-0216C124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14E1C22-5CD2-4D38-86B2-B4B05A66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A20ED6E-F60A-437C-A746-73484C00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4B57304-1957-46ED-94D7-0A1EEEB3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56A2F-0F92-443B-9029-67056C0B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E1CBD-4290-4EF4-A04A-F22EA5FA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369F0FA-4EB3-49DA-896B-11DC1DB6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1CBA53D-2D70-48AC-A562-511E0AF1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88984EC-C362-4E1D-B3BD-23A978AA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D4576AF-1556-4563-8620-B107AE96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F0935C8C-DF51-4B15-8E69-25644A0A54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15040C9-A615-416B-9242-707F2FDF83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5B6D371-61E7-4139-9ED7-0E47AF97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B89F5F9-5581-4311-96CB-2E8203BB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EDDC0DF-20E2-4196-B990-4DA317FC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3EBBBBC-6C8F-4B97-941B-7F2546CB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B797C-B63C-4604-B21B-CAD48779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3D5A1176-DFE4-4FF1-9BE7-1EFE1675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AFC091D-FF60-4326-A62E-5B636298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B4D763F-D8AF-487F-B212-0D287421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4E82C3D-44C8-4696-99E9-89C6314B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4AAADAB-3FC8-45C6-97EB-9361F2E2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1435421-F2C2-40D7-89B6-F73FF34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94E0CE6-212F-48EB-9954-092AEF185E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1AAD09A-7957-4749-B04A-C270CCA10F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F31D82E-A7F2-428C-9A6D-F09B719A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1EB32CA-A223-441C-8907-EFBCBD8D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2AECFC-2EC9-486C-BCAF-197F4B4A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9D37848-5C5A-4D4F-8BA8-6697F16C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7BDD34D-83DE-48EC-B58F-B23CD85B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FB1DD4E-DAC2-49F0-8072-035D169F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46B08DF-6EB4-4A3A-880B-2E16FF8B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A5937C5-A754-4F50-A27A-948922B5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BA1BCC8-63DF-4D51-A029-74E1566D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902582B-04F6-4A6D-9C46-89A56697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49BDA0E-4AD6-490E-A97D-F8E4DE9A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CFCDED2-0AF3-49CD-86C3-2D2D843AD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C002E08-083D-426F-A5C8-C60195D13D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87CC2-E0B7-45E2-88DD-B4E488AA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DCF9912-E005-49AC-9A4F-BB4C8FFC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57DCAAE-9A21-4726-A01C-F6E9BF28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C542D2F-EBCE-4968-B7C7-425D65B5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0978847-A37B-47A5-B278-F1BED546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7626D75-3E7D-4837-A825-BE3FB080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B132B04-5322-4A4F-8252-742FD61F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8AF7E15-0AB4-4678-8B67-779D2E2B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F1E67A9-8A34-4629-BD28-10F29E78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A456980-B38A-47DB-A47D-1957D9B7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15716FB-E47F-41EA-8C95-A213382B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A73B4-0F0D-4E6A-AF8F-52FCA0C1E8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64CE9C8D-ED14-4ADC-A66E-6CEB7C99E6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49133F2-3759-4EF6-9396-1BBEB4C79D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64EEBE6-9AB7-4175-BFFA-94C5AEC5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5864E53-CE24-4B1D-8B11-C59F9E03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A378A42-6960-4509-9D97-85786641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29FA04B-EEDC-4E94-959B-C64FF446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CC1E24A8-78F2-4482-8B53-6BA1AE54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1FD3EAF2-2394-45CC-9C47-594F0C02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0F273288-E5A9-494D-A13A-FBB17F85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50BE933-9E1E-47BD-A835-A2AE7AD5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6126FB-7267-47D8-ACB4-12569FFCCA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841AE93-2C59-44FD-A01D-A76B81AD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D893ECE6-7AB8-4A71-A1D0-1BEDDC15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5418C2A-CDFD-4102-832C-015E947B39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A501F8-53F0-44FD-8F77-DDF727A301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B2F0DBE-7B1F-40C3-A988-44414911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7733119-4403-45FB-9DD6-DFADB553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BC1418-0411-4548-9771-0F4C3F00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DC216E6-21CA-4710-8B2D-DCE7335E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F189918-9E56-4771-ADA6-8081E623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48E61A4-824C-498C-87B7-D0BC37B4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F2E59C-E1D7-4EBC-8462-8A26D240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11CA572-D3E9-401D-8CEC-9E7A7882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02ECB08-2AF8-416B-9EEB-AC327A70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D2BE6E3-CA31-4681-870C-BEEB517D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BFF4310-99AB-478B-B8D3-1B713864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7F4BEE7-7346-4999-ACAE-E48AA6646D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967C1A3-910B-402B-80BA-1655C29C4A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F5BC7A1-6AC5-490F-B1D8-A26122C6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FBF44E5-65D2-4B4A-BA0F-51C136D8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B6F1C23-7E77-452C-8280-D067DEAE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DD8E480E-13EA-46D8-8A9E-467E42AD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6B413A-945F-45CF-B0C5-18150059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D1E0B16-89AA-42EE-A9D3-74754B75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4D9A83A-EEC9-4CA7-96B6-ECC8D1B2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18C9AB9-460A-49A9-B18D-4345F81A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DAF4EDE-54D5-459F-98E3-36AB87DE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EC119FAF-58A7-4AF9-83B4-D9D98322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2A09E92-F3E7-41C6-BCF8-E326F163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384F6F6-3267-4A23-8C1C-BC901F721E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85C3EDD-CAED-4515-AE25-74760BE52C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96CE11D-0310-4B9C-A65E-24EFDE455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6E827E47-CEBC-410C-BD18-D0AC50D2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B19363-9A28-4E4E-857B-BC083E47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C89F959-5636-4191-A1D6-CD45296E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3F217923-BFC1-46AF-AEBD-2E6F78BF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FA08218-4A29-4F75-8540-A0889F08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750628CC-0CC1-48F9-BC0A-E66F099B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CA529B8-45C5-4E8F-8342-8E19B84E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D819AB5A-1282-4167-B4DB-DAB9F61A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CF262BF-7183-4E6C-8A27-39B627AE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F0BEA25-0343-4083-BECE-5E3160FA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939B61A-F97E-418C-AC24-F118F58BE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BD777A-4B0E-469A-9164-C320DC99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1D13-D16B-4581-B3F4-5F2C1495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84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8F40B0-46BC-4B35-B955-FC9CB6B3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6B6952-8A95-43CA-A04D-7086BE8C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243A36-AD33-45A7-A111-92E6E431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E3122-4D4B-4BED-AF8E-E91F06EA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F42B0B-820A-4A67-ACCA-6FD4747A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92D2E4-7BAA-4B00-A7B5-E2541DED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61811C-A134-448C-8BCB-4F6391FC0C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1A7F8-7B25-47E8-82B6-6CB4F6447A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C5F01-D2F5-455D-B2B4-7B5FD0F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E4B1E-8367-42D9-9834-FE3AC9CC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69.xml"/><Relationship Id="rId4" Type="http://schemas.openxmlformats.org/officeDocument/2006/relationships/slideLayout" Target="../slideLayouts/slideLayout770.xml"/><Relationship Id="rId5" Type="http://schemas.openxmlformats.org/officeDocument/2006/relationships/slideLayout" Target="../slideLayouts/slideLayout771.xml"/><Relationship Id="rId6" Type="http://schemas.openxmlformats.org/officeDocument/2006/relationships/slideLayout" Target="../slideLayouts/slideLayout772.xml"/><Relationship Id="rId7" Type="http://schemas.openxmlformats.org/officeDocument/2006/relationships/slideLayout" Target="../slideLayouts/slideLayout773.xml"/><Relationship Id="rId8" Type="http://schemas.openxmlformats.org/officeDocument/2006/relationships/slideLayout" Target="../slideLayouts/slideLayout774.xml"/><Relationship Id="rId9" Type="http://schemas.openxmlformats.org/officeDocument/2006/relationships/slideLayout" Target="../slideLayouts/slideLayout775.xml"/><Relationship Id="rId10" Type="http://schemas.openxmlformats.org/officeDocument/2006/relationships/slideLayout" Target="../slideLayouts/slideLayout776.xml"/><Relationship Id="rId11" Type="http://schemas.openxmlformats.org/officeDocument/2006/relationships/slideLayout" Target="../slideLayouts/slideLayout777.xml"/><Relationship Id="rId12" Type="http://schemas.openxmlformats.org/officeDocument/2006/relationships/slideLayout" Target="../slideLayouts/slideLayout778.xml"/><Relationship Id="rId13" Type="http://schemas.openxmlformats.org/officeDocument/2006/relationships/slideLayout" Target="../slideLayouts/slideLayout779.xml"/><Relationship Id="rId14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81.xml"/><Relationship Id="rId4" Type="http://schemas.openxmlformats.org/officeDocument/2006/relationships/slideLayout" Target="../slideLayouts/slideLayout782.xml"/><Relationship Id="rId5" Type="http://schemas.openxmlformats.org/officeDocument/2006/relationships/slideLayout" Target="../slideLayouts/slideLayout783.xml"/><Relationship Id="rId6" Type="http://schemas.openxmlformats.org/officeDocument/2006/relationships/slideLayout" Target="../slideLayouts/slideLayout784.xml"/><Relationship Id="rId7" Type="http://schemas.openxmlformats.org/officeDocument/2006/relationships/slideLayout" Target="../slideLayouts/slideLayout785.xml"/><Relationship Id="rId8" Type="http://schemas.openxmlformats.org/officeDocument/2006/relationships/slideLayout" Target="../slideLayouts/slideLayout786.xml"/><Relationship Id="rId9" Type="http://schemas.openxmlformats.org/officeDocument/2006/relationships/slideLayout" Target="../slideLayouts/slideLayout787.xml"/><Relationship Id="rId10" Type="http://schemas.openxmlformats.org/officeDocument/2006/relationships/slideLayout" Target="../slideLayouts/slideLayout788.xml"/><Relationship Id="rId11" Type="http://schemas.openxmlformats.org/officeDocument/2006/relationships/slideLayout" Target="../slideLayouts/slideLayout789.xml"/><Relationship Id="rId12" Type="http://schemas.openxmlformats.org/officeDocument/2006/relationships/slideLayout" Target="../slideLayouts/slideLayout790.xml"/><Relationship Id="rId13" Type="http://schemas.openxmlformats.org/officeDocument/2006/relationships/slideLayout" Target="../slideLayouts/slideLayout791.xml"/><Relationship Id="rId14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93.xml"/><Relationship Id="rId4" Type="http://schemas.openxmlformats.org/officeDocument/2006/relationships/slideLayout" Target="../slideLayouts/slideLayout794.xml"/><Relationship Id="rId5" Type="http://schemas.openxmlformats.org/officeDocument/2006/relationships/slideLayout" Target="../slideLayouts/slideLayout795.xml"/><Relationship Id="rId6" Type="http://schemas.openxmlformats.org/officeDocument/2006/relationships/slideLayout" Target="../slideLayouts/slideLayout796.xml"/><Relationship Id="rId7" Type="http://schemas.openxmlformats.org/officeDocument/2006/relationships/slideLayout" Target="../slideLayouts/slideLayout797.xml"/><Relationship Id="rId8" Type="http://schemas.openxmlformats.org/officeDocument/2006/relationships/slideLayout" Target="../slideLayouts/slideLayout798.xml"/><Relationship Id="rId9" Type="http://schemas.openxmlformats.org/officeDocument/2006/relationships/slideLayout" Target="../slideLayouts/slideLayout799.xml"/><Relationship Id="rId10" Type="http://schemas.openxmlformats.org/officeDocument/2006/relationships/slideLayout" Target="../slideLayouts/slideLayout800.xml"/><Relationship Id="rId11" Type="http://schemas.openxmlformats.org/officeDocument/2006/relationships/slideLayout" Target="../slideLayouts/slideLayout801.xml"/><Relationship Id="rId12" Type="http://schemas.openxmlformats.org/officeDocument/2006/relationships/slideLayout" Target="../slideLayouts/slideLayout802.xml"/><Relationship Id="rId13" Type="http://schemas.openxmlformats.org/officeDocument/2006/relationships/slideLayout" Target="../slideLayouts/slideLayout803.xml"/><Relationship Id="rId14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05.xml"/><Relationship Id="rId4" Type="http://schemas.openxmlformats.org/officeDocument/2006/relationships/slideLayout" Target="../slideLayouts/slideLayout806.xml"/><Relationship Id="rId5" Type="http://schemas.openxmlformats.org/officeDocument/2006/relationships/slideLayout" Target="../slideLayouts/slideLayout807.xml"/><Relationship Id="rId6" Type="http://schemas.openxmlformats.org/officeDocument/2006/relationships/slideLayout" Target="../slideLayouts/slideLayout808.xml"/><Relationship Id="rId7" Type="http://schemas.openxmlformats.org/officeDocument/2006/relationships/slideLayout" Target="../slideLayouts/slideLayout809.xml"/><Relationship Id="rId8" Type="http://schemas.openxmlformats.org/officeDocument/2006/relationships/slideLayout" Target="../slideLayouts/slideLayout810.xml"/><Relationship Id="rId9" Type="http://schemas.openxmlformats.org/officeDocument/2006/relationships/slideLayout" Target="../slideLayouts/slideLayout811.xml"/><Relationship Id="rId10" Type="http://schemas.openxmlformats.org/officeDocument/2006/relationships/slideLayout" Target="../slideLayouts/slideLayout812.xml"/><Relationship Id="rId11" Type="http://schemas.openxmlformats.org/officeDocument/2006/relationships/slideLayout" Target="../slideLayouts/slideLayout813.xml"/><Relationship Id="rId12" Type="http://schemas.openxmlformats.org/officeDocument/2006/relationships/slideLayout" Target="../slideLayouts/slideLayout814.xml"/><Relationship Id="rId13" Type="http://schemas.openxmlformats.org/officeDocument/2006/relationships/slideLayout" Target="../slideLayouts/slideLayout815.xml"/><Relationship Id="rId14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17.xml"/><Relationship Id="rId4" Type="http://schemas.openxmlformats.org/officeDocument/2006/relationships/slideLayout" Target="../slideLayouts/slideLayout818.xml"/><Relationship Id="rId5" Type="http://schemas.openxmlformats.org/officeDocument/2006/relationships/slideLayout" Target="../slideLayouts/slideLayout819.xml"/><Relationship Id="rId6" Type="http://schemas.openxmlformats.org/officeDocument/2006/relationships/slideLayout" Target="../slideLayouts/slideLayout820.xml"/><Relationship Id="rId7" Type="http://schemas.openxmlformats.org/officeDocument/2006/relationships/slideLayout" Target="../slideLayouts/slideLayout821.xml"/><Relationship Id="rId8" Type="http://schemas.openxmlformats.org/officeDocument/2006/relationships/slideLayout" Target="../slideLayouts/slideLayout822.xml"/><Relationship Id="rId9" Type="http://schemas.openxmlformats.org/officeDocument/2006/relationships/slideLayout" Target="../slideLayouts/slideLayout823.xml"/><Relationship Id="rId10" Type="http://schemas.openxmlformats.org/officeDocument/2006/relationships/slideLayout" Target="../slideLayouts/slideLayout824.xml"/><Relationship Id="rId11" Type="http://schemas.openxmlformats.org/officeDocument/2006/relationships/slideLayout" Target="../slideLayouts/slideLayout825.xml"/><Relationship Id="rId12" Type="http://schemas.openxmlformats.org/officeDocument/2006/relationships/slideLayout" Target="../slideLayouts/slideLayout826.xml"/><Relationship Id="rId13" Type="http://schemas.openxmlformats.org/officeDocument/2006/relationships/slideLayout" Target="../slideLayouts/slideLayout827.xml"/><Relationship Id="rId14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29.xml"/><Relationship Id="rId4" Type="http://schemas.openxmlformats.org/officeDocument/2006/relationships/slideLayout" Target="../slideLayouts/slideLayout830.xml"/><Relationship Id="rId5" Type="http://schemas.openxmlformats.org/officeDocument/2006/relationships/slideLayout" Target="../slideLayouts/slideLayout831.xml"/><Relationship Id="rId6" Type="http://schemas.openxmlformats.org/officeDocument/2006/relationships/slideLayout" Target="../slideLayouts/slideLayout832.xml"/><Relationship Id="rId7" Type="http://schemas.openxmlformats.org/officeDocument/2006/relationships/slideLayout" Target="../slideLayouts/slideLayout833.xml"/><Relationship Id="rId8" Type="http://schemas.openxmlformats.org/officeDocument/2006/relationships/slideLayout" Target="../slideLayouts/slideLayout834.xml"/><Relationship Id="rId9" Type="http://schemas.openxmlformats.org/officeDocument/2006/relationships/slideLayout" Target="../slideLayouts/slideLayout835.xml"/><Relationship Id="rId10" Type="http://schemas.openxmlformats.org/officeDocument/2006/relationships/slideLayout" Target="../slideLayouts/slideLayout836.xml"/><Relationship Id="rId11" Type="http://schemas.openxmlformats.org/officeDocument/2006/relationships/slideLayout" Target="../slideLayouts/slideLayout837.xml"/><Relationship Id="rId12" Type="http://schemas.openxmlformats.org/officeDocument/2006/relationships/slideLayout" Target="../slideLayouts/slideLayout838.xml"/><Relationship Id="rId13" Type="http://schemas.openxmlformats.org/officeDocument/2006/relationships/slideLayout" Target="../slideLayouts/slideLayout839.xml"/><Relationship Id="rId14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41.xml"/><Relationship Id="rId4" Type="http://schemas.openxmlformats.org/officeDocument/2006/relationships/slideLayout" Target="../slideLayouts/slideLayout842.xml"/><Relationship Id="rId5" Type="http://schemas.openxmlformats.org/officeDocument/2006/relationships/slideLayout" Target="../slideLayouts/slideLayout843.xml"/><Relationship Id="rId6" Type="http://schemas.openxmlformats.org/officeDocument/2006/relationships/slideLayout" Target="../slideLayouts/slideLayout844.xml"/><Relationship Id="rId7" Type="http://schemas.openxmlformats.org/officeDocument/2006/relationships/slideLayout" Target="../slideLayouts/slideLayout845.xml"/><Relationship Id="rId8" Type="http://schemas.openxmlformats.org/officeDocument/2006/relationships/slideLayout" Target="../slideLayouts/slideLayout846.xml"/><Relationship Id="rId9" Type="http://schemas.openxmlformats.org/officeDocument/2006/relationships/slideLayout" Target="../slideLayouts/slideLayout847.xml"/><Relationship Id="rId10" Type="http://schemas.openxmlformats.org/officeDocument/2006/relationships/slideLayout" Target="../slideLayouts/slideLayout848.xml"/><Relationship Id="rId11" Type="http://schemas.openxmlformats.org/officeDocument/2006/relationships/slideLayout" Target="../slideLayouts/slideLayout849.xml"/><Relationship Id="rId12" Type="http://schemas.openxmlformats.org/officeDocument/2006/relationships/slideLayout" Target="../slideLayouts/slideLayout850.xml"/><Relationship Id="rId13" Type="http://schemas.openxmlformats.org/officeDocument/2006/relationships/slideLayout" Target="../slideLayouts/slideLayout851.xml"/><Relationship Id="rId14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3.xml"/><Relationship Id="rId4" Type="http://schemas.openxmlformats.org/officeDocument/2006/relationships/slideLayout" Target="../slideLayouts/slideLayout854.xml"/><Relationship Id="rId5" Type="http://schemas.openxmlformats.org/officeDocument/2006/relationships/slideLayout" Target="../slideLayouts/slideLayout855.xml"/><Relationship Id="rId6" Type="http://schemas.openxmlformats.org/officeDocument/2006/relationships/slideLayout" Target="../slideLayouts/slideLayout856.xml"/><Relationship Id="rId7" Type="http://schemas.openxmlformats.org/officeDocument/2006/relationships/slideLayout" Target="../slideLayouts/slideLayout857.xml"/><Relationship Id="rId8" Type="http://schemas.openxmlformats.org/officeDocument/2006/relationships/slideLayout" Target="../slideLayouts/slideLayout858.xml"/><Relationship Id="rId9" Type="http://schemas.openxmlformats.org/officeDocument/2006/relationships/slideLayout" Target="../slideLayouts/slideLayout859.xml"/><Relationship Id="rId10" Type="http://schemas.openxmlformats.org/officeDocument/2006/relationships/slideLayout" Target="../slideLayouts/slideLayout860.xml"/><Relationship Id="rId11" Type="http://schemas.openxmlformats.org/officeDocument/2006/relationships/slideLayout" Target="../slideLayouts/slideLayout861.xml"/><Relationship Id="rId12" Type="http://schemas.openxmlformats.org/officeDocument/2006/relationships/slideLayout" Target="../slideLayouts/slideLayout862.xml"/><Relationship Id="rId13" Type="http://schemas.openxmlformats.org/officeDocument/2006/relationships/slideLayout" Target="../slideLayouts/slideLayout863.xml"/><Relationship Id="rId14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65.xml"/><Relationship Id="rId4" Type="http://schemas.openxmlformats.org/officeDocument/2006/relationships/slideLayout" Target="../slideLayouts/slideLayout866.xml"/><Relationship Id="rId5" Type="http://schemas.openxmlformats.org/officeDocument/2006/relationships/slideLayout" Target="../slideLayouts/slideLayout867.xml"/><Relationship Id="rId6" Type="http://schemas.openxmlformats.org/officeDocument/2006/relationships/slideLayout" Target="../slideLayouts/slideLayout868.xml"/><Relationship Id="rId7" Type="http://schemas.openxmlformats.org/officeDocument/2006/relationships/slideLayout" Target="../slideLayouts/slideLayout869.xml"/><Relationship Id="rId8" Type="http://schemas.openxmlformats.org/officeDocument/2006/relationships/slideLayout" Target="../slideLayouts/slideLayout870.xml"/><Relationship Id="rId9" Type="http://schemas.openxmlformats.org/officeDocument/2006/relationships/slideLayout" Target="../slideLayouts/slideLayout871.xml"/><Relationship Id="rId10" Type="http://schemas.openxmlformats.org/officeDocument/2006/relationships/slideLayout" Target="../slideLayouts/slideLayout872.xml"/><Relationship Id="rId11" Type="http://schemas.openxmlformats.org/officeDocument/2006/relationships/slideLayout" Target="../slideLayouts/slideLayout873.xml"/><Relationship Id="rId12" Type="http://schemas.openxmlformats.org/officeDocument/2006/relationships/slideLayout" Target="../slideLayouts/slideLayout874.xml"/><Relationship Id="rId13" Type="http://schemas.openxmlformats.org/officeDocument/2006/relationships/slideLayout" Target="../slideLayouts/slideLayout875.xml"/><Relationship Id="rId14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77.xml"/><Relationship Id="rId4" Type="http://schemas.openxmlformats.org/officeDocument/2006/relationships/slideLayout" Target="../slideLayouts/slideLayout878.xml"/><Relationship Id="rId5" Type="http://schemas.openxmlformats.org/officeDocument/2006/relationships/slideLayout" Target="../slideLayouts/slideLayout879.xml"/><Relationship Id="rId6" Type="http://schemas.openxmlformats.org/officeDocument/2006/relationships/slideLayout" Target="../slideLayouts/slideLayout880.xml"/><Relationship Id="rId7" Type="http://schemas.openxmlformats.org/officeDocument/2006/relationships/slideLayout" Target="../slideLayouts/slideLayout881.xml"/><Relationship Id="rId8" Type="http://schemas.openxmlformats.org/officeDocument/2006/relationships/slideLayout" Target="../slideLayouts/slideLayout882.xml"/><Relationship Id="rId9" Type="http://schemas.openxmlformats.org/officeDocument/2006/relationships/slideLayout" Target="../slideLayouts/slideLayout883.xml"/><Relationship Id="rId10" Type="http://schemas.openxmlformats.org/officeDocument/2006/relationships/slideLayout" Target="../slideLayouts/slideLayout884.xml"/><Relationship Id="rId11" Type="http://schemas.openxmlformats.org/officeDocument/2006/relationships/slideLayout" Target="../slideLayouts/slideLayout885.xml"/><Relationship Id="rId12" Type="http://schemas.openxmlformats.org/officeDocument/2006/relationships/slideLayout" Target="../slideLayouts/slideLayout886.xml"/><Relationship Id="rId13" Type="http://schemas.openxmlformats.org/officeDocument/2006/relationships/slideLayout" Target="../slideLayouts/slideLayout887.xml"/><Relationship Id="rId14" Type="http://schemas.openxmlformats.org/officeDocument/2006/relationships/slideLayout" Target="../slideLayouts/slideLayout88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2B3E61-09E1-41D6-B0D4-80D30510EBB4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sldNum" idx="2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EA430-8E46-41EC-843C-7AB5AE3255CF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3ED69-A631-43C1-B34D-0C0D896D0312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FF787-7EB7-48E1-BD83-556FF0A0A893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2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4F732-F385-4F77-A34B-98B0B8D910EB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2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A994A-FE69-46B6-8A22-A9D9930F56A4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3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AF88E-73A5-41BC-846C-2CD881126F9C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3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DAD4C-AA51-4AD0-BA24-901219018DD7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3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sldNum" idx="3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00B77-816B-4B14-8D6A-3FBFD46BD92D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3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sldNum" idx="3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F7B07-FAF9-48E3-80D4-4AA6A7BED784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3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sldNum" idx="3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16247-5233-4BDF-B9BC-A0F18103B879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8C05A-FDCC-483C-88C2-2D65673024C6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3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4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68844-7826-456B-BAA8-50FE0F1226FD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sldNum" idx="4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E5AE8-32C2-47AE-90BA-75EDCD996A97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4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4C967-C201-4AE0-ADE5-D04575A50DC6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4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sldNum" idx="4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42BAA-9FE3-46D3-BC68-227DE7F0CBAF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4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sldNum" idx="4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1899D-2105-48EA-B8B4-D8B8F2371D63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4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sldNum" idx="5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B16D2-D982-4589-A568-2F62DC60275A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5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sldNum" idx="5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B12B5-CC50-410D-AF9D-D6131A84FDE5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 type="dt" idx="5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 type="sldNum" idx="5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FA558-F69B-4A30-975C-4D681DDD4235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5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sldNum" idx="5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F7486-4FD5-4666-9A46-B309A7BFDAAA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5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5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5A5A8-D717-4CC6-901E-ED19EAD97873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E78CB-BBC5-4FB1-A0AB-9624FECAF3A6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5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sldNum" idx="6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4D4C2-9406-4C50-AEE6-4A4574439672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6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sldNum" idx="6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80357-BA94-4581-A341-846CDB0C69DB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 type="dt" idx="6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 type="sldNum" idx="6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220FA-31E5-4A91-831F-8DFEE0D85A2C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 type="dt" idx="6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 type="sldNum" idx="6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BB08C-AD2B-455B-B227-FC9978EFBEBC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dt" idx="6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6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103D7-A598-4D19-BCE6-E25733631F5C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dt" idx="69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sldNum" idx="70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ED983-72BA-4F0F-A3D4-3BDDA0DE51AB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 type="dt" idx="7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 type="sldNum" idx="7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12D49-2DB9-4DBE-85BA-A999D5B6F88A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 type="dt" idx="7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 type="sldNum" idx="7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8F225-A0D5-4F25-9328-827CD682EBED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dt" idx="7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sldNum" idx="7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34EFB-67E9-4D45-B014-CD696D6CC4B8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124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7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26/4/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7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1200" spc="-1" strike="noStrike">
                <a:solidFill>
                  <a:srgbClr val="8b8b8b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0C62C-199A-4838-840A-560047D45B77}" type="slidenum">
              <a:rPr b="0" lang="uk-UA" sz="1200" spc="-1" strike="noStrike">
                <a:solidFill>
                  <a:srgbClr val="8b8b8b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1"/>
          <p:cNvGrpSpPr/>
          <p:nvPr/>
        </p:nvGrpSpPr>
        <p:grpSpPr>
          <a:xfrm>
            <a:off x="0" y="228600"/>
            <a:ext cx="1969920" cy="6627960"/>
            <a:chOff x="0" y="228600"/>
            <a:chExt cx="1969920" cy="6627960"/>
          </a:xfrm>
        </p:grpSpPr>
        <p:sp>
          <p:nvSpPr>
            <p:cNvPr id="124" name="AutoShape 2"/>
            <p:cNvSpPr/>
            <p:nvPr/>
          </p:nvSpPr>
          <p:spPr>
            <a:xfrm>
              <a:off x="0" y="2575080"/>
              <a:ext cx="58680" cy="614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14160"/>
                <a:gd name="textAreaBottom" fmla="*/ 614520 h 614160"/>
              </a:gdLst>
              <a:ahLst/>
              <a:rect l="textAreaLeft" t="textAreaTop" r="textAreaRight" b="textAreaBottom"/>
              <a:pathLst>
                <a:path w="37" h="387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3"/>
            <p:cNvSpPr/>
            <p:nvPr/>
          </p:nvSpPr>
          <p:spPr>
            <a:xfrm>
              <a:off x="88920" y="3156120"/>
              <a:ext cx="438120" cy="231120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2311200"/>
                <a:gd name="textAreaBottom" fmla="*/ 2311560 h 2311200"/>
              </a:gdLst>
              <a:ahLst/>
              <a:rect l="textAreaLeft" t="textAreaTop" r="textAreaRight" b="textAreaBottom"/>
              <a:pathLst>
                <a:path w="276" h="1456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4"/>
            <p:cNvSpPr/>
            <p:nvPr/>
          </p:nvSpPr>
          <p:spPr>
            <a:xfrm>
              <a:off x="560520" y="5446800"/>
              <a:ext cx="411120" cy="1407960"/>
            </a:xfrm>
            <a:custGeom>
              <a:avLst/>
              <a:gdLst>
                <a:gd name="textAreaLeft" fmla="*/ 0 w 411120"/>
                <a:gd name="textAreaRight" fmla="*/ 411480 w 411120"/>
                <a:gd name="textAreaTop" fmla="*/ 0 h 1407960"/>
                <a:gd name="textAreaBottom" fmla="*/ 1408320 h 1407960"/>
              </a:gdLst>
              <a:ahLst/>
              <a:rect l="textAreaLeft" t="textAreaTop" r="textAreaRight" b="textAreaBottom"/>
              <a:pathLst>
                <a:path w="259" h="887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AutoShape 5"/>
            <p:cNvSpPr/>
            <p:nvPr/>
          </p:nvSpPr>
          <p:spPr>
            <a:xfrm>
              <a:off x="666720" y="6504120"/>
              <a:ext cx="108000" cy="352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68" h="222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AutoShape 6"/>
            <p:cNvSpPr/>
            <p:nvPr/>
          </p:nvSpPr>
          <p:spPr>
            <a:xfrm>
              <a:off x="69840" y="3200400"/>
              <a:ext cx="558720" cy="331776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3317760"/>
                <a:gd name="textAreaBottom" fmla="*/ 3318120 h 3317760"/>
              </a:gdLst>
              <a:ahLst/>
              <a:rect l="textAreaLeft" t="textAreaTop" r="textAreaRight" b="textAreaBottom"/>
              <a:pathLst>
                <a:path w="352" h="2090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AutoShape 7"/>
            <p:cNvSpPr/>
            <p:nvPr/>
          </p:nvSpPr>
          <p:spPr>
            <a:xfrm>
              <a:off x="15840" y="228600"/>
              <a:ext cx="61920" cy="29163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2916360"/>
                <a:gd name="textAreaBottom" fmla="*/ 2916720 h 2916360"/>
              </a:gdLst>
              <a:ahLst/>
              <a:rect l="textAreaLeft" t="textAreaTop" r="textAreaRight" b="textAreaBottom"/>
              <a:pathLst>
                <a:path w="39" h="1837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AutoShape 8"/>
            <p:cNvSpPr/>
            <p:nvPr/>
          </p:nvSpPr>
          <p:spPr>
            <a:xfrm>
              <a:off x="54000" y="2944800"/>
              <a:ext cx="42840" cy="482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27" h="304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9"/>
            <p:cNvSpPr/>
            <p:nvPr/>
          </p:nvSpPr>
          <p:spPr>
            <a:xfrm>
              <a:off x="534960" y="5478480"/>
              <a:ext cx="120600" cy="10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012680"/>
                <a:gd name="textAreaBottom" fmla="*/ 1013040 h 1012680"/>
              </a:gdLst>
              <a:ahLst/>
              <a:rect l="textAreaLeft" t="textAreaTop" r="textAreaRight" b="textAreaBottom"/>
              <a:pathLst>
                <a:path w="76" h="638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10"/>
            <p:cNvSpPr/>
            <p:nvPr/>
          </p:nvSpPr>
          <p:spPr>
            <a:xfrm>
              <a:off x="538200" y="1398600"/>
              <a:ext cx="1431720" cy="4037040"/>
            </a:xfrm>
            <a:custGeom>
              <a:avLst/>
              <a:gdLst>
                <a:gd name="textAreaLeft" fmla="*/ 0 w 1431720"/>
                <a:gd name="textAreaRight" fmla="*/ 1432080 w 14317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902" h="2543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41520" y="6529320"/>
              <a:ext cx="101520" cy="325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64" h="205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AutoShape 12"/>
            <p:cNvSpPr/>
            <p:nvPr/>
          </p:nvSpPr>
          <p:spPr>
            <a:xfrm>
              <a:off x="534960" y="5359320"/>
              <a:ext cx="14400" cy="209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" h="132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utoShape 13"/>
            <p:cNvSpPr/>
            <p:nvPr/>
          </p:nvSpPr>
          <p:spPr>
            <a:xfrm>
              <a:off x="590400" y="6245280"/>
              <a:ext cx="154080" cy="6112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611280"/>
                <a:gd name="textAreaBottom" fmla="*/ 611280 h 611280"/>
              </a:gdLst>
              <a:ahLst/>
              <a:rect l="textAreaLeft" t="textAreaTop" r="textAreaRight" b="textAreaBottom"/>
              <a:pathLst>
                <a:path w="97" h="38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14"/>
          <p:cNvGrpSpPr/>
          <p:nvPr/>
        </p:nvGrpSpPr>
        <p:grpSpPr>
          <a:xfrm>
            <a:off x="20520" y="0"/>
            <a:ext cx="1941480" cy="6842160"/>
            <a:chOff x="20520" y="0"/>
            <a:chExt cx="1941480" cy="6842160"/>
          </a:xfrm>
        </p:grpSpPr>
        <p:sp>
          <p:nvSpPr>
            <p:cNvPr id="137" name="AutoShape 15"/>
            <p:cNvSpPr/>
            <p:nvPr/>
          </p:nvSpPr>
          <p:spPr>
            <a:xfrm>
              <a:off x="20520" y="0"/>
              <a:ext cx="398520" cy="43894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389480"/>
                <a:gd name="textAreaBottom" fmla="*/ 4389840 h 4389480"/>
              </a:gdLst>
              <a:ahLst/>
              <a:rect l="textAreaLeft" t="textAreaTop" r="textAreaRight" b="textAreaBottom"/>
              <a:pathLst>
                <a:path w="251" h="2765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AutoShape 16"/>
            <p:cNvSpPr/>
            <p:nvPr/>
          </p:nvSpPr>
          <p:spPr>
            <a:xfrm>
              <a:off x="453960" y="4316400"/>
              <a:ext cx="339840" cy="156996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1569960"/>
                <a:gd name="textAreaBottom" fmla="*/ 1570320 h 1569960"/>
              </a:gdLst>
              <a:ahLst/>
              <a:rect l="textAreaLeft" t="textAreaTop" r="textAreaRight" b="textAreaBottom"/>
              <a:pathLst>
                <a:path w="214" h="989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AutoShape 17"/>
            <p:cNvSpPr/>
            <p:nvPr/>
          </p:nvSpPr>
          <p:spPr>
            <a:xfrm>
              <a:off x="831960" y="5862600"/>
              <a:ext cx="345960" cy="9795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218" h="61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AutoShape 18"/>
            <p:cNvSpPr/>
            <p:nvPr/>
          </p:nvSpPr>
          <p:spPr>
            <a:xfrm>
              <a:off x="430200" y="4363920"/>
              <a:ext cx="446040" cy="2224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2224080"/>
                <a:gd name="textAreaBottom" fmla="*/ 2224440 h 2224080"/>
              </a:gdLst>
              <a:ahLst/>
              <a:rect l="textAreaLeft" t="textAreaTop" r="textAreaRight" b="textAreaBottom"/>
              <a:pathLst>
                <a:path w="281" h="1401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AutoShape 19"/>
            <p:cNvSpPr/>
            <p:nvPr/>
          </p:nvSpPr>
          <p:spPr>
            <a:xfrm>
              <a:off x="385920" y="1289160"/>
              <a:ext cx="133200" cy="30160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3016080"/>
                <a:gd name="textAreaBottom" fmla="*/ 3016440 h 3016080"/>
              </a:gdLst>
              <a:ahLst/>
              <a:rect l="textAreaLeft" t="textAreaTop" r="textAreaRight" b="textAreaBottom"/>
              <a:pathLst>
                <a:path w="84" h="1900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AutoShape 20"/>
            <p:cNvSpPr/>
            <p:nvPr/>
          </p:nvSpPr>
          <p:spPr>
            <a:xfrm>
              <a:off x="919080" y="6570720"/>
              <a:ext cx="100080" cy="2696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3" h="170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AutoShape 21"/>
            <p:cNvSpPr/>
            <p:nvPr/>
          </p:nvSpPr>
          <p:spPr>
            <a:xfrm>
              <a:off x="414360" y="4106880"/>
              <a:ext cx="57240" cy="5000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36" h="315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AutoShape 22"/>
            <p:cNvSpPr/>
            <p:nvPr/>
          </p:nvSpPr>
          <p:spPr>
            <a:xfrm>
              <a:off x="804960" y="3146400"/>
              <a:ext cx="1157040" cy="270504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2705040"/>
                <a:gd name="textAreaBottom" fmla="*/ 2705400 h 2705040"/>
              </a:gdLst>
              <a:ahLst/>
              <a:rect l="textAreaLeft" t="textAreaTop" r="textAreaRight" b="textAreaBottom"/>
              <a:pathLst>
                <a:path w="729" h="1704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23"/>
            <p:cNvSpPr/>
            <p:nvPr/>
          </p:nvSpPr>
          <p:spPr>
            <a:xfrm>
              <a:off x="887400" y="6600960"/>
              <a:ext cx="88920" cy="2412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56" h="152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24"/>
            <p:cNvSpPr/>
            <p:nvPr/>
          </p:nvSpPr>
          <p:spPr>
            <a:xfrm>
              <a:off x="804960" y="5897520"/>
              <a:ext cx="102960" cy="6634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3480"/>
                <a:gd name="textAreaBottom" fmla="*/ 663840 h 663480"/>
              </a:gdLst>
              <a:ahLst/>
              <a:rect l="textAreaLeft" t="textAreaTop" r="textAreaRight" b="textAreaBottom"/>
              <a:pathLst>
                <a:path w="65" h="418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AutoShape 25"/>
            <p:cNvSpPr/>
            <p:nvPr/>
          </p:nvSpPr>
          <p:spPr>
            <a:xfrm>
              <a:off x="804960" y="5772240"/>
              <a:ext cx="20520" cy="215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13" h="136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AutoShape 26"/>
            <p:cNvSpPr/>
            <p:nvPr/>
          </p:nvSpPr>
          <p:spPr>
            <a:xfrm>
              <a:off x="831960" y="6323040"/>
              <a:ext cx="163440" cy="51912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103" h="327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Rectangle 27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  <a:effectLst>
            <a:outerShdw dist="255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1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1395413" h="78105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8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87C16DD-0B74-4102-9308-917D6CFB1369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dt" idx="79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 type="sldNum" idx="80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D3E8F7F-C045-4D36-84F3-8ED47FEAAB26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81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sldNum" idx="82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7EE24DC-0A57-4D74-B76C-D1BBE1CB7C2A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 type="dt" idx="83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 type="sldNum" idx="84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D69CC18-5EAB-4967-9DBC-57F349546FDA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 type="dt" idx="85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 type="sldNum" idx="86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3907DC2-84AC-4A35-8A56-6ACA37777185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 type="dt" idx="87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 type="sldNum" idx="88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09F50E9-F7FF-4963-9589-E7E580237541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 type="dt" idx="89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 type="sldNum" idx="90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A2B8CEB-256D-479C-B877-DA1C69B3BBD9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 type="dt" idx="91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 type="sldNum" idx="92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928F62CB-A7D6-4648-B6A4-DFBF3CEC7490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 type="dt" idx="93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 type="sldNum" idx="94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6BE035E-0A34-4890-B85F-4FDD494C4C3F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 type="dt" idx="95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 type="sldNum" idx="96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36B9B2E-F643-4BCE-95C8-897C97B1A794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 type="dt" idx="97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 type="sldNum" idx="98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F83001C-1EE7-45C6-97D4-FDD11A01EAAC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334800" y="457200"/>
            <a:ext cx="2776680" cy="95400"/>
          </a:xfrm>
          <a:prstGeom prst="rect">
            <a:avLst/>
          </a:prstGeom>
          <a:solidFill>
            <a:srgbClr val="366658"/>
          </a:solidFill>
          <a:ln w="0">
            <a:noFill/>
          </a:ln>
          <a:effectLst>
            <a:outerShdw dist="25560" dir="54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6031080" y="453960"/>
            <a:ext cx="2776320" cy="98640"/>
          </a:xfrm>
          <a:prstGeom prst="rect">
            <a:avLst/>
          </a:prstGeom>
          <a:solidFill>
            <a:srgbClr val="969fa7"/>
          </a:solidFill>
          <a:ln w="0">
            <a:noFill/>
          </a:ln>
          <a:effectLst>
            <a:outerShdw dist="25560" dir="54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81320" y="457200"/>
            <a:ext cx="2776680" cy="90360"/>
          </a:xfrm>
          <a:prstGeom prst="rect">
            <a:avLst/>
          </a:prstGeom>
          <a:solidFill>
            <a:srgbClr val="8cb64a"/>
          </a:solidFill>
          <a:ln w="0">
            <a:noFill/>
          </a:ln>
          <a:effectLst>
            <a:outerShdw dist="25560" dir="54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336600" y="5141880"/>
            <a:ext cx="84675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  <a:effectLst>
            <a:outerShdw dist="25560" dir="54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9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34880" y="5951520"/>
            <a:ext cx="5187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0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90D3C02-9659-437F-9E3F-853EA282933B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 type="dt" idx="99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 type="sldNum" idx="100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C1540AD-59FC-4482-9913-1A3741C051E5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8944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18440" cy="396576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 type="dt" idx="101"/>
          </p:nvPr>
        </p:nvSpPr>
        <p:spPr>
          <a:xfrm>
            <a:off x="7772040" y="6135840"/>
            <a:ext cx="7556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 type="sldNum" idx="102"/>
          </p:nvPr>
        </p:nvSpPr>
        <p:spPr>
          <a:xfrm>
            <a:off x="423720" y="4528800"/>
            <a:ext cx="5731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6A878D2-D8C5-46A7-81A2-98BFFD644652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 type="dt" idx="103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 type="sldNum" idx="104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FF03DDA-4102-43BB-926D-C08DACE11767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 type="dt" idx="105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 type="sldNum" idx="106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B2D7DA6-67BE-460F-9C23-5A33F48A379B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 type="dt" idx="107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 type="sldNum" idx="108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CBB059D-B540-4DF9-BE32-778A6853F38D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 type="dt" idx="109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 type="sldNum" idx="110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CCDE528-9341-4AA2-8794-E2691D5CCE03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 type="dt" idx="111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 type="sldNum" idx="112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F7C1820-668C-4605-9CAE-2506787D253E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 type="dt" idx="113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 type="sldNum" idx="114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1DD75D5-E06F-4CD2-B3A0-457C2AB5F1D4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 type="dt" idx="115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PlaceHolder 4"/>
          <p:cNvSpPr>
            <a:spLocks noGrp="1"/>
          </p:cNvSpPr>
          <p:nvPr>
            <p:ph type="sldNum" idx="116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C2CD692-950F-47BB-B369-E87CBAC7A390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 type="dt" idx="117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 type="sldNum" idx="118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5C01B8F-8A70-43EE-A7BD-32E7CBD1C4A5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Group 1"/>
          <p:cNvGrpSpPr/>
          <p:nvPr/>
        </p:nvGrpSpPr>
        <p:grpSpPr>
          <a:xfrm>
            <a:off x="0" y="228600"/>
            <a:ext cx="1976400" cy="6634080"/>
            <a:chOff x="0" y="228600"/>
            <a:chExt cx="1976400" cy="6634080"/>
          </a:xfrm>
        </p:grpSpPr>
        <p:sp>
          <p:nvSpPr>
            <p:cNvPr id="238" name="AutoShape 2"/>
            <p:cNvSpPr/>
            <p:nvPr/>
          </p:nvSpPr>
          <p:spPr>
            <a:xfrm>
              <a:off x="0" y="2575080"/>
              <a:ext cx="65160" cy="6206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20640"/>
                <a:gd name="textAreaBottom" fmla="*/ 621000 h 620640"/>
              </a:gdLst>
              <a:ahLst/>
              <a:rect l="textAreaLeft" t="textAreaTop" r="textAreaRight" b="textAreaBottom"/>
              <a:pathLst>
                <a:path w="41" h="391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AutoShape 3"/>
            <p:cNvSpPr/>
            <p:nvPr/>
          </p:nvSpPr>
          <p:spPr>
            <a:xfrm>
              <a:off x="88920" y="3156120"/>
              <a:ext cx="444600" cy="2317680"/>
            </a:xfrm>
            <a:custGeom>
              <a:avLst/>
              <a:gdLst>
                <a:gd name="textAreaLeft" fmla="*/ 0 w 444600"/>
                <a:gd name="textAreaRight" fmla="*/ 444960 w 444600"/>
                <a:gd name="textAreaTop" fmla="*/ 0 h 2317680"/>
                <a:gd name="textAreaBottom" fmla="*/ 2318040 h 2317680"/>
              </a:gdLst>
              <a:ahLst/>
              <a:rect l="textAreaLeft" t="textAreaTop" r="textAreaRight" b="textAreaBottom"/>
              <a:pathLst>
                <a:path w="280" h="1460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AutoShape 4"/>
            <p:cNvSpPr/>
            <p:nvPr/>
          </p:nvSpPr>
          <p:spPr>
            <a:xfrm>
              <a:off x="560520" y="5446800"/>
              <a:ext cx="417240" cy="141444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1414440"/>
                <a:gd name="textAreaBottom" fmla="*/ 1414800 h 1414440"/>
              </a:gdLst>
              <a:ahLst/>
              <a:rect l="textAreaLeft" t="textAreaTop" r="textAreaRight" b="textAreaBottom"/>
              <a:pathLst>
                <a:path w="263" h="891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AutoShape 5"/>
            <p:cNvSpPr/>
            <p:nvPr/>
          </p:nvSpPr>
          <p:spPr>
            <a:xfrm>
              <a:off x="666720" y="6504120"/>
              <a:ext cx="114480" cy="3585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72" h="226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AutoShape 6"/>
            <p:cNvSpPr/>
            <p:nvPr/>
          </p:nvSpPr>
          <p:spPr>
            <a:xfrm>
              <a:off x="69840" y="3200400"/>
              <a:ext cx="565200" cy="332424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3324240"/>
                <a:gd name="textAreaBottom" fmla="*/ 3324600 h 3324240"/>
              </a:gdLst>
              <a:ahLst/>
              <a:rect l="textAreaLeft" t="textAreaTop" r="textAreaRight" b="textAreaBottom"/>
              <a:pathLst>
                <a:path w="356" h="2094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AutoShape 7"/>
            <p:cNvSpPr/>
            <p:nvPr/>
          </p:nvSpPr>
          <p:spPr>
            <a:xfrm>
              <a:off x="15840" y="228600"/>
              <a:ext cx="68400" cy="29224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2922480"/>
                <a:gd name="textAreaBottom" fmla="*/ 2922840 h 2922480"/>
              </a:gdLst>
              <a:ahLst/>
              <a:rect l="textAreaLeft" t="textAreaTop" r="textAreaRight" b="textAreaBottom"/>
              <a:pathLst>
                <a:path w="43" h="1841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AutoShape 8"/>
            <p:cNvSpPr/>
            <p:nvPr/>
          </p:nvSpPr>
          <p:spPr>
            <a:xfrm>
              <a:off x="54000" y="2944800"/>
              <a:ext cx="49320" cy="4888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31" h="308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AutoShape 9"/>
            <p:cNvSpPr/>
            <p:nvPr/>
          </p:nvSpPr>
          <p:spPr>
            <a:xfrm>
              <a:off x="534960" y="5478480"/>
              <a:ext cx="127080" cy="10191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019160"/>
                <a:gd name="textAreaBottom" fmla="*/ 1019160 h 1019160"/>
              </a:gdLst>
              <a:ahLst/>
              <a:rect l="textAreaLeft" t="textAreaTop" r="textAreaRight" b="textAreaBottom"/>
              <a:pathLst>
                <a:path w="80" h="64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AutoShape 10"/>
            <p:cNvSpPr/>
            <p:nvPr/>
          </p:nvSpPr>
          <p:spPr>
            <a:xfrm>
              <a:off x="538200" y="1398600"/>
              <a:ext cx="1438200" cy="4043520"/>
            </a:xfrm>
            <a:custGeom>
              <a:avLst/>
              <a:gdLst>
                <a:gd name="textAreaLeft" fmla="*/ 0 w 1438200"/>
                <a:gd name="textAreaRight" fmla="*/ 1438560 w 1438200"/>
                <a:gd name="textAreaTop" fmla="*/ 0 h 4043520"/>
                <a:gd name="textAreaBottom" fmla="*/ 4043880 h 4043520"/>
              </a:gdLst>
              <a:ahLst/>
              <a:rect l="textAreaLeft" t="textAreaTop" r="textAreaRight" b="textAreaBottom"/>
              <a:pathLst>
                <a:path w="906" h="2547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AutoShape 11"/>
            <p:cNvSpPr/>
            <p:nvPr/>
          </p:nvSpPr>
          <p:spPr>
            <a:xfrm>
              <a:off x="641520" y="6529320"/>
              <a:ext cx="107640" cy="33192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68" h="209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AutoShape 12"/>
            <p:cNvSpPr/>
            <p:nvPr/>
          </p:nvSpPr>
          <p:spPr>
            <a:xfrm>
              <a:off x="534960" y="5359320"/>
              <a:ext cx="20520" cy="2160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3" h="136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590400" y="6245280"/>
              <a:ext cx="160560" cy="61740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617400"/>
                <a:gd name="textAreaBottom" fmla="*/ 617400 h 617400"/>
              </a:gdLst>
              <a:ahLst/>
              <a:rect l="textAreaLeft" t="textAreaTop" r="textAreaRight" b="textAreaBottom"/>
              <a:pathLst>
                <a:path w="101" h="389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20520" y="0"/>
            <a:ext cx="1947960" cy="6848640"/>
            <a:chOff x="20520" y="0"/>
            <a:chExt cx="1947960" cy="6848640"/>
          </a:xfrm>
        </p:grpSpPr>
        <p:sp>
          <p:nvSpPr>
            <p:cNvPr id="251" name="AutoShape 15"/>
            <p:cNvSpPr/>
            <p:nvPr/>
          </p:nvSpPr>
          <p:spPr>
            <a:xfrm>
              <a:off x="20520" y="0"/>
              <a:ext cx="405000" cy="4395960"/>
            </a:xfrm>
            <a:custGeom>
              <a:avLst/>
              <a:gdLst>
                <a:gd name="textAreaLeft" fmla="*/ 0 w 405000"/>
                <a:gd name="textAreaRight" fmla="*/ 405360 w 405000"/>
                <a:gd name="textAreaTop" fmla="*/ 0 h 4395960"/>
                <a:gd name="textAreaBottom" fmla="*/ 4396320 h 4395960"/>
              </a:gdLst>
              <a:ahLst/>
              <a:rect l="textAreaLeft" t="textAreaTop" r="textAreaRight" b="textAreaBottom"/>
              <a:pathLst>
                <a:path w="255" h="2769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AutoShape 16"/>
            <p:cNvSpPr/>
            <p:nvPr/>
          </p:nvSpPr>
          <p:spPr>
            <a:xfrm>
              <a:off x="453960" y="4316400"/>
              <a:ext cx="346320" cy="157644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1576440"/>
                <a:gd name="textAreaBottom" fmla="*/ 1576800 h 1576440"/>
              </a:gdLst>
              <a:ahLst/>
              <a:rect l="textAreaLeft" t="textAreaTop" r="textAreaRight" b="textAreaBottom"/>
              <a:pathLst>
                <a:path w="218" h="993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AutoShape 17"/>
            <p:cNvSpPr/>
            <p:nvPr/>
          </p:nvSpPr>
          <p:spPr>
            <a:xfrm>
              <a:off x="831960" y="5862600"/>
              <a:ext cx="352440" cy="9860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222" h="621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AutoShape 18"/>
            <p:cNvSpPr/>
            <p:nvPr/>
          </p:nvSpPr>
          <p:spPr>
            <a:xfrm>
              <a:off x="430200" y="4363920"/>
              <a:ext cx="452520" cy="2230560"/>
            </a:xfrm>
            <a:custGeom>
              <a:avLst/>
              <a:gdLst>
                <a:gd name="textAreaLeft" fmla="*/ 0 w 452520"/>
                <a:gd name="textAreaRight" fmla="*/ 452880 w 452520"/>
                <a:gd name="textAreaTop" fmla="*/ 0 h 2230560"/>
                <a:gd name="textAreaBottom" fmla="*/ 2230920 h 2230560"/>
              </a:gdLst>
              <a:ahLst/>
              <a:rect l="textAreaLeft" t="textAreaTop" r="textAreaRight" b="textAreaBottom"/>
              <a:pathLst>
                <a:path w="285" h="1405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AutoShape 19"/>
            <p:cNvSpPr/>
            <p:nvPr/>
          </p:nvSpPr>
          <p:spPr>
            <a:xfrm>
              <a:off x="385920" y="1289160"/>
              <a:ext cx="139680" cy="30225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88" h="1904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20"/>
            <p:cNvSpPr/>
            <p:nvPr/>
          </p:nvSpPr>
          <p:spPr>
            <a:xfrm>
              <a:off x="919080" y="6570720"/>
              <a:ext cx="106560" cy="2761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67" h="174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21"/>
            <p:cNvSpPr/>
            <p:nvPr/>
          </p:nvSpPr>
          <p:spPr>
            <a:xfrm>
              <a:off x="414360" y="4106880"/>
              <a:ext cx="63360" cy="506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40" h="319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AutoShape 22"/>
            <p:cNvSpPr/>
            <p:nvPr/>
          </p:nvSpPr>
          <p:spPr>
            <a:xfrm>
              <a:off x="804960" y="3146400"/>
              <a:ext cx="1163520" cy="2711520"/>
            </a:xfrm>
            <a:custGeom>
              <a:avLst/>
              <a:gdLst>
                <a:gd name="textAreaLeft" fmla="*/ 0 w 1163520"/>
                <a:gd name="textAreaRight" fmla="*/ 1163880 w 1163520"/>
                <a:gd name="textAreaTop" fmla="*/ 0 h 2711520"/>
                <a:gd name="textAreaBottom" fmla="*/ 2711880 h 2711520"/>
              </a:gdLst>
              <a:ahLst/>
              <a:rect l="textAreaLeft" t="textAreaTop" r="textAreaRight" b="textAreaBottom"/>
              <a:pathLst>
                <a:path w="733" h="170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887400" y="6600960"/>
              <a:ext cx="95400" cy="2476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0" h="156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804960" y="5897520"/>
              <a:ext cx="109440" cy="66996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669960"/>
                <a:gd name="textAreaBottom" fmla="*/ 669960 h 669960"/>
              </a:gdLst>
              <a:ahLst/>
              <a:rect l="textAreaLeft" t="textAreaTop" r="textAreaRight" b="textAreaBottom"/>
              <a:pathLst>
                <a:path w="69" h="422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804960" y="5772240"/>
              <a:ext cx="27000" cy="2221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17" h="140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26"/>
            <p:cNvSpPr/>
            <p:nvPr/>
          </p:nvSpPr>
          <p:spPr>
            <a:xfrm>
              <a:off x="831960" y="6323040"/>
              <a:ext cx="169920" cy="5256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107" h="33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27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  <a:effectLst>
            <a:outerShdw dist="255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1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0"/>
          <p:cNvSpPr/>
          <p:nvPr/>
        </p:nvSpPr>
        <p:spPr>
          <a:xfrm>
            <a:off x="194328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1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1395413" h="78105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12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B0BD1F4-5076-4B31-A560-69F8A72C6B90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 type="dt" idx="119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 type="sldNum" idx="120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5F8BBEE-3997-48F7-95F5-99873F029434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68" name="PlaceHolder 3"/>
          <p:cNvSpPr>
            <a:spLocks noGrp="1"/>
          </p:cNvSpPr>
          <p:nvPr>
            <p:ph type="dt" idx="121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4"/>
          <p:cNvSpPr>
            <a:spLocks noGrp="1"/>
          </p:cNvSpPr>
          <p:nvPr>
            <p:ph type="sldNum" idx="122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4BC7785-82E4-4079-8D99-9C87C0F58FE9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34880" y="3043080"/>
            <a:ext cx="826128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 type="body"/>
          </p:nvPr>
        </p:nvSpPr>
        <p:spPr>
          <a:xfrm>
            <a:off x="434880" y="4541760"/>
            <a:ext cx="826128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6000"/>
          </a:bodyPr>
          <a:p>
            <a:pPr marL="5472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54720" indent="-5472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 type="dt" idx="123"/>
          </p:nvPr>
        </p:nvSpPr>
        <p:spPr>
          <a:xfrm>
            <a:off x="5703840" y="5956200"/>
            <a:ext cx="212256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 type="sldNum" idx="124"/>
          </p:nvPr>
        </p:nvSpPr>
        <p:spPr>
          <a:xfrm>
            <a:off x="7918560" y="5956200"/>
            <a:ext cx="777600" cy="3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55a08a"/>
                </a:solidFill>
                <a:latin typeface="Gill Sans MT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F1C23B7-C92E-495B-A058-46D5566DC432}" type="slidenum">
              <a:rPr b="0" lang="uk-UA" sz="900" spc="-1" strike="noStrike">
                <a:solidFill>
                  <a:srgbClr val="55a08a"/>
                </a:solidFill>
                <a:latin typeface="Gill Sans MT"/>
                <a:ea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25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sldNum" idx="126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AD54733-520B-4871-835D-3065E6938265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 type="dt" idx="127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 type="sldNum" idx="128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6B12CE3-2423-477A-8ED7-E637410DAD89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 type="dt" idx="129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 type="sldNum" idx="130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4D507F6-4208-4EB2-95BF-2C2035FC6013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3"/>
    <p:sldLayoutId id="2147484482" r:id="rId4"/>
    <p:sldLayoutId id="2147484483" r:id="rId5"/>
    <p:sldLayoutId id="2147484484" r:id="rId6"/>
    <p:sldLayoutId id="2147484485" r:id="rId7"/>
    <p:sldLayoutId id="2147484486" r:id="rId8"/>
    <p:sldLayoutId id="2147484487" r:id="rId9"/>
    <p:sldLayoutId id="2147484488" r:id="rId10"/>
    <p:sldLayoutId id="2147484489" r:id="rId11"/>
    <p:sldLayoutId id="2147484490" r:id="rId12"/>
    <p:sldLayoutId id="2147484491" r:id="rId13"/>
    <p:sldLayoutId id="2147484492" r:id="rId14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 type="dt" idx="131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 type="sldNum" idx="132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6EA398A-9ED3-4582-A13F-6CB5C7FBA468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3"/>
    <p:sldLayoutId id="2147484495" r:id="rId4"/>
    <p:sldLayoutId id="2147484496" r:id="rId5"/>
    <p:sldLayoutId id="2147484497" r:id="rId6"/>
    <p:sldLayoutId id="2147484498" r:id="rId7"/>
    <p:sldLayoutId id="2147484499" r:id="rId8"/>
    <p:sldLayoutId id="2147484500" r:id="rId9"/>
    <p:sldLayoutId id="2147484501" r:id="rId10"/>
    <p:sldLayoutId id="2147484502" r:id="rId11"/>
    <p:sldLayoutId id="2147484503" r:id="rId12"/>
    <p:sldLayoutId id="2147484504" r:id="rId13"/>
    <p:sldLayoutId id="2147484505" r:id="rId14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33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sldNum" idx="134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09A399E-ECA1-46E5-9A48-7188911E0124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3"/>
    <p:sldLayoutId id="2147484508" r:id="rId4"/>
    <p:sldLayoutId id="2147484509" r:id="rId5"/>
    <p:sldLayoutId id="2147484510" r:id="rId6"/>
    <p:sldLayoutId id="2147484511" r:id="rId7"/>
    <p:sldLayoutId id="2147484512" r:id="rId8"/>
    <p:sldLayoutId id="2147484513" r:id="rId9"/>
    <p:sldLayoutId id="2147484514" r:id="rId10"/>
    <p:sldLayoutId id="2147484515" r:id="rId11"/>
    <p:sldLayoutId id="2147484516" r:id="rId12"/>
    <p:sldLayoutId id="2147484517" r:id="rId13"/>
    <p:sldLayoutId id="2147484518" r:id="rId14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8" name="PlaceHolder 3"/>
          <p:cNvSpPr>
            <a:spLocks noGrp="1"/>
          </p:cNvSpPr>
          <p:nvPr>
            <p:ph type="dt" idx="135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PlaceHolder 4"/>
          <p:cNvSpPr>
            <a:spLocks noGrp="1"/>
          </p:cNvSpPr>
          <p:nvPr>
            <p:ph type="sldNum" idx="136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7294D4A-D2EA-4DDE-9D7A-1DFB11BC2411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3"/>
    <p:sldLayoutId id="2147484521" r:id="rId4"/>
    <p:sldLayoutId id="2147484522" r:id="rId5"/>
    <p:sldLayoutId id="2147484523" r:id="rId6"/>
    <p:sldLayoutId id="2147484524" r:id="rId7"/>
    <p:sldLayoutId id="2147484525" r:id="rId8"/>
    <p:sldLayoutId id="2147484526" r:id="rId9"/>
    <p:sldLayoutId id="2147484527" r:id="rId10"/>
    <p:sldLayoutId id="2147484528" r:id="rId11"/>
    <p:sldLayoutId id="2147484529" r:id="rId12"/>
    <p:sldLayoutId id="2147484530" r:id="rId13"/>
    <p:sldLayoutId id="2147484531" r:id="rId14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 type="dt" idx="137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 type="sldNum" idx="138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28E5F2F-05EC-4163-86AD-B4646CF25604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3"/>
    <p:sldLayoutId id="2147484534" r:id="rId4"/>
    <p:sldLayoutId id="2147484535" r:id="rId5"/>
    <p:sldLayoutId id="2147484536" r:id="rId6"/>
    <p:sldLayoutId id="2147484537" r:id="rId7"/>
    <p:sldLayoutId id="2147484538" r:id="rId8"/>
    <p:sldLayoutId id="2147484539" r:id="rId9"/>
    <p:sldLayoutId id="2147484540" r:id="rId10"/>
    <p:sldLayoutId id="2147484541" r:id="rId11"/>
    <p:sldLayoutId id="2147484542" r:id="rId12"/>
    <p:sldLayoutId id="2147484543" r:id="rId13"/>
    <p:sldLayoutId id="2147484544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AE31E-3072-41E0-BA1D-82EB467B9FD9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 type="dt" idx="139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 type="sldNum" idx="140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F82100D-288B-4C24-9AB0-346795D4E2BF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3"/>
    <p:sldLayoutId id="2147484547" r:id="rId4"/>
    <p:sldLayoutId id="2147484548" r:id="rId5"/>
    <p:sldLayoutId id="2147484549" r:id="rId6"/>
    <p:sldLayoutId id="2147484550" r:id="rId7"/>
    <p:sldLayoutId id="2147484551" r:id="rId8"/>
    <p:sldLayoutId id="2147484552" r:id="rId9"/>
    <p:sldLayoutId id="2147484553" r:id="rId10"/>
    <p:sldLayoutId id="2147484554" r:id="rId11"/>
    <p:sldLayoutId id="2147484555" r:id="rId12"/>
    <p:sldLayoutId id="2147484556" r:id="rId13"/>
    <p:sldLayoutId id="2147484557" r:id="rId14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 type="dt" idx="141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4"/>
          <p:cNvSpPr>
            <a:spLocks noGrp="1"/>
          </p:cNvSpPr>
          <p:nvPr>
            <p:ph type="sldNum" idx="142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9A3E714-E96D-41F3-A2E0-C09D5E184A62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3"/>
    <p:sldLayoutId id="2147484560" r:id="rId4"/>
    <p:sldLayoutId id="2147484561" r:id="rId5"/>
    <p:sldLayoutId id="2147484562" r:id="rId6"/>
    <p:sldLayoutId id="2147484563" r:id="rId7"/>
    <p:sldLayoutId id="2147484564" r:id="rId8"/>
    <p:sldLayoutId id="2147484565" r:id="rId9"/>
    <p:sldLayoutId id="2147484566" r:id="rId10"/>
    <p:sldLayoutId id="2147484567" r:id="rId11"/>
    <p:sldLayoutId id="2147484568" r:id="rId12"/>
    <p:sldLayoutId id="2147484569" r:id="rId13"/>
    <p:sldLayoutId id="2147484570" r:id="rId14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 type="dt" idx="143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 type="sldNum" idx="144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8EE07E9-FFDB-46EF-A1BC-61362E32AA9C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3"/>
    <p:sldLayoutId id="2147484573" r:id="rId4"/>
    <p:sldLayoutId id="2147484574" r:id="rId5"/>
    <p:sldLayoutId id="2147484575" r:id="rId6"/>
    <p:sldLayoutId id="2147484576" r:id="rId7"/>
    <p:sldLayoutId id="2147484577" r:id="rId8"/>
    <p:sldLayoutId id="2147484578" r:id="rId9"/>
    <p:sldLayoutId id="2147484579" r:id="rId10"/>
    <p:sldLayoutId id="2147484580" r:id="rId11"/>
    <p:sldLayoutId id="2147484581" r:id="rId12"/>
    <p:sldLayoutId id="2147484582" r:id="rId13"/>
    <p:sldLayoutId id="2147484583" r:id="rId14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 type="dt" idx="145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 type="sldNum" idx="146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A17CF3F-B19D-4505-8E7D-3F805CBEE2E2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3"/>
    <p:sldLayoutId id="2147484586" r:id="rId4"/>
    <p:sldLayoutId id="2147484587" r:id="rId5"/>
    <p:sldLayoutId id="2147484588" r:id="rId6"/>
    <p:sldLayoutId id="2147484589" r:id="rId7"/>
    <p:sldLayoutId id="2147484590" r:id="rId8"/>
    <p:sldLayoutId id="2147484591" r:id="rId9"/>
    <p:sldLayoutId id="2147484592" r:id="rId10"/>
    <p:sldLayoutId id="2147484593" r:id="rId11"/>
    <p:sldLayoutId id="2147484594" r:id="rId12"/>
    <p:sldLayoutId id="2147484595" r:id="rId13"/>
    <p:sldLayoutId id="2147484596" r:id="rId14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1943280" y="2514240"/>
            <a:ext cx="659592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6840" bIns="0" anchor="t">
            <a:normAutofit/>
          </a:bodyPr>
          <a:p>
            <a:pPr marL="343080" indent="0">
              <a:lnSpc>
                <a:spcPct val="97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343080" indent="-343080">
              <a:lnSpc>
                <a:spcPct val="97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 type="dt" idx="147"/>
          </p:nvPr>
        </p:nvSpPr>
        <p:spPr>
          <a:xfrm>
            <a:off x="7772040" y="61358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900" spc="-1" strike="noStrike">
                <a:solidFill>
                  <a:srgbClr val="8b8b8b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uk-UA" sz="900" spc="-1" strike="noStrike">
                <a:solidFill>
                  <a:srgbClr val="8b8b8b"/>
                </a:solidFill>
                <a:latin typeface="Century Gothic"/>
                <a:ea typeface="Tahoma"/>
              </a:rPr>
              <a:t>26/4/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9" name="PlaceHolder 4"/>
          <p:cNvSpPr>
            <a:spLocks noGrp="1"/>
          </p:cNvSpPr>
          <p:nvPr>
            <p:ph type="sldNum" idx="148"/>
          </p:nvPr>
        </p:nvSpPr>
        <p:spPr>
          <a:xfrm>
            <a:off x="423720" y="4528800"/>
            <a:ext cx="57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uk-UA" sz="2000" spc="-1" strike="noStrike">
                <a:solidFill>
                  <a:srgbClr val="feffff"/>
                </a:solidFill>
                <a:latin typeface="Century Gothic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2B5009D-ACF3-4117-8491-BC249F1BC68B}" type="slidenum">
              <a:rPr b="0" lang="uk-UA" sz="2000" spc="-1" strike="noStrike">
                <a:solidFill>
                  <a:srgbClr val="feffff"/>
                </a:solidFill>
                <a:latin typeface="Century Gothic"/>
                <a:ea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3"/>
    <p:sldLayoutId id="2147484599" r:id="rId4"/>
    <p:sldLayoutId id="2147484600" r:id="rId5"/>
    <p:sldLayoutId id="2147484601" r:id="rId6"/>
    <p:sldLayoutId id="2147484602" r:id="rId7"/>
    <p:sldLayoutId id="2147484603" r:id="rId8"/>
    <p:sldLayoutId id="2147484604" r:id="rId9"/>
    <p:sldLayoutId id="2147484605" r:id="rId10"/>
    <p:sldLayoutId id="2147484606" r:id="rId11"/>
    <p:sldLayoutId id="2147484607" r:id="rId12"/>
    <p:sldLayoutId id="2147484608" r:id="rId13"/>
    <p:sldLayoutId id="2147484609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6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60425-A9A2-4C4D-9D51-F4786496C347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44332-C3A1-43F8-A7BA-BBD186B6AA25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0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299880" y="4947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201"/>
              </a:spcBef>
              <a:spcAft>
                <a:spcPts val="30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Розробники курсу: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Проректор </a:t>
            </a:r>
            <a:r>
              <a:rPr b="1" i="1" lang="en-US" sz="1200" spc="-1" strike="noStrike">
                <a:solidFill>
                  <a:srgbClr val="262699"/>
                </a:solidFill>
                <a:latin typeface="Myriad Pro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з науково-педагогічної роботи</a:t>
            </a:r>
            <a:br>
              <a:rPr sz="1200"/>
            </a:b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Каганов Ю</a:t>
            </a:r>
            <a:r>
              <a:rPr b="1" i="1" lang="en-US" sz="1200" spc="-1" strike="noStrike">
                <a:solidFill>
                  <a:srgbClr val="262699"/>
                </a:solidFill>
                <a:latin typeface="Myriad Pro"/>
              </a:rPr>
              <a:t>.</a:t>
            </a: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О., </a:t>
            </a:r>
            <a:r>
              <a:rPr b="1" i="1" lang="en-US" sz="1200" spc="-1" strike="noStrike">
                <a:solidFill>
                  <a:srgbClr val="262699"/>
                </a:solidFill>
                <a:latin typeface="Myriad Pro"/>
              </a:rPr>
              <a:t>znuhist@gmail.com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Проректор</a:t>
            </a:r>
            <a:r>
              <a:rPr b="1" i="1" lang="en-US" sz="1200" spc="-1" strike="noStrike">
                <a:solidFill>
                  <a:srgbClr val="262699"/>
                </a:solidFill>
                <a:latin typeface="Myriad Pro"/>
              </a:rPr>
              <a:t> </a:t>
            </a: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з науково</a:t>
            </a:r>
            <a:r>
              <a:rPr b="1" i="1" lang="uk-UA" sz="1200" spc="-1" strike="noStrike">
                <a:solidFill>
                  <a:srgbClr val="262699"/>
                </a:solidFill>
                <a:latin typeface="Myriad Pro"/>
              </a:rPr>
              <a:t>ї</a:t>
            </a: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 роботи</a:t>
            </a:r>
            <a:br>
              <a:rPr sz="1200"/>
            </a:br>
            <a:r>
              <a:rPr b="1" i="1" lang="ru-RU" sz="1200" spc="-1" strike="noStrike">
                <a:solidFill>
                  <a:srgbClr val="262699"/>
                </a:solidFill>
                <a:latin typeface="Myriad Pro"/>
              </a:rPr>
              <a:t>Васильчук Г.М., </a:t>
            </a:r>
            <a:r>
              <a:rPr b="1" i="1" lang="en-US" sz="1200" spc="-1" strike="noStrike">
                <a:solidFill>
                  <a:srgbClr val="262699"/>
                </a:solidFill>
                <a:latin typeface="Myriad Pro"/>
              </a:rPr>
              <a:t>historyhena@gmail.co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0" name="TextBox 2"/>
          <p:cNvSpPr/>
          <p:nvPr/>
        </p:nvSpPr>
        <p:spPr>
          <a:xfrm>
            <a:off x="971640" y="1197000"/>
            <a:ext cx="748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yriad Pro"/>
              </a:rPr>
              <a:t>Академічна доброчесність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yriad Pro"/>
              </a:rPr>
              <a:t>у закладах осві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1" name="Рисунок 5" descr=""/>
          <p:cNvPicPr/>
          <p:nvPr/>
        </p:nvPicPr>
        <p:blipFill>
          <a:blip r:embed="rId1"/>
          <a:stretch/>
        </p:blipFill>
        <p:spPr>
          <a:xfrm>
            <a:off x="297000" y="3357720"/>
            <a:ext cx="3178080" cy="31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262699"/>
                </a:solidFill>
                <a:latin typeface="Myriad Pro"/>
              </a:rPr>
              <a:t>Плагі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Оприлюднення (опублікування),  повністю   або частково,  чужого  твору під іменем особи,  яка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не є автором цього твор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Myriad Pro"/>
              </a:rPr>
              <a:t>Про авторське право і суміжні права, ст. 50.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Оприлюднення (частково або повністю) наукових результатів, отриманих іншими особами, як результатів власного дослідження та/або відтворенню опублікованих текстів інших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авторів без відповідного посил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Myriad Pro"/>
              </a:rPr>
              <a:t>Про вищу освіту, ст. 69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262699"/>
                </a:solidFill>
                <a:latin typeface="Myriad Pro"/>
              </a:rPr>
              <a:t>Плагі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yriad Pro"/>
              </a:rPr>
              <a:t>академічний плагіат - оприлюднення (частково або повністю) наукових (творчих) результатів, отриманих іншими особами, як результатів власного дослідження (творчості), та/або відтворення опублікованих текстів (оприлюднених творів мистецтва) інших авторів без зазначення авторства під іменем особи, яка  не приймала участі у їх створенні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600" spc="-1" strike="noStrike">
                <a:solidFill>
                  <a:srgbClr val="a50021"/>
                </a:solidFill>
                <a:latin typeface="Myriad Pro"/>
              </a:rPr>
              <a:t>плагіат – оприлюднення (опублікування), повністю або частково, чужого наукового (творчого) результату, під іменем особи (учасника освітнього процесу), яка не є автором цього наукового (творчого) результат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Myriad Pro"/>
              </a:rPr>
              <a:t>Самоплагіа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1) самоплагіат – відтворення у наукових виданнях без посилання на джерело власних раніше опублікованих у відповідних виданнях наукових результаті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2) </a:t>
            </a: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самоплагіат – оприлюднення</a:t>
            </a:r>
            <a:r>
              <a:rPr b="0" lang="en-US" sz="28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Myriad Pro"/>
              </a:rPr>
              <a:t>у наукових виданнях (частково або повністю) власних раніше опублікованих наукових (творчих) результатів, отриманих автором, як нових наукових (творчих) результатів</a:t>
            </a:r>
            <a:r>
              <a:rPr b="0" lang="ru-RU" sz="28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Myriad Pro"/>
              </a:rPr>
              <a:t>Фабрикаці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455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фабрикація - фальсифікація результатів досліджень, посилань у власних публікаціях, будь-яких інших даних, у тому числі статистичних, що стосуються освітнього процесу та наукових досліджен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a50021"/>
                </a:solidFill>
                <a:latin typeface="Myriad Pro"/>
              </a:rPr>
              <a:t>фабрикація – штучне створення вигаданих даних чи фактів, що стосуються освітнього процесу та наукових досліджен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a50021"/>
                </a:solidFill>
                <a:latin typeface="Myriad Pro"/>
              </a:rPr>
              <a:t>фальсифікація – свідома зміна чи модифікація вже наявних даних, що стосуються освітнього процесу та наукових досліджень</a:t>
            </a:r>
            <a:r>
              <a:rPr b="1" lang="ru-RU" sz="2700" spc="-1" strike="noStrike">
                <a:solidFill>
                  <a:srgbClr val="a50021"/>
                </a:solidFill>
                <a:latin typeface="Myriad Pro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yriad Pro"/>
              </a:rPr>
              <a:t>http://education-ua.org/ua/articles/930-akademichna-dobrochesnist-mifichna-kontseptsiya-chi-dievij-instrument-zabezpechennya-yakosti-vishchoji-osvi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Myriad Pro"/>
              </a:rPr>
              <a:t>Обман, спису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обман - надання завідомо неправдивої інформації стосовно власної освітньої (наукової, творчої) діяльності чи організації освітньої процесу;</a:t>
            </a:r>
            <a:r>
              <a:rPr b="0" lang="ru-RU" sz="32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списування – використання без відповідного дозволу зовнішніх джерел інформації </a:t>
            </a:r>
            <a:r>
              <a:rPr b="1" lang="uk-UA" sz="3200" spc="-1" strike="noStrike">
                <a:solidFill>
                  <a:srgbClr val="262699"/>
                </a:solidFill>
                <a:latin typeface="Myriad Pro"/>
              </a:rPr>
              <a:t>чи допомоги</a:t>
            </a:r>
            <a:r>
              <a:rPr b="0" lang="uk-UA" sz="3200" spc="-1" strike="noStrike">
                <a:solidFill>
                  <a:srgbClr val="262699"/>
                </a:solidFill>
                <a:latin typeface="Myriad Pro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під час оцінювання результатів навчання;</a:t>
            </a:r>
            <a:r>
              <a:rPr b="0" lang="ru-RU" sz="32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Myriad Pro"/>
              </a:rPr>
              <a:t>Хабарниц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хабарництво – надання (отримання) учасником освітнього процесу чи пропозиція щодо надання (отримання) коштів, майна чи послуг матеріального або нематеріального характеру з метою отримання неправомірної вигоди в освітньому процесі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800" spc="-1" strike="noStrike">
                <a:solidFill>
                  <a:srgbClr val="a50021"/>
                </a:solidFill>
                <a:latin typeface="Calibri"/>
              </a:rPr>
              <a:t>Неправомірна вигода – грошові кошти або інше майно, переваги, пільги, послуги, нематеріальні активи, будь-які інші вигоди нематеріального чи негрошового характеру, які обіцяють, пропонують, надають або одержують учасники освітнього процесу без законних на те підстав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http://www.kmu.gov.ua/control/uk/publish/article?art_id=248207001&amp;cat_id=24820676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Myriad Pro"/>
              </a:rPr>
              <a:t>Оцінювання, сабот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000000"/>
                </a:solidFill>
                <a:latin typeface="Myriad Pro"/>
              </a:rPr>
              <a:t>необ’єктивне оцінювання – свідоме завищення або заниження оцінок здобувачів освіти педагогічними та науково-педагогічними працівниками.</a:t>
            </a:r>
            <a:r>
              <a:rPr b="0" lang="ru-RU" sz="27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a50021"/>
                </a:solidFill>
                <a:latin typeface="Myriad Pro"/>
              </a:rPr>
              <a:t>академічний саботаж – вчинення учасником освітнього процесу дій, що надають йому можливість отримати нелегітимну академічну вигоду, чи зменшити таку для інших членів академічної групи чи спільноти.</a:t>
            </a:r>
            <a:r>
              <a:rPr b="0" lang="ru-RU" sz="27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yriad Pro"/>
              </a:rPr>
              <a:t>http://education-ua.org/ua/articles/930-akademichna-dobrochesnist-mifichna-kontseptsiya-chi-dievij-instrument-zabezpechennya-yakosti-vishchoji-osvi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yriad Pro"/>
              </a:rPr>
              <a:t>За порушення академічної доброчесності педагогічні, науково-педагогічні та наукові працівники закладів освіти можуть бути притягнені до такої академічної відповідальності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yriad Pro"/>
              </a:rPr>
              <a:t>відмова у присудженні наукового ступеня чи присвоєнні вченого званн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yriad Pro"/>
              </a:rPr>
              <a:t>позбавлення присудженого наукового ступеня чи присвоєного вченого звання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>
              <a:lnSpc>
                <a:spcPct val="90000"/>
              </a:lnSpc>
              <a:spcBef>
                <a:spcPts val="649"/>
              </a:spcBef>
              <a:buClr>
                <a:srgbClr val="339933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600" spc="-1" strike="noStrike">
                <a:solidFill>
                  <a:srgbClr val="339933"/>
                </a:solidFill>
                <a:latin typeface="Myriad Pro"/>
              </a:rPr>
              <a:t>відмова в присудженні або позбавлення присудженого педагогічного звання, кваліфікаційної категорії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Myriad Pro"/>
              </a:rPr>
              <a:t>позбавлення права брати участь у роботі визначених законом органів чи займати визначені законом посади.</a:t>
            </a:r>
            <a:r>
              <a:rPr b="0" lang="ru-RU" sz="26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За порушення академічної доброчесності здобувачі освіти можуть бути притягнені до такої академічної відповідальності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повторне проходження оцінювання (контрольна робота, іспит, залік тощо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повторне проходження відповідного освітнього компонента освітньої програм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відрахування із закладу освіти (крім осіб, що здобувають загальну середню освіту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262699"/>
                </a:solidFill>
                <a:latin typeface="Myriad Pro"/>
              </a:rPr>
              <a:t>позбавлення академічної стипендії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262699"/>
                </a:solidFill>
                <a:latin typeface="Myriad Pro"/>
              </a:rPr>
              <a:t>позбавлення пільг з оплати навчання (при навчанні за кошти фізичних осіб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331920"/>
                <a:tab algn="l" pos="436680"/>
                <a:tab algn="l" pos="885960"/>
                <a:tab algn="l" pos="1335240"/>
                <a:tab algn="l" pos="1784520"/>
                <a:tab algn="l" pos="2233440"/>
                <a:tab algn="l" pos="2682720"/>
                <a:tab algn="l" pos="3132000"/>
                <a:tab algn="l" pos="3581280"/>
                <a:tab algn="l" pos="4030560"/>
                <a:tab algn="l" pos="4479840"/>
                <a:tab algn="l" pos="4929120"/>
                <a:tab algn="l" pos="5378400"/>
                <a:tab algn="l" pos="5827680"/>
                <a:tab algn="l" pos="6276960"/>
                <a:tab algn="l" pos="6726240"/>
                <a:tab algn="l" pos="7175520"/>
                <a:tab algn="l" pos="7624800"/>
                <a:tab algn="l" pos="8074080"/>
                <a:tab algn="l" pos="8523360"/>
                <a:tab algn="l" pos="8972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262699"/>
                </a:solidFill>
                <a:latin typeface="Myriad Pro"/>
              </a:rPr>
              <a:t>припинення договору про оплату навчання (при навчанні за кошти юридичних осіб).</a:t>
            </a:r>
            <a:r>
              <a:rPr b="0" lang="ru-RU" sz="2700" spc="-1" strike="noStrike">
                <a:solidFill>
                  <a:srgbClr val="262699"/>
                </a:solidFill>
                <a:latin typeface="Myriad Pro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1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4247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0000ff"/>
                </a:solidFill>
                <a:latin typeface="Myriad Pro"/>
              </a:rPr>
              <a:t> </a:t>
            </a: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За порушення академічної доброчесності заклади освіти можуть бути притягнені до такої академічної відповідальності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позбавлення ліцензії на певні види освітньої діяльності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скасування сертифікату акредитації освітньої програ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скасування акредитації освітньої програм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скасування акредитації спеціалізованої вченої ради із захисту дисертацій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позбавлення права на отримання державного (регіонального) замовлення на підготовку фахівців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скасування наукових проектів, що фінансуються за кошти державного (регіональних) бюджетів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21840"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500" spc="-1" strike="noStrike">
                <a:solidFill>
                  <a:srgbClr val="262699"/>
                </a:solidFill>
                <a:latin typeface="Myriad Pro"/>
              </a:rPr>
              <a:t>призупинення фінансування наукових проектів за кошти державного (регіональних) бюджетів до усунення виявлених порушень.</a:t>
            </a:r>
            <a:r>
              <a:rPr b="0" lang="ru-RU" sz="2600" spc="-1" strike="noStrike">
                <a:solidFill>
                  <a:srgbClr val="262699"/>
                </a:solidFill>
                <a:latin typeface="Myriad Pro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1792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262699"/>
                </a:solidFill>
                <a:latin typeface="Myriad Pro"/>
              </a:rPr>
              <a:t>Бухарестська декларація етичних цінностей </a:t>
            </a:r>
            <a:br>
              <a:rPr sz="1800"/>
            </a:br>
            <a:r>
              <a:rPr b="1" i="1" lang="ru-RU" sz="1800" spc="-1" strike="noStrike">
                <a:solidFill>
                  <a:srgbClr val="262699"/>
                </a:solidFill>
                <a:latin typeface="Myriad Pro"/>
              </a:rPr>
              <a:t>і принципів вищої освіти в Європ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3" name="Text Box 2"/>
          <p:cNvSpPr/>
          <p:nvPr/>
        </p:nvSpPr>
        <p:spPr>
          <a:xfrm>
            <a:off x="1187280" y="1268280"/>
            <a:ext cx="7344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yriad Pro"/>
                <a:ea typeface="Tahoma"/>
              </a:rPr>
              <a:t>«…Кожен член академічної та освітньої спільноти повинен прагнути до чесності і поширювати це прагнення на інших учасників освітнього та наукового процесу, послідовно утримуючись від брехні, шахрайства, крадіжок та інших форм нечесної поведінки, що викривляють парадигму освіти і науки…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62699"/>
                </a:solidFill>
                <a:latin typeface="Myriad Pro"/>
              </a:rPr>
              <a:t>Інші</a:t>
            </a:r>
            <a:r>
              <a:rPr b="0" lang="uk-UA" sz="3200" spc="-1" strike="noStrike">
                <a:solidFill>
                  <a:srgbClr val="3333cc"/>
                </a:solidFill>
                <a:latin typeface="Myriad Pro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види академічної відповідальності учасників освітнього процесу</a:t>
            </a:r>
            <a:r>
              <a:rPr b="0" lang="uk-UA" sz="3200" spc="-1" strike="noStrike">
                <a:solidFill>
                  <a:srgbClr val="3333cc"/>
                </a:solidFill>
                <a:latin typeface="Myriad Pro"/>
              </a:rPr>
              <a:t>, </a:t>
            </a:r>
            <a:r>
              <a:rPr b="1" lang="uk-UA" sz="3200" spc="-1" strike="noStrike">
                <a:solidFill>
                  <a:srgbClr val="262699"/>
                </a:solidFill>
                <a:latin typeface="Myriad Pro"/>
              </a:rPr>
              <a:t>а також їх відповідальність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 за конкретні порушення академічної доброчесності визначаються спеціальними закон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62699"/>
                </a:solidFill>
                <a:latin typeface="Myriad Pro"/>
              </a:rPr>
              <a:t>Заклади освіти можуть встановлювати додаткові види відповідальності за порушення академічної доброчесності відповідно до законодавства.</a:t>
            </a:r>
            <a:r>
              <a:rPr b="0" lang="ru-RU" sz="3200" spc="-1" strike="noStrike">
                <a:solidFill>
                  <a:srgbClr val="262699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200" spc="-1" strike="noStrike">
                <a:solidFill>
                  <a:srgbClr val="262699"/>
                </a:solidFill>
                <a:latin typeface="Myriad Pro"/>
              </a:rPr>
              <a:t>У випадках, передбачених законодавством, учасники освітнього процесу можуть притягатися до інших видів відповідальності за порушення академічної доброчесності.</a:t>
            </a:r>
            <a:r>
              <a:rPr b="1" lang="ru-RU" sz="3200" spc="-1" strike="noStrike">
                <a:solidFill>
                  <a:srgbClr val="262699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Myriad Pro"/>
              </a:rPr>
              <a:t>Порядок виявлення та встановлення фактів порушення академічної доброчесності визначаються </a:t>
            </a:r>
            <a:r>
              <a:rPr b="1" lang="uk-UA" sz="2300" spc="-1" strike="noStrike">
                <a:solidFill>
                  <a:srgbClr val="ff0066"/>
                </a:solidFill>
                <a:latin typeface="Myriad Pro"/>
              </a:rPr>
              <a:t>правилами внутрішнього розпорядку закладів освіти</a:t>
            </a:r>
            <a:r>
              <a:rPr b="0" lang="ru-RU" sz="23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уповноваженим колегіальним органом управління закладу освіти з урахуванням вимог цього Закону та спеціальних законі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Особа, яка притягається до академічної відповідальності, має такі права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1) знати про дату, час і місце та бути присутньою під час розгляду питання про притягнення її до академічної відповідальності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2) знайомитися із </a:t>
            </a:r>
            <a:r>
              <a:rPr b="1" lang="uk-UA" sz="2300" spc="-1" strike="noStrike">
                <a:solidFill>
                  <a:srgbClr val="262699"/>
                </a:solidFill>
                <a:latin typeface="Myriad Pro"/>
              </a:rPr>
              <a:t>з усіма </a:t>
            </a: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матеріалами перевірки щодо встановлення фактів порушення академічної доброчесності, подавати до них зауваження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3) особисто або через представника надавати усні та письмові пояснення або відмовитися від надання будь-яких пояснень, брати участь у дослідженні доказів порушення академічної доброчесності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Myriad Pro"/>
              </a:rPr>
              <a:t>4) оскаржити рішення про притягнення до академічної відповідальності до органу, уповноваженого розглядати апеляції, або до суду.</a:t>
            </a:r>
            <a:r>
              <a:rPr b="1" lang="ru-RU" sz="23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Форми та види академічної відповідальності закладів освіти визначаються спеціальними законами.</a:t>
            </a:r>
            <a:r>
              <a:rPr b="0" lang="ru-RU" sz="32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За дії (бездіяльність), що цим законом визнані порушенням академічної доброчесності, особа може бути притягнута до </a:t>
            </a:r>
            <a:r>
              <a:rPr b="1" lang="uk-UA" sz="3200" spc="-1" strike="noStrike">
                <a:solidFill>
                  <a:srgbClr val="ff0066"/>
                </a:solidFill>
                <a:latin typeface="Myriad Pro"/>
              </a:rPr>
              <a:t>інших видів</a:t>
            </a:r>
            <a:r>
              <a:rPr b="0" lang="uk-UA" sz="3200" spc="-1" strike="noStrike">
                <a:solidFill>
                  <a:srgbClr val="000000"/>
                </a:solidFill>
                <a:latin typeface="Myriad Pro"/>
              </a:rPr>
              <a:t> юридичної відповідальності з підстав та в порядку, визначених відповідними законами.</a:t>
            </a:r>
            <a:r>
              <a:rPr b="0" lang="ru-RU" sz="32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62699"/>
                </a:solidFill>
                <a:latin typeface="Myriad Pro"/>
              </a:rPr>
              <a:t>Закордонний досв</a:t>
            </a:r>
            <a:r>
              <a:rPr b="1" lang="uk-UA" sz="4400" spc="-1" strike="noStrike">
                <a:solidFill>
                  <a:srgbClr val="262699"/>
                </a:solidFill>
                <a:latin typeface="Myriad Pro"/>
              </a:rPr>
              <a:t>і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7" name="Text Box 2"/>
          <p:cNvSpPr/>
          <p:nvPr/>
        </p:nvSpPr>
        <p:spPr>
          <a:xfrm>
            <a:off x="539640" y="836640"/>
            <a:ext cx="8074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668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2640"/>
                <a:tab algn="l" pos="10774440"/>
                <a:tab algn="l" pos="107758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Myriad Pro"/>
                <a:ea typeface="Tahoma"/>
              </a:rPr>
              <a:t>Кодекси честі закордонних університетів  є продуктом освітянської культури, яка формувалася не одне століття. Її суб’єктом є вільний інтелектуал, який власноруч будує своє майбутнє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8" name="Picture 3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601812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Text Box 1"/>
          <p:cNvSpPr/>
          <p:nvPr/>
        </p:nvSpPr>
        <p:spPr>
          <a:xfrm>
            <a:off x="539640" y="1628640"/>
            <a:ext cx="7920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Myriad Pro"/>
                <a:ea typeface="Tahoma"/>
              </a:rPr>
              <a:t>Кодекс честі </a:t>
            </a:r>
            <a:r>
              <a:rPr b="0" lang="ru-RU" sz="3200" spc="-1" strike="noStrike">
                <a:solidFill>
                  <a:srgbClr val="000000"/>
                </a:solidFill>
                <a:latin typeface="Myriad Pro"/>
                <a:ea typeface="Tahoma"/>
              </a:rPr>
              <a:t>як форма інституціоналізації системи цінностей навчального закладу, окреслення етичної моделі поведінки й діяльності кожного члена академічної громади, фіксації механізмів боротьби із проявами академічної недоброчесності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Rectangle 1"/>
          <p:cNvSpPr/>
          <p:nvPr/>
        </p:nvSpPr>
        <p:spPr>
          <a:xfrm>
            <a:off x="1332000" y="260280"/>
            <a:ext cx="7559640" cy="22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0" lang="uk-UA" sz="2800" spc="-1" strike="noStrike">
                <a:solidFill>
                  <a:srgbClr val="3333cc"/>
                </a:solidFill>
                <a:latin typeface="Times New Roman"/>
                <a:ea typeface="Tahoma"/>
              </a:rPr>
              <a:t>	</a:t>
            </a:r>
            <a:r>
              <a:rPr b="1" lang="uk-UA" sz="2800" spc="-1" strike="noStrike">
                <a:solidFill>
                  <a:srgbClr val="262699"/>
                </a:solidFill>
                <a:latin typeface="Myriad Pro"/>
                <a:ea typeface="Tahoma"/>
              </a:rPr>
              <a:t>Кодекс честі</a:t>
            </a:r>
            <a:r>
              <a:rPr b="0" lang="uk-UA" sz="2800" spc="-1" strike="noStrike">
                <a:solidFill>
                  <a:srgbClr val="262699"/>
                </a:solidFill>
                <a:latin typeface="Myriad Pro"/>
                <a:ea typeface="Tahoma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– це сукупність моральних принципів, якими людина керується в особистій і громадській поведінц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1" name="Rectangle 2"/>
          <p:cNvSpPr/>
          <p:nvPr/>
        </p:nvSpPr>
        <p:spPr>
          <a:xfrm>
            <a:off x="425520" y="1717560"/>
            <a:ext cx="8424720" cy="35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1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Кодекс честі науковця та освітянина</a:t>
            </a:r>
            <a:r>
              <a:rPr b="0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 – </a:t>
            </a:r>
            <a:r>
              <a:rPr b="1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це набір правил або етичних принципів, що регулюють діяльність академічного співтовариства, заснованої на ідеалах, які визначають, що являє собою доброчесна поведінка в межах цієї спільноти. Кодекси честі є інструментом запобігання академічної нечесност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2" name="Rectangle 4"/>
          <p:cNvSpPr/>
          <p:nvPr/>
        </p:nvSpPr>
        <p:spPr>
          <a:xfrm>
            <a:off x="758880" y="5229360"/>
            <a:ext cx="801828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956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9425160"/>
                <a:tab algn="l" pos="987408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Tahom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Myriad Pro"/>
                <a:ea typeface="Tahoma"/>
              </a:rPr>
              <a:t>Головна функція кодексів честі (етичних кодексів) –</a:t>
            </a:r>
            <a:r>
              <a:rPr b="0" lang="uk-UA" sz="2400" spc="-1" strike="noStrike">
                <a:solidFill>
                  <a:srgbClr val="000000"/>
                </a:solidFill>
                <a:latin typeface="Myriad Pro"/>
                <a:ea typeface="Tahom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Myriad Pro"/>
                <a:ea typeface="Tahoma"/>
              </a:rPr>
              <a:t>це формування системи соціальної відповідальності науковця та освітянин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3" name="Рисунок 1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115704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4" name="Рисунок 1" descr=""/>
          <p:cNvPicPr/>
          <p:nvPr/>
        </p:nvPicPr>
        <p:blipFill>
          <a:blip r:embed="rId1"/>
          <a:stretch/>
        </p:blipFill>
        <p:spPr>
          <a:xfrm>
            <a:off x="17640" y="1484280"/>
            <a:ext cx="9144000" cy="4619520"/>
          </a:xfrm>
          <a:prstGeom prst="rect">
            <a:avLst/>
          </a:prstGeom>
          <a:ln w="0">
            <a:noFill/>
          </a:ln>
        </p:spPr>
      </p:pic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-3600" y="115560"/>
            <a:ext cx="914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Myriad Pro"/>
              </a:rPr>
              <a:t>Участь Запорізького національного університету у</a:t>
            </a:r>
            <a:br>
              <a:rPr sz="2800"/>
            </a:br>
            <a:r>
              <a:rPr b="1" lang="ru-RU" sz="2800" spc="-1" strike="noStrike">
                <a:solidFill>
                  <a:srgbClr val="262699"/>
                </a:solidFill>
                <a:latin typeface="Myriad Pro"/>
              </a:rPr>
              <a:t>Проекті сприяння академічній доброчесн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title"/>
          </p:nvPr>
        </p:nvSpPr>
        <p:spPr>
          <a:xfrm>
            <a:off x="-3600" y="115560"/>
            <a:ext cx="9147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62699"/>
                </a:solidFill>
                <a:latin typeface="Myriad Pro"/>
              </a:rPr>
              <a:t>Участь Запорізького національного університету у</a:t>
            </a:r>
            <a:br>
              <a:rPr sz="2800"/>
            </a:br>
            <a:r>
              <a:rPr b="1" lang="ru-RU" sz="2800" spc="-1" strike="noStrike">
                <a:solidFill>
                  <a:srgbClr val="262699"/>
                </a:solidFill>
                <a:latin typeface="Myriad Pro"/>
              </a:rPr>
              <a:t>Проекті сприяння академічній доброчесност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7" name="Рисунок 3" descr=""/>
          <p:cNvPicPr/>
          <p:nvPr/>
        </p:nvPicPr>
        <p:blipFill>
          <a:blip r:embed="rId1"/>
          <a:stretch/>
        </p:blipFill>
        <p:spPr>
          <a:xfrm>
            <a:off x="3708360" y="2492280"/>
            <a:ext cx="5121360" cy="3840120"/>
          </a:xfrm>
          <a:prstGeom prst="rect">
            <a:avLst/>
          </a:prstGeom>
          <a:ln w="0">
            <a:noFill/>
          </a:ln>
        </p:spPr>
      </p:pic>
      <p:pic>
        <p:nvPicPr>
          <p:cNvPr id="3088" name="Рисунок 2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3916440" cy="29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Myriad Pro"/>
              </a:rPr>
              <a:t> </a:t>
            </a:r>
            <a:r>
              <a:rPr b="1" lang="uk-UA" sz="4000" spc="-1" strike="noStrike">
                <a:solidFill>
                  <a:srgbClr val="3333cc"/>
                </a:solidFill>
                <a:latin typeface="Myriad Pro"/>
              </a:rPr>
              <a:t>Контак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0" name="Picture 2" descr=""/>
          <p:cNvPicPr/>
          <p:nvPr/>
        </p:nvPicPr>
        <p:blipFill>
          <a:blip r:embed="rId1"/>
          <a:stretch/>
        </p:blipFill>
        <p:spPr>
          <a:xfrm>
            <a:off x="3059280" y="3476520"/>
            <a:ext cx="6084720" cy="3381480"/>
          </a:xfrm>
          <a:prstGeom prst="rect">
            <a:avLst/>
          </a:prstGeom>
          <a:ln w="0">
            <a:noFill/>
          </a:ln>
        </p:spPr>
      </p:pic>
      <p:sp>
        <p:nvSpPr>
          <p:cNvPr id="3091" name="Text Box 3"/>
          <p:cNvSpPr/>
          <p:nvPr/>
        </p:nvSpPr>
        <p:spPr>
          <a:xfrm>
            <a:off x="468360" y="6308640"/>
            <a:ext cx="55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trengthening Academic Integrity in Ukraine Project (SAIUP), 201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2" name="Picture 4" descr=""/>
          <p:cNvPicPr/>
          <p:nvPr/>
        </p:nvPicPr>
        <p:blipFill>
          <a:blip r:embed="rId2"/>
          <a:stretch/>
        </p:blipFill>
        <p:spPr>
          <a:xfrm>
            <a:off x="0" y="1442880"/>
            <a:ext cx="9144000" cy="3386160"/>
          </a:xfrm>
          <a:prstGeom prst="rect">
            <a:avLst/>
          </a:prstGeom>
          <a:ln w="0">
            <a:noFill/>
          </a:ln>
        </p:spPr>
      </p:pic>
      <p:sp>
        <p:nvSpPr>
          <p:cNvPr id="3093" name="Text Box 5"/>
          <p:cNvSpPr/>
          <p:nvPr/>
        </p:nvSpPr>
        <p:spPr>
          <a:xfrm>
            <a:off x="468360" y="4869000"/>
            <a:ext cx="646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116fce"/>
                </a:solidFill>
                <a:latin typeface="Arial"/>
              </a:rPr>
              <a:t>www.saiup.org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116fce"/>
                </a:solidFill>
                <a:latin typeface="Arial"/>
              </a:rPr>
              <a:t>www.americancouncils.org.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116fce"/>
                </a:solidFill>
                <a:latin typeface="Arial"/>
              </a:rPr>
              <a:t>www.facebook/saiupro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116fce"/>
                </a:solidFill>
                <a:latin typeface="Arial"/>
              </a:rPr>
              <a:t>www.vk.com/sai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Rectangle 2"/>
          <p:cNvSpPr/>
          <p:nvPr/>
        </p:nvSpPr>
        <p:spPr>
          <a:xfrm>
            <a:off x="274680" y="5524560"/>
            <a:ext cx="853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200" spc="-1" strike="noStrike">
                <a:solidFill>
                  <a:srgbClr val="262699"/>
                </a:solidFill>
                <a:latin typeface="Myriad Pro"/>
                <a:ea typeface="Tahoma"/>
              </a:rPr>
              <a:t>* Цю листівку виготовлено за підтримки Відділу преси, освіти та культури Посольства США в Україні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1200" spc="-1" strike="noStrike">
                <a:solidFill>
                  <a:srgbClr val="262699"/>
                </a:solidFill>
                <a:latin typeface="Myriad Pro"/>
                <a:ea typeface="Tahoma"/>
              </a:rPr>
              <a:t>Точка зору, відображена у ній, може не співпадати з офіційною позицією уряду СШ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5" name="Рисунок 2" descr=""/>
          <p:cNvPicPr/>
          <p:nvPr/>
        </p:nvPicPr>
        <p:blipFill>
          <a:blip r:embed="rId1"/>
          <a:stretch/>
        </p:blipFill>
        <p:spPr>
          <a:xfrm>
            <a:off x="1763640" y="96840"/>
            <a:ext cx="58705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352000" cy="505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4400" spc="-1" strike="noStrike">
                <a:solidFill>
                  <a:srgbClr val="262699"/>
                </a:solidFill>
                <a:latin typeface="Myriad Pro"/>
              </a:rPr>
              <a:t>Академічна доброчесність</a:t>
            </a:r>
            <a:br>
              <a:rPr sz="3100"/>
            </a:br>
            <a:br>
              <a:rPr sz="3100"/>
            </a:br>
            <a:r>
              <a:rPr b="0" lang="en-US" sz="2700" spc="-1" strike="noStrike">
                <a:solidFill>
                  <a:srgbClr val="262626"/>
                </a:solidFill>
                <a:latin typeface="Myriad Pro"/>
              </a:rPr>
              <a:t>Academic Integrit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Термін </a:t>
            </a:r>
            <a:r>
              <a:rPr b="1" i="1" lang="en-US" sz="2400" spc="-1" strike="noStrike">
                <a:solidFill>
                  <a:srgbClr val="262626"/>
                </a:solidFill>
                <a:latin typeface="Myriad Pro"/>
              </a:rPr>
              <a:t>integer</a:t>
            </a: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 з лат. означає </a:t>
            </a:r>
            <a:r>
              <a:rPr b="0" lang="ru-RU" sz="2400" spc="-1" strike="noStrike">
                <a:solidFill>
                  <a:srgbClr val="262626"/>
                </a:solidFill>
                <a:latin typeface="Myriad Pro"/>
              </a:rPr>
              <a:t>«</a:t>
            </a: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довершений, повний, цілісний</a:t>
            </a:r>
            <a:r>
              <a:rPr b="0" lang="ru-RU" sz="2400" spc="-1" strike="noStrike">
                <a:solidFill>
                  <a:srgbClr val="262626"/>
                </a:solidFill>
                <a:latin typeface="Myriad Pro"/>
              </a:rPr>
              <a:t>»</a:t>
            </a:r>
            <a:br>
              <a:rPr sz="2400"/>
            </a:br>
            <a:r>
              <a:rPr b="1" i="1" lang="en-US" sz="2400" spc="-1" strike="noStrike">
                <a:solidFill>
                  <a:srgbClr val="262626"/>
                </a:solidFill>
                <a:latin typeface="Myriad Pro"/>
              </a:rPr>
              <a:t>Integrity</a:t>
            </a: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 – </a:t>
            </a:r>
            <a:r>
              <a:rPr b="0" lang="ru-RU" sz="2400" spc="-1" strike="noStrike">
                <a:solidFill>
                  <a:srgbClr val="262626"/>
                </a:solidFill>
                <a:latin typeface="Myriad Pro"/>
              </a:rPr>
              <a:t>«</a:t>
            </a: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довершеність, повнота, цілісність</a:t>
            </a:r>
            <a:r>
              <a:rPr b="0" lang="ru-RU" sz="2400" spc="-1" strike="noStrike">
                <a:solidFill>
                  <a:srgbClr val="262626"/>
                </a:solidFill>
                <a:latin typeface="Myriad Pro"/>
              </a:rPr>
              <a:t>»</a:t>
            </a:r>
            <a:r>
              <a:rPr b="0" lang="en-US" sz="2400" spc="-1" strike="noStrike">
                <a:solidFill>
                  <a:srgbClr val="262626"/>
                </a:solidFill>
                <a:latin typeface="Myriad Pro"/>
              </a:rPr>
              <a:t> – означає такий психологічний стан людини, який характеризується її в</a:t>
            </a:r>
            <a:r>
              <a:rPr b="0" lang="en-US" sz="2000" spc="-1" strike="noStrike">
                <a:solidFill>
                  <a:srgbClr val="262626"/>
                </a:solidFill>
                <a:latin typeface="Myriad Pro"/>
              </a:rPr>
              <a:t>нутрішньою гармонією, стійкістю і послідовністю морального образу (Killinger 2010)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262626"/>
                </a:solidFill>
                <a:latin typeface="Myriad Pro"/>
              </a:rPr>
              <a:t>Академічна доброчесність </a:t>
            </a:r>
            <a:r>
              <a:rPr b="0" lang="en-US" sz="2000" spc="-1" strike="noStrike">
                <a:solidFill>
                  <a:srgbClr val="262626"/>
                </a:solidFill>
                <a:latin typeface="Myriad Pro"/>
              </a:rPr>
              <a:t>– це відданість академічної спільноти, навіть перед лицем труднощів, шести фундаментальним цінностям: чесності, довірі, справедливості, повазі, </a:t>
            </a:r>
            <a:r>
              <a:rPr b="1" lang="en-US" sz="2000" spc="-1" strike="noStrike">
                <a:solidFill>
                  <a:srgbClr val="262626"/>
                </a:solidFill>
                <a:latin typeface="Myriad Pro"/>
              </a:rPr>
              <a:t>відповідальності і мужності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Myriad Pro"/>
              </a:rPr>
              <a:t>(The International Center for Academic Integrity 2012)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62699"/>
                </a:solidFill>
                <a:latin typeface="Myriad Pro"/>
              </a:rPr>
              <a:t>Основні форми проявів </a:t>
            </a:r>
            <a:br>
              <a:rPr sz="3200"/>
            </a:br>
            <a:r>
              <a:rPr b="1" lang="ru-RU" sz="3200" spc="-1" strike="noStrike">
                <a:solidFill>
                  <a:srgbClr val="262699"/>
                </a:solidFill>
                <a:latin typeface="Myriad Pro"/>
              </a:rPr>
              <a:t>академічної недоброчесності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8" name="Text Box 2"/>
          <p:cNvSpPr/>
          <p:nvPr/>
        </p:nvSpPr>
        <p:spPr>
          <a:xfrm>
            <a:off x="457200" y="1600200"/>
            <a:ext cx="822960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плагіат (у тому числі самоплагіат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списування під час контрольних заходів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придбання з наступним поданням як власних результатів навчальної та наукової діяльності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академічне шахрайств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фабрикація/фальсифікаці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надання відгуків/рецензій без належної експертиз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псування/саботаж навчальної або наукової роботи інших осіб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несправедливе співавторство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пропонування/прийняття несправедливої винагород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Myriad Pro"/>
                <a:ea typeface="Tahoma"/>
              </a:rPr>
              <a:t>конфлікт інтересів тощ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Myriad Pro"/>
              </a:rPr>
              <a:t>Проект Закону України «Про освіту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yriad Pro"/>
              </a:rPr>
              <a:t>Стаття 6. Принципи державної політики у сфері освіти та засади освітньої діяльност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yriad Pro"/>
              </a:rPr>
              <a:t>академічна доброчесність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Myriad Pro"/>
              </a:rPr>
              <a:t>Стаття 42. Академічна доброчесні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000" spc="-1" strike="noStrike">
                <a:solidFill>
                  <a:srgbClr val="333399"/>
                </a:solidFill>
                <a:latin typeface="Myriad Pro"/>
              </a:rPr>
              <a:t>Поняття академічної доброчесност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2" name="Rectangle 2"/>
          <p:cNvSpPr/>
          <p:nvPr/>
        </p:nvSpPr>
        <p:spPr>
          <a:xfrm>
            <a:off x="395280" y="2205000"/>
            <a:ext cx="8353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1. </a:t>
            </a:r>
            <a:r>
              <a:rPr b="1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Академічна доброчесність </a:t>
            </a:r>
            <a:r>
              <a:rPr b="0" lang="uk-UA" sz="2800" spc="-1" strike="noStrike">
                <a:solidFill>
                  <a:srgbClr val="000000"/>
                </a:solidFill>
                <a:latin typeface="Myriad Pro"/>
                <a:ea typeface="Tahoma"/>
              </a:rPr>
              <a:t>– це сукупність етичних принципів та визначених законом правил, якими мають керуватися учасники освітнього процесу під час навчання, викладання та провадження наукової (творчої) діяльності з метою забезпечення довіри до результатів навчання та/або наукових (творчих) досягн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2. Дотримання академічної доброчесності педагогічними, науково-педагогічними та науковими працівниками передбачає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посилання на джерела інформації у разі використання ідей, тверджень, відомосте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дотримання норм законодавства про авторське право </a:t>
            </a:r>
            <a:r>
              <a:rPr b="1" lang="uk-UA" sz="2700" spc="-1" strike="noStrike">
                <a:solidFill>
                  <a:srgbClr val="339933"/>
                </a:solidFill>
                <a:latin typeface="Myriad Pro"/>
              </a:rPr>
              <a:t>і суміжні прав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надання достовірної інформації про </a:t>
            </a:r>
            <a:r>
              <a:rPr b="1" lang="uk-UA" sz="2700" spc="-1" strike="noStrike">
                <a:solidFill>
                  <a:srgbClr val="3333cc"/>
                </a:solidFill>
                <a:latin typeface="Myriad Pro"/>
              </a:rPr>
              <a:t>методики</a:t>
            </a:r>
            <a:r>
              <a:rPr b="1" lang="uk-UA" sz="2700" spc="-1" strike="noStrike">
                <a:solidFill>
                  <a:srgbClr val="0000ff"/>
                </a:solidFill>
                <a:latin typeface="Myriad Pro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і</a:t>
            </a: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 результати досліджень, </a:t>
            </a:r>
            <a:r>
              <a:rPr b="1" lang="uk-UA" sz="2700" spc="-1" strike="noStrike">
                <a:solidFill>
                  <a:srgbClr val="3333cc"/>
                </a:solidFill>
                <a:latin typeface="Myriad Pro"/>
              </a:rPr>
              <a:t>джерела використаної інформації</a:t>
            </a:r>
            <a:r>
              <a:rPr b="0" lang="uk-UA" sz="2700" spc="-1" strike="noStrike">
                <a:solidFill>
                  <a:srgbClr val="3333cc"/>
                </a:solidFill>
                <a:latin typeface="Myriad Pro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та власну педагогічну (науково-педагогічну, творчу) діяльність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Myriad Pro"/>
              </a:rPr>
              <a:t>контроль за дотриманням академічної доброчесності здобувачами освіти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15000" algn="just">
              <a:lnSpc>
                <a:spcPct val="8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700" spc="-1" strike="noStrike">
                <a:solidFill>
                  <a:srgbClr val="3333cc"/>
                </a:solidFill>
                <a:latin typeface="Myriad Pro"/>
              </a:rPr>
              <a:t>об’єктивне та справедливе оцінювання здобувачів освіти</a:t>
            </a:r>
            <a:r>
              <a:rPr b="0" lang="ru-RU" sz="2700" spc="-1" strike="noStrike">
                <a:solidFill>
                  <a:srgbClr val="3333cc"/>
                </a:solidFill>
                <a:latin typeface="Myriad Pro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374320" cy="47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3100" spc="-1" strike="noStrike">
                <a:solidFill>
                  <a:srgbClr val="3333cc"/>
                </a:solidFill>
                <a:latin typeface="Myriad Pro"/>
              </a:rPr>
              <a:t>         </a:t>
            </a:r>
            <a:r>
              <a:rPr b="1" lang="uk-UA" sz="3100" spc="-1" strike="noStrike">
                <a:solidFill>
                  <a:srgbClr val="3333cc"/>
                </a:solidFill>
                <a:latin typeface="Myriad Pro"/>
              </a:rPr>
              <a:t>Ознаки плагіату (правило Фішмана)</a:t>
            </a:r>
            <a:br>
              <a:rPr sz="3100"/>
            </a:br>
            <a:br>
              <a:rPr sz="3100"/>
            </a:br>
            <a:r>
              <a:rPr b="1" lang="uk-UA" sz="2700" spc="-1" strike="noStrike">
                <a:solidFill>
                  <a:srgbClr val="262626"/>
                </a:solidFill>
                <a:latin typeface="Myriad Pro"/>
              </a:rPr>
              <a:t>ПЛАГІАТ – це</a:t>
            </a:r>
            <a:br>
              <a:rPr sz="2700"/>
            </a:br>
            <a:r>
              <a:rPr b="0" lang="uk-UA" sz="2800" spc="-1" strike="noStrike">
                <a:solidFill>
                  <a:srgbClr val="262626"/>
                </a:solidFill>
                <a:latin typeface="Myriad Pro"/>
              </a:rPr>
              <a:t>«коли певна особа використовує слова, ідеї чи результати праці, що належать іншому визначеному джерелу чи людині без вказування посилання на джерело, з якого вона була запозичена, у ситуації, в якій правомірно очікується вказування авторства оригіналу, з метою отримати певну користь, пошану, вигоду, які не обов’язково мають бути матеріального чи грошового характеру»</a:t>
            </a:r>
            <a:br>
              <a:rPr sz="2800"/>
            </a:br>
            <a:r>
              <a:rPr b="0" lang="uk-UA" sz="2400" spc="-1" strike="noStrike">
                <a:solidFill>
                  <a:srgbClr val="262626"/>
                </a:solidFill>
                <a:latin typeface="Myriad Pro"/>
              </a:rPr>
              <a:t>                                                    </a:t>
            </a:r>
            <a:br>
              <a:rPr sz="2400"/>
            </a:br>
            <a:r>
              <a:rPr b="0" lang="uk-UA" sz="2400" spc="-1" strike="noStrike">
                <a:solidFill>
                  <a:srgbClr val="262626"/>
                </a:solidFill>
                <a:latin typeface="Myriad Pro"/>
              </a:rPr>
              <a:t> </a:t>
            </a:r>
            <a:r>
              <a:rPr b="0" i="1" lang="uk-UA" sz="2400" spc="-1" strike="noStrike">
                <a:solidFill>
                  <a:srgbClr val="262626"/>
                </a:solidFill>
                <a:latin typeface="Myriad Pro"/>
              </a:rPr>
              <a:t>Fishman 2009, с. 5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4T10:44:43Z</dcterms:created>
  <dc:creator>user_accels</dc:creator>
  <dc:description/>
  <dc:language>en-US</dc:language>
  <cp:lastModifiedBy>user</cp:lastModifiedBy>
  <dcterms:modified xsi:type="dcterms:W3CDTF">2020-02-12T09:37:02Z</dcterms:modified>
  <cp:revision>72</cp:revision>
  <dc:subject/>
  <dc:title>Слайд 1</dc:title>
</cp:coreProperties>
</file>