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75.xml" ContentType="application/vnd.openxmlformats-officedocument.theme+xml"/>
  <Override PartName="/ppt/theme/theme63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</p:sldMasterIdLst>
  <p:notesMasterIdLst>
    <p:notesMasterId r:id="rId76"/>
  </p:notesMasterIdLst>
  <p:sldIdLst>
    <p:sldId id="256" r:id="rId77"/>
    <p:sldId id="257" r:id="rId78"/>
    <p:sldId id="258" r:id="rId79"/>
    <p:sldId id="259" r:id="rId80"/>
    <p:sldId id="260" r:id="rId81"/>
    <p:sldId id="261" r:id="rId82"/>
    <p:sldId id="262" r:id="rId83"/>
    <p:sldId id="263" r:id="rId84"/>
    <p:sldId id="264" r:id="rId85"/>
    <p:sldId id="265" r:id="rId86"/>
    <p:sldId id="266" r:id="rId87"/>
    <p:sldId id="267" r:id="rId88"/>
    <p:sldId id="268" r:id="rId89"/>
    <p:sldId id="269" r:id="rId90"/>
    <p:sldId id="270" r:id="rId91"/>
    <p:sldId id="271" r:id="rId92"/>
    <p:sldId id="272" r:id="rId93"/>
    <p:sldId id="273" r:id="rId94"/>
    <p:sldId id="274" r:id="rId95"/>
    <p:sldId id="275" r:id="rId96"/>
    <p:sldId id="276" r:id="rId97"/>
    <p:sldId id="277" r:id="rId98"/>
    <p:sldId id="278" r:id="rId99"/>
    <p:sldId id="279" r:id="rId100"/>
    <p:sldId id="280" r:id="rId101"/>
    <p:sldId id="281" r:id="rId102"/>
    <p:sldId id="282" r:id="rId103"/>
    <p:sldId id="283" r:id="rId104"/>
    <p:sldId id="284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notesMaster" Target="notesMasters/notesMaster1.xml"/><Relationship Id="rId77" Type="http://schemas.openxmlformats.org/officeDocument/2006/relationships/slide" Target="slides/slide1.xml"/><Relationship Id="rId78" Type="http://schemas.openxmlformats.org/officeDocument/2006/relationships/slide" Target="slides/slide2.xml"/><Relationship Id="rId79" Type="http://schemas.openxmlformats.org/officeDocument/2006/relationships/slide" Target="slides/slide3.xml"/><Relationship Id="rId80" Type="http://schemas.openxmlformats.org/officeDocument/2006/relationships/slide" Target="slides/slide4.xml"/><Relationship Id="rId81" Type="http://schemas.openxmlformats.org/officeDocument/2006/relationships/slide" Target="slides/slide5.xml"/><Relationship Id="rId82" Type="http://schemas.openxmlformats.org/officeDocument/2006/relationships/slide" Target="slides/slide6.xml"/><Relationship Id="rId83" Type="http://schemas.openxmlformats.org/officeDocument/2006/relationships/slide" Target="slides/slide7.xml"/><Relationship Id="rId84" Type="http://schemas.openxmlformats.org/officeDocument/2006/relationships/slide" Target="slides/slide8.xml"/><Relationship Id="rId85" Type="http://schemas.openxmlformats.org/officeDocument/2006/relationships/slide" Target="slides/slide9.xml"/><Relationship Id="rId86" Type="http://schemas.openxmlformats.org/officeDocument/2006/relationships/slide" Target="slides/slide10.xml"/><Relationship Id="rId87" Type="http://schemas.openxmlformats.org/officeDocument/2006/relationships/slide" Target="slides/slide11.xml"/><Relationship Id="rId88" Type="http://schemas.openxmlformats.org/officeDocument/2006/relationships/slide" Target="slides/slide12.xml"/><Relationship Id="rId89" Type="http://schemas.openxmlformats.org/officeDocument/2006/relationships/slide" Target="slides/slide13.xml"/><Relationship Id="rId90" Type="http://schemas.openxmlformats.org/officeDocument/2006/relationships/slide" Target="slides/slide14.xml"/><Relationship Id="rId91" Type="http://schemas.openxmlformats.org/officeDocument/2006/relationships/slide" Target="slides/slide15.xml"/><Relationship Id="rId92" Type="http://schemas.openxmlformats.org/officeDocument/2006/relationships/slide" Target="slides/slide16.xml"/><Relationship Id="rId93" Type="http://schemas.openxmlformats.org/officeDocument/2006/relationships/slide" Target="slides/slide17.xml"/><Relationship Id="rId94" Type="http://schemas.openxmlformats.org/officeDocument/2006/relationships/slide" Target="slides/slide18.xml"/><Relationship Id="rId95" Type="http://schemas.openxmlformats.org/officeDocument/2006/relationships/slide" Target="slides/slide19.xml"/><Relationship Id="rId96" Type="http://schemas.openxmlformats.org/officeDocument/2006/relationships/slide" Target="slides/slide20.xml"/><Relationship Id="rId97" Type="http://schemas.openxmlformats.org/officeDocument/2006/relationships/slide" Target="slides/slide21.xml"/><Relationship Id="rId98" Type="http://schemas.openxmlformats.org/officeDocument/2006/relationships/slide" Target="slides/slide22.xml"/><Relationship Id="rId99" Type="http://schemas.openxmlformats.org/officeDocument/2006/relationships/slide" Target="slides/slide23.xml"/><Relationship Id="rId100" Type="http://schemas.openxmlformats.org/officeDocument/2006/relationships/slide" Target="slides/slide24.xml"/><Relationship Id="rId101" Type="http://schemas.openxmlformats.org/officeDocument/2006/relationships/slide" Target="slides/slide25.xml"/><Relationship Id="rId102" Type="http://schemas.openxmlformats.org/officeDocument/2006/relationships/slide" Target="slides/slide26.xml"/><Relationship Id="rId103" Type="http://schemas.openxmlformats.org/officeDocument/2006/relationships/slide" Target="slides/slide27.xml"/><Relationship Id="rId104" Type="http://schemas.openxmlformats.org/officeDocument/2006/relationships/slide" Target="slides/slide28.xml"/><Relationship Id="rId105" Type="http://schemas.openxmlformats.org/officeDocument/2006/relationships/slide" Target="slides/slide29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376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 type="dt" idx="149"/>
          </p:nvPr>
        </p:nvSpPr>
        <p:spPr>
          <a:xfrm>
            <a:off x="4279680" y="-360"/>
            <a:ext cx="32684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 type="ftr" idx="150"/>
          </p:nvPr>
        </p:nvSpPr>
        <p:spPr>
          <a:xfrm>
            <a:off x="0" y="10156680"/>
            <a:ext cx="326880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PlaceHolder 6"/>
          <p:cNvSpPr>
            <a:spLocks noGrp="1"/>
          </p:cNvSpPr>
          <p:nvPr>
            <p:ph type="sldNum" idx="151"/>
          </p:nvPr>
        </p:nvSpPr>
        <p:spPr>
          <a:xfrm>
            <a:off x="427968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26DDB-1688-41F2-B688-9A7806C6B440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57AD2-3B80-4931-BAEA-4AEE4199E3B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42BE7-4F66-4531-BC91-D73AD6C28CB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ECE0D-F039-4447-BC9F-D41147CC1A4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0CF6C-5FF6-4791-B172-0E3AC6BA955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4A131-55A5-4042-95E2-5A43C6FE38D3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6774B-48F4-4DDF-9E16-1F950E06BF19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0420C-8760-48D3-BC9C-E18673F4230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AE248-E724-455F-AD99-3152338888E5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B61A4-79D5-4CD4-B455-D83B72DDF5C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8CE6-EF79-4F57-9810-8CA159DE6538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27589-B198-4732-9A04-9EE7514EF53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2F897-314B-4A38-A74C-D2CCC95FF65D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25A27-38FC-47F3-BA77-F28823AA8DDD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186B-1638-43B1-BC9F-1BB4B59A3340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47A48-4FCA-443F-BEBF-934B482774D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5279D-FAC3-4877-A189-9CB56314D280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99AB4-ECB9-4F81-A76B-2CDCBC2C4CC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078F4-5F08-401D-8630-60A2E4F9F6FC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FB883-FA76-44DD-8C97-426F0D778136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AD939-81C7-4BC1-BFA6-B01A49D0F97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54501-88F0-4E9C-9438-DE106D4C2C7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6A422-24BA-471D-841C-D289804EA2B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7A0B0-AF0F-4AB5-94BD-34777CA9A9F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9FD1A-9D9F-4970-A7EC-F8F4B30E3190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41182-BAB1-4252-B5CB-9DA251FEB593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52899-10DE-4F1E-8E82-9F0A5140D24D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73F79-1C0F-4FDF-AD16-31F7EE67A809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3111" name="Text Box 2"/>
          <p:cNvSpPr/>
          <p:nvPr/>
        </p:nvSpPr>
        <p:spPr>
          <a:xfrm>
            <a:off x="75564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2897D-E58C-4641-8D32-ABC2DB0D975A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DB579-840D-4782-8152-350E724E837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4BF04-58B9-4FEB-A354-8D2ED2E0303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A8FC-878F-44D5-B478-F14EE9EBC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2CC9-106C-4256-B0CA-AF5811B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21541-F7E6-46BA-A27B-1C4B57BC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6D4CF-10D5-4374-81B7-5A0EB428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B02C-D18F-4502-9A84-E888D82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FC40-1C3B-4D06-B688-8C2486BF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26C4E-F9F9-434C-A583-BBE4B26D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9BA15-A4C9-4B26-AB7D-FF90908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1A19-E1BD-4389-A12A-7A4AD75D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3BD0A-493F-4871-A1B4-B6A3A294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9223D-8318-450D-95A5-6BE519441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6D028-FE6E-4B6E-BF58-4910069D3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7A6D-1514-43A6-9D4B-35D32C0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85017-6A6F-42E9-901D-CA15E7F9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7E5C3-526E-47D0-A828-8BAC253F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E60B2-FFB8-4464-98A2-CD89D59B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B64F6-5C6A-44A7-BA0B-A239209A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F2EE9-E76C-46EB-BB2E-4CF65523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EC7B9-731C-4DAE-8A13-1201620E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398221-1D75-4BE0-AA11-80CF98AD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2C980-3FBB-4251-A431-DD182DFA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5B9DA-9177-4E21-A57D-AF8B3662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D501D-89F3-48C1-A834-4BC386A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2FEA-E2F6-4339-BEEE-F01DC879A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A9BB0-DC8A-4BBF-9CBE-4F073B61C6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D10BAD-E586-4FAB-9A32-C61F620FD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CD0AD2-E1AE-4C8E-B4F9-0E60DF4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1BD26-E39F-4013-A97C-385FEBE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19B5D2-F215-4AAB-861F-DE02B0AC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452550-38D0-43E2-BF06-AA85CB2A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02F7CB-3107-4C20-B0C5-CA71DD26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7051AC-2F87-48C7-B4AB-BEBDB461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19DC5A-1440-4BF7-8180-7C82167A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629BEE-F999-4161-AD2C-8C81CD59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0536-DE6F-4F61-9C4B-6F2EF41EF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1EF170-5BA4-4EB0-AACE-AF02D5E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819DD9-D7DC-4540-8A6B-488AE7B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A8C514-B199-455F-8A63-A33FAB8B8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04EBA-A26F-40F3-8EBF-3B7B32C308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35475-AE87-46F1-8D64-9C5C2CB2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DADBA-1B5D-428E-B1F5-B65AD57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EEF66-3DF2-4850-9F58-479613FF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3411-7153-4A42-99AE-2C00CD9C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AA7E-4C9C-45D2-ACC5-DFD49279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834AC-BFC0-4F74-ACF7-02B7A253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6862C-328C-45AB-BB59-EF0C160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1FB2-12B6-41E6-B4F8-A864CCCC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F816-3B2D-42F7-A04D-5EBBD1C1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60127-AFEC-4E7C-BAC9-43E94F2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545EE-0E4F-415A-AB60-3124A688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55D28-1F0A-4173-A9F0-7DF290D9FB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26B26-69B7-43CB-9683-F96833922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B5A22-7068-4288-ACDC-54E8C05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862E1D-F5AF-4575-B0B8-797471E7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8CB43B-2616-4426-8BCC-6789DFD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8EA33C-7F48-4F84-9598-D1BB851B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E3EC1-FD3D-426C-B874-CFB5A127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DE4A3F-CB47-4945-B2DE-F05E91BB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D1C99F-8698-4591-9A4F-D5612759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7AFA4-CB06-4465-AD7D-BDEA2886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649CA4-DFEC-47AF-AECA-7C7A1188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823C3A-3D9E-49E8-8BB0-53EA3D3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95E18-0764-4D63-8B1A-8C2B0FA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219CD5-FCC5-476E-8B63-CC66E13D3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6D792-C25E-4F3B-80DE-B69F9305B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8F871-1AA1-4D30-AB0E-E6FEF2CD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EC584-7BCE-4553-90DB-A837A497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918C2-D6DA-4233-9552-E6FDA948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5E436-C8D0-4394-8268-1EF37E3D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C6720-3A32-4403-AF4A-97824AF7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FCCE6-F70D-4D4E-A8F8-38B825C0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5F370-9200-4315-A588-1365371A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ECC22-0BC1-4845-8F0A-4FBFE5C4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54D11-987F-4570-AF7E-9384642A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BCA0D-DF5B-4748-B794-03A81E6C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0E87B-9450-468C-BC20-CBAC13F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67440-657D-4692-82B5-7EF707382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34FD1-01D3-417B-A87B-AFBAE31879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EF476-8029-4683-A955-6227B7A8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633E2-531E-4F65-8826-6E91B7AE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EC31F-8172-4E95-958E-8EB6BF21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9B98E-4AAC-4487-88C9-D43DDA03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50DD7-A4DF-4FE7-ABB5-391A7704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C1A1A-E73D-4085-96BE-025AF1F3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D76CC-FED4-461B-84B4-928739B6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4EDA3-67CD-4781-A830-E85E6EF2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54E66-4EBD-4E5E-A838-83FF986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5E163-1788-49CD-8D9B-1225C2D4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5FE9A-3EA5-4510-9BDC-8BE1631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3EF28-5582-4E60-B8F7-93643693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BFC0A-8185-4629-87E7-1B21761B1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D57A11-A0F8-4AD7-BDF1-54191615C2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375D4B-9A5E-44C6-A719-E3443F5D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F55B4D-6E46-4EDE-804F-235D9B8A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2477BC-19B1-4C0E-85B7-A15F1502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EB7D6F-1083-4D3B-B92A-508ECACF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1210E0-1B16-433B-8048-50112447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20C725-3E55-4EA1-931E-3B67BCF1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DABFF5-68C8-4A97-BF7E-FA862BA6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129BB0-E58C-4B7F-93B7-38671738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3DFB2-D762-414D-8170-BE489E48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6C5FB2-5F5B-4537-B20C-2C773154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B497F7-A57D-43DE-AC28-5EBD83C6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58FBFE-1369-4CCB-AE96-817E438C4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72F87-8D00-4959-9D98-BE4D0C4282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E5C9E-E679-4FCF-AF54-7A7609C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0DAE0-A8A2-47EB-BD81-877414A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30356-7A57-41CD-97BE-6BCCB748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61AF1-E54D-4A1D-9C96-B537DC72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629E3-FCA2-4DE7-8E18-813AF2AC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127AF-A5A5-41D0-89EB-4AD7F700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192A-0AC3-437B-9798-5797F52A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1BA38-C6B8-4C31-852B-BF32D14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F7B73-C74D-4780-B86C-A8AB0A4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E377B-5367-436C-9255-CFFE1A6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5020D-E2E8-472F-B580-CDF67FD8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91A73-E040-432B-A408-1AC786E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D4CFD-C4EB-4107-9E25-DF6209A20B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F4BF9-A224-46D9-9B31-2B1EE7489A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6E0EC-F516-4D9D-9F3A-A553AC4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37554-A01E-44A4-9355-458E927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9B331-E4E6-42AC-B83C-AA166EC8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64553-9AA5-451C-BB41-A18B4964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C386F-7D59-44FC-872A-D96AD026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FA66D-504A-4885-B90B-2C7C689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7D9D8-33F0-44D4-859A-82F2D1B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4235D-4F29-4149-977B-601AB84E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9501A-BA1B-455D-815C-DB0FBD32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79983-D423-4CDC-A870-F9C72E9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4A51F-BE9F-4601-B81E-C70159ED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4C5E0-926A-4793-8E67-12E799327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013AD8-67C1-4EAA-966B-F21CBD4AB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B57081-7124-4A08-AE11-64443F00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A1EE4D-3B58-40F8-A507-3DD76CC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4625-0F9B-4E0C-A27B-889D7D6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74F26A-62E9-4B14-8E88-8F2EF67D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8C80A4-A608-4A2F-B124-20FC4E41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BE403E-B786-4FBF-8A9A-E6B010CF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172135-E52B-450A-B9CD-443C31F6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741722-8CC1-473B-BDA5-C4B3720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2040C3-CB45-425D-939B-30D9EFB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E0A33F-F7F9-4266-A397-2CAE5325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6C7133-9090-40C5-8AE2-9F0DADC6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E41D42-B876-473F-B3EB-157EC9DE6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92C169-6FF9-4B13-9746-46E7188890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DC86F-402C-4120-9160-774F595B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EE7FC7-ED1F-4842-A293-408BE826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787E9F-F0C0-4A15-8297-A30BEEE9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7F12DF-1E6D-4996-A445-F39FBCB2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3EE660-FC30-4A0B-ADE2-1CDE3206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C99031-7D96-467A-A1D2-0A73A096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BB7B0E-ED7F-4BD7-85B0-40ADB4BB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867D5B-937B-44C9-88E4-3434848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882131-EFAF-4CFF-8E6E-6E250A2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2DDC13-C5DF-4C57-88BF-8549741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498E57-0C46-448A-B26F-154921F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BD188-3EA5-430F-8298-BF45C20A1E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4FFE84-AA89-48D0-9B76-17871DE0B7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BAA26-52AA-42D6-AA18-20833F086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7BC01-7013-4408-8AD1-49551745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D526E-68BE-4AAD-8B46-F50C0858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76EBD-378C-4067-A5C7-C639794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8665A-C5A3-4E06-96B1-8B459997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D1FA1-9666-49B5-AD81-A707B905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84AFC-01AB-4038-8E09-108769E5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843D3-FDEF-4EC6-AB41-9FC2FEB0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ECC12-D5F4-49CC-AF91-A0AA3C0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E293-1B48-4AC7-B0EE-7E3A944E3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B1809-84E7-4D76-85A2-1AD4F177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1A8D7-0596-4C97-92EB-96778A00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81802-32F2-4F53-B296-07F888E916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1A2DDD-BECB-4AC8-9DDE-6F3B3E68F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133CED-A1C2-43B2-88A1-7B16FC2F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72CEC0-6273-45AA-918C-B0A2CC8A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60552D-6886-4332-AE98-57D4C4C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178266-E681-4798-9C6F-222281E4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19D82A-20C7-4605-8F4C-B1A1E8B6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E0B50F-D95B-4A04-B33E-F41E7AC3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96F6-957F-478B-8CE0-9E6B45B0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CDF3E7-DA71-4700-AC97-0E3AE410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C83DC2-8E1E-4FA0-8E7D-51908200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385863-0506-4305-AF45-8342E1FD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677251-AEE3-424C-8633-425FAFA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643725-5A93-4C12-8FC2-6945A237EF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FA54FC-2370-44C8-B26B-66F2AA6952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5A15CD-91B3-4AA5-AAD9-C3B3FBEE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A30F5C-5616-465B-8C8D-034014A9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D0481C-C83E-49C9-A86D-4DECBCB7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005E5B6-0FA2-4157-8860-85EF20C3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FE37-D697-432F-BA10-7A837AA4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139999-1837-47A0-A867-6B4FC147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F54AA7-946A-44DF-9CF7-8EE28E4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A733AE-6F70-4822-A671-903B354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174672-937A-41C3-A7B4-8FC0D33E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10EBEB-5569-4557-89F7-C1100F9A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3C3CD9-A765-42C1-87A5-5431D10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66D199C-AC28-4628-921E-D55EEF027E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07E7B-5D71-4FC4-8CFC-22459E0B3A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9E110-D0F9-41EA-856F-55ED5165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4DDB7-C152-4D5B-9F92-2E609A41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30E4-D169-44F9-8131-8E46B80A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3C5C5-E36B-4A85-8915-897213D5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102FC-F04E-421A-BA36-59D43EC9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1A618B-D2D9-46A6-BEDF-A0DF1389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2A943-D5EE-44F4-A0F9-47052E1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B2F23-FD0C-4A66-8BC9-AB7A35FD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CF5F3-29AE-432D-8AE1-47203AFA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75A06-85AE-446C-9544-6FA0DF84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79F48-B51C-4B81-9EFA-EA92C7A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7F0E7-AB1E-4BD2-8C94-03F9D7964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84C3BD-0109-489B-AE6E-D5DF45CC61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F37E-D583-41F2-A129-52EE07D2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8D6ED6-DE15-4962-9C27-88054912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8B5509-E1A1-4E11-ACDB-D04CDC1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4DEAD7-3FEF-4ADE-98FF-42E76B75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C12305-487F-43B5-9415-E6ED6F7F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A95533-C456-4C91-98CE-DB75B77E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82809F-53B7-45E7-AA27-82F8000E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A9AA42-7948-492B-AED7-C6CFE32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BD851F-81EB-48C7-B0B2-66BE213C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34B063-476C-4F4D-980D-E729EB59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56E2ED-1CCE-423A-B0B7-E203187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90A8-913F-48F3-A22C-FDD44B66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07A-C3AB-4879-903D-4FA8D553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436817-2303-4547-9C90-26CB1EB23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231032-FFA2-480E-A44E-601125945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BAF05C-1E76-4C48-9BB3-F1E4C872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8F01E8-337D-4742-B0B3-320D2AD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76E477-3343-4FFC-8832-BCF3C9A5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144CFE-EBC8-4AC9-8852-3DB6234F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F90536-0413-40AF-AE2B-B335EB74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EA4845-1241-4709-8EC5-6B6A9730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02A254-B555-40BA-9352-194795F6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47949D-4A5F-46EC-AFF2-1F0782D4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1737-1E6D-4875-B20E-3A2AAD07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33433A-8604-4E29-BF3E-D4A90712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FE685E-55EA-41F2-AA0D-FD078354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3D4E51-81E6-42FC-AAE9-2E04DF70D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E4D7DA-CF2C-4680-B272-AEE5822372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08E51-8E8F-48AF-8281-148D57E7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98616-8294-4BE7-BBF5-45132F2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244CF6-B755-499B-B7CA-5C4ED2C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5383D-8469-46AA-9291-83FB39DA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68F42-4D90-4CA1-9562-16F1B8D2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1D104-79FA-4A15-9B17-1D7BF83E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FBD2-4E86-4E73-BC08-7B138D03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B21E8-892A-4FBC-AD45-C1859D0A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6EA38-8DB7-4039-835B-13F6626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F8767-F219-4063-A4B4-FCFA91D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7F63D0-BB0F-429D-B739-9CFF3DF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8941A9-D084-4958-AA48-1DB8E5091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87AF36-6C1C-4214-AE7E-27CC4C93C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FA3535-9DEA-4C74-AFAA-8CCB2609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4ACDB8-760B-4210-8F26-810B8447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1E2A90-5D72-48E0-9D37-93CA38FF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A1625F-4DA3-4518-9ECC-69052AE9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157-758E-49C0-B257-77BC2E08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763EC5-AA4F-46CE-B94C-5DBC0F91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8507A1-3959-4822-B677-47A579A9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23A7A8-2998-41AB-9B90-C675F62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40E858-3BA0-4B1E-A20E-13F24854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864B22-6668-492F-A266-F1761D56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BEBB3F-5DE9-43CF-A92A-5E010FC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F6348F-B7D9-440D-B1D5-BC25C7F0C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A58820-D63D-4A0D-8059-A0582BE06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70EC8B-4BB8-4B98-BA46-E24B9729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10875A5-EEFE-4859-AB7C-C025E517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06C-5B0B-4862-B776-7B51DBB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08159C-CCAB-4114-837B-29F802DC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77B612-CBF4-428E-B474-46C8D4E4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750B9E-A2FF-476B-BE45-8A088F52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24E7AD-FEAD-4615-B58A-DBDB419C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7B7001-7A80-4709-B190-870F125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602412-EC8E-4F69-A588-9FBB802F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3536C7-824B-4912-A6AA-B1327669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4A6365-6A9E-47C1-9107-25623801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FAC9ED-80EB-4350-8AD3-7415E5A89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0D929-C224-4371-AC22-DBCE81A70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1EA6-1CD7-40FA-8F38-2AC6676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6607F-F225-4C5E-83CC-94AC2DAF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E71C6-3F9E-4C28-BEB6-B6A0E7A2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5A697-0C55-4763-A6EC-8475E999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9F010-58C5-4553-9BC0-3A27E423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2C1A3-7A94-45AD-9865-2E61B01C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5CA4F-18BA-487B-8C7D-B8128030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EC22E-0510-4239-BD0C-C9CCEDE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F20C1-A4C6-4B44-9263-17551F8F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96EA6-5470-409B-83CD-ECC66683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EA321-0EBE-4F9E-9590-5015B94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73D-9747-45A4-A008-31C3007E54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3C576-A436-4CAF-9593-D5319F462E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98933F-299D-4747-933A-EEFD6C575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1F4E83-698C-4A8D-BB8C-3C99CD6F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5C7D7E-C5B1-4C11-9993-95E53D47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7486B0-11D7-4140-864E-C90428CC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8B5DC9-0744-4BB9-8A83-769E6748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ADA094-1D93-4511-B379-3776D63F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E117B6-5D42-406F-8FC9-D4139FA8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439B3E-CD08-4C33-BC58-B98ECD3D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11819D-0475-49B7-A3B8-8314FC8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7AA9D-E15B-46A9-9030-9194CCF88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4E8B7F9-A6BC-4690-B484-2082886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016122-F4D0-4ECE-8AA6-D80F5CD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F043A69-AA48-4FCC-84CF-0AD9E8F41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B4CFAC-0BB1-4C09-AA4A-062FF86E9E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E4A0208-53DF-49DB-8A05-9907E018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170016-692E-47B4-B8EB-BD6918C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1D1287D-4306-497A-B971-B6D77F45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A06FF5-4591-41FF-BECA-B7181DA9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3C7A094-6F41-4013-9FB4-1383B807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0D94CE7-B18B-441D-9607-C05836DD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FC1C4-DE6B-4D5C-A94B-9F05ED2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983497C-A22A-496B-A132-EFDD5C0F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A743CE-F822-435B-9994-E4F7871B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CCAE31-0C5C-4C58-87F1-250D213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418004-4F55-4A76-8E59-64B9DB1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B5771B9-8BBD-40B1-8E33-773083B94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092C99-1F1A-46AD-8799-E8BAC0842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4359C-E807-47B5-A37C-0BA0814F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71FADF-E9BF-40CD-B78F-6A575643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779E44-48A8-4F4B-8BCC-D62C3DA7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5E4F3-08EF-480F-872D-D2A2A78D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65E92-04AE-4573-9740-BE7C42C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CD8FFD-2B38-4C33-8460-4D8565A7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845437-FD1A-415A-A58D-052044E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39DAC0-67B9-41A7-BA51-C8EFAE78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209293-9DA1-4398-8309-C2A5E216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3A6900-8043-4635-B569-AEB039EB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C88609-BBD7-43DE-97DC-707C075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E62C5B-2487-4C5A-80E6-8AFA50D91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A2110D6-CC80-46FA-A082-11C68D6A4C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82C561-36DD-4B0E-8D04-4D01ECA5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E2E0A51-CA60-476B-81BE-64BB0A61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A76A-566D-470F-B6E4-8674387F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07953-0F16-41D6-BC32-28510F11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EE9698-70C4-4D46-A01E-A3445E93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3736EC-3844-4F57-BEF8-16401798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A21154-1DE3-420C-943A-E080334C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187512-ACA8-495C-A5AF-D9128FF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8B7A6D-DED5-4100-96CE-0B6535D8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DCB455-90C3-42B5-9137-2F5BC441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E09C0E-F845-4000-90B6-01189FA2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0AD788-A358-490E-A6F2-1BF83DAE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67C860-8AA5-4C97-BEAD-940CEEF553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1AD9430-2B62-42CE-A037-E441FBEB7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AD07B-AA83-40A9-9742-12260E68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F78213-6D21-42D1-A1D9-1B940028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AC3F7FD-1818-4C81-9FBD-052A1C82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4C72AD5-350D-4B17-AA61-6AEC3F74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EBB35A-B1A4-42FC-97AA-9F7B8C6E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8599D05-6823-4871-AD1C-F835095F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D9C3683-C557-41A5-B9F7-CDBEAC01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B94DE97-7EA6-44FB-AB0D-667E577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4B052B1-98E8-4963-ADB2-E3823A07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020A540-129E-4062-9C1B-CCB9639D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7F8EB7-1C90-4ED2-96B0-9D832F4C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ECABA-A318-4312-813B-B12497A5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013EAF-6A70-4C67-8FCF-B5F23D65DF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98DCB3-5C5D-4AF5-BA7E-1FFB0EE1E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6472F5-EE5C-4C6F-9DC3-5303BDC0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3A7FC8-866A-4076-BF88-CEE7B4F2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4C0EE1-98A2-414C-97CE-5DEB1572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4AF1C4-7609-4102-8FF3-2E11E4B6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82E1EC-BA78-4EE4-820A-628F522B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0A560E-2394-409F-A36C-996AD173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C58ADB-BA0E-4F04-9A86-D1154CD3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4EA070-F7AC-4611-B8A5-50617AC4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F5389-5600-4E7A-8A67-0DB48B0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C1A2C-600D-419D-8BCB-781A79AC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30BF2-082E-4B15-BEFB-DFD2678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0306B3-E259-4B6A-B97A-C387110EF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56FE6A-5F16-48F0-AB2E-372900CB98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32E51E-75BC-4AD5-93D7-9420673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87C6F3-692A-456A-A2F8-E8BEA641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583E1D-0F46-4024-98C0-D4E615CA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50E4DF-C3EB-479B-8272-F534A305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002F9C-8F76-46E5-BDF5-1E841B7B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343639-7CAE-42DB-9640-9700FE53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401B7-6102-472F-A6DF-82463CAC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71E1968-F68E-4CAF-80EC-654AD215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C4FC23-0E51-4221-8F5C-108ABA88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42B3BFB-D053-47E7-9CE4-1BFBDF70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AC6C69-382B-45A7-9FCC-58D291B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F855D1-74F5-4003-8672-A7DDA45FB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7850DB2-19E6-4AD5-8666-41A4D4D63D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80EF043-D580-4BDF-8B2B-AEF67812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AD77B3A-C021-4D3B-A0A8-4CAF812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432D695-90A0-4394-8BF3-2BECE493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E03CFE7-8AA0-4CFB-A1DC-BC017E87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16033-7F81-4465-9917-A2650D4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0AB6F7-16CB-49A6-BA0B-F2A1F370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B7C1A0E-ACBE-4771-906D-F8F3FBA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3CDD6E-D277-40C2-9E99-FB8596F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FBCB4BB-4CCA-4808-A75A-BFFB91B3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83EEEA-B4A7-4BF1-9F21-C17CD57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FA88A8-E44C-43C6-99C2-F49D7DE5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8F9120B-60C3-41DA-A94A-2DD4BED90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CD4002-E0B4-42F7-9223-C252FFB8C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3E8559-F7CF-4F55-9FCE-12DFB160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FBF027-0FAA-41CF-BB14-F8C49FD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85212-D667-402C-A2D8-B07B9546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59FFF6-3701-47D7-AE45-4EF404DB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864BDC-CC56-4872-B881-E94F17AC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8FC172-EB04-4CB4-999A-50D32D69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3A93FF-E2FF-470F-81FF-0666E72E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88AAEE-8179-4DFB-8131-D03629EB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3FF8A9-DB17-4C44-BAD8-B779E535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AF0211-B3A2-4683-92CF-CD7F6EA3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ED5240-E691-4EEC-A9F5-D6B5D8E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71F90B-D49C-41FF-9135-8F5CE6984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0F8B7FB-D7F1-4FEA-8947-01149FE23B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90B30-B831-4A3F-B3DE-0548499F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1969BAF-A18D-487A-B94B-BBBCF70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80AF5B3-CBA6-40D0-BBE9-206E6C33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28850A1-8CB6-4809-B378-3BA7DA6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FC0725-AB0A-499F-8E96-6FB04167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1133573-2870-4515-99A4-B5BEB3C0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5B6AFB-580F-4524-B0DE-70110AB7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6E331D0-2B2B-441B-BE2D-66CAC05C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61DD23-7545-4E09-B25D-9E38F6C0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4CABA6D-D63F-4F9D-8D9F-EE124E12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6B5A05B-135B-4F1B-B6AC-DF9FB9D1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1D0D8-0D26-4660-8C9A-E6CA96870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2E3A5BD-E1C5-40DE-8FDD-ABF2BE241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F9E000-6257-47DC-AF36-01F45680F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BD6E61E-B89D-4E43-A89E-36B55ACE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7139817-274A-44B7-B7FE-2322DA0E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F9CBB54-84D0-46E7-9ACE-05DC2D3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27517D6-46D0-472C-B16D-6FD1779D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457D355-58B6-47E6-BA37-1DE14DC3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24C2208-0DC6-42C4-8BA3-928F1FC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B7A28ED-C866-4885-BD45-9B47D0DC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34339B-6D38-4DAF-9087-170784B2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F025D-5E49-4D8F-862A-384DAC18E8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92A5601-3541-463A-B16A-A8B8A41E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7D1896-B321-48DB-A2D4-AAD2210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A5D191C-0947-490D-A740-E1D00C8740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9B4EF4-1F42-443D-99CD-E57369574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6C63A6-0D2E-46BC-AAA6-80026B3D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7518F5-0FE7-496F-B1E1-AB0B7D7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E52E7-8A58-4E72-BC0A-63740041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1A5672-799F-4C6B-843E-DB6015DB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47F140-9D42-4691-A718-C708B44F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B43811-52D7-46F1-A1D6-A1FBAF1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998B-5171-48BB-8A4F-506BA3C3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EA1FD-3E4A-4395-A6BF-6880095E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15D464-E36B-415A-8A95-CF9F5897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460BE3-5F72-41C8-864A-D3E93BDA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82A269-F651-4958-833A-F710C4C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838AF2-9443-4CF3-BE65-1F3C0488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ED05FC-A735-4841-97E5-C5A8307CD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F2B67F-7693-482A-817D-67F2E7110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706B25-E3A0-46A5-BF24-B8B15F6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4F298E-1360-4413-A293-1533BE0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3986E5D-F887-4D4F-A028-D608C39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201FF39-EAF1-49E8-A02F-5FB8B813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DEDDC-BC69-41DF-9DF2-686B348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26A69EC-2599-4A13-8CCE-1B130C35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917BDAF-5151-4C46-88A6-7FEDE283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C679366-3774-4B90-BE04-4B47EF7D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713839-D522-4A27-B8C9-3CB8A8C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87F21F7-840C-4FC2-A7E4-C74947D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E790189-0E80-4915-8D8B-D92266F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8320F1-240D-431F-B211-A8BA8D8AA2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89492E6-3C7F-48DE-A525-860E5BBF0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86C201B-3A78-41E2-9265-013B33AF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CCA49DF-4224-41A6-933D-27CA649D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3CEFF-212E-4DF6-8A95-8CA4751D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69A14C6-94F7-45F4-8958-53D1C1D9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D07E1F-C432-4A70-8AF8-7BB621F3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7F3526-A9F1-4BDB-8B91-6D9BDE99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4E4E5BE-F6FE-437A-BB89-7182F331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4AF063F-2629-4481-886A-921DD234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7020D07-6C35-4311-A8DB-860993AF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4632220-B8E1-4AD6-ADBD-B5DBEF9F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578DB47-B486-4247-8CF7-FD6E63B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4737F4-A638-42A3-A2B4-A43ED3EF1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EE6AC3-838A-4A25-AA23-02E6F47C69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4B41A-CE0F-4E0D-B571-7B5F33E5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790513-8047-4FCC-98CC-927470A4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DD10BF-A158-43FA-974D-B8EE1B5B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8ADA11-A414-4FDB-8F81-E5CF9F6D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17C704-433D-43D4-8999-9A627A64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9C4131-D6FD-4DB3-BB3C-2F1F7070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4785A2-4E53-491C-84F0-ED6DC18F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E43BE6-7840-478C-98FA-EA366067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EBC73E-8CC1-476E-8B3A-BFA0E48D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FD1152-C67F-4A8F-A670-A4EB7AFC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189DA0-7192-4B22-886D-6907E4B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9BC6B-B108-4E94-AF47-E741F7CD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9A2E2D-6386-4E65-9AEF-F89319BCF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76BD80D-C248-4F7E-88C0-83824E1D7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027AE65-A11E-4F00-B57D-D81C1346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2FDF1AD-F64E-47F6-8F69-350D985F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88F8E52-9561-403F-B8EF-C32AE17F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90A4A55-3384-4BA2-9331-61AF1C96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6947B73-C113-4A85-B3F0-E348588E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65E37A5-4255-492D-B096-7BDBC4E2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418E86C-E59C-4057-99A9-DA91D7B2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E157498-5D2F-4E1C-A556-390D1371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06269-6644-4FCA-A1F0-C492D1A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22D7124-05F2-47BB-8BD6-9454A2E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4F67ABE-087F-454D-A2E9-DF531C0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7A64061-6081-4737-B15B-51DDB7DD13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D6487B4-E3A2-4AFB-BB82-145D0FAECB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558BCC9-30AE-48D0-A1B2-39A8F9A5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AEA60AA-ABCD-4648-898A-B4E08FA8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DFC2B5C-3760-46E0-9A74-9F5EB843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380C7F-AC3F-462A-BE3C-A4CD0803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4891421-D6BC-4D93-898A-5796528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B8D9B62-B258-4076-8EB2-9AFCE227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78003-9E85-4E1C-B969-26CAF3E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6EA4D6A-B9CB-4B0C-9AD8-62DEC17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77879B5-D496-4FD4-91D7-AFE06F3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D59FC18-ED28-47B3-A353-21A863E4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9FC4936-B7EC-4A1B-BBAA-FD80DC8F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EB01F6B-D61C-4BEB-BE65-3E83EE63E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400799-A104-4414-86E7-41F1609452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246EE7-F607-4D48-BE66-6B454CB8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1F2CD8-8938-4975-8628-5A84CB7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30D7F4-96CA-49A4-94D0-54EB8525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45FB32-4C3E-4BE3-91E1-18DFC8B1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97D61-E81F-431F-9A2E-665302E4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104456-C885-4D37-A22F-7AB084F8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69949A-D6A5-4911-82DF-D343379B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31941D-79BF-46FA-A3BF-AD118773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FDC451-EE79-44CE-B685-4429C328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A0F0B5-D43A-4CD0-A9FD-6352E0A7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23440A-A1E1-45C9-99DD-C3F516A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416A72-4EFA-4681-99FE-D90F4EA03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F8983FB-4979-4376-9D44-616501391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CA1BF7A-4A33-4EC4-9F4A-FD7BF298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5D44320-0FC5-48EB-A221-CAC0AE77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2DD43-40AD-477B-BDAD-72104939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6D86FFA-72BA-4D3B-9F6C-8B894D60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32C7A62-6B61-42B6-BE70-64587361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40F028-B0B4-4172-BC7D-DE3153DE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B7F9A1F-105E-487C-87CD-D36A6F97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664A001-31DE-48A0-93FB-B08FDFC3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CA6E59-B41E-4D90-A7D6-6E99814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47C6C31-766A-472A-92C9-B6AEF44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4833580-D580-4088-9ECF-B2ADE249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D87C9CC-4F9F-419D-A3FA-183CB564E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AFA8741-6415-40E3-815B-4EB17F4562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10B3F-244A-4AE8-97CC-36DF25A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FD442DD-CD44-423A-8B69-29878089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03FC450-ED39-403C-BE3E-059DB979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B3C54FC-A553-4B96-8C4B-A756BDB9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4B16BDB-45EC-4F8B-B801-4583F4B4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F26F0EE-A773-4BC0-83EE-1D3987B9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84BC8AB-5AD1-466D-99AB-2484BD85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F45B406-8B06-41F3-91BA-9C7ED2E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DA9D36A-F07B-4E56-B469-7E6C86D2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5B856A5-D4FB-45FD-A96C-2952664D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6C7CED-A1FE-4C09-A13B-563E8B4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4237-70A3-48DD-9D58-92EB9A35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B09137-6D60-4CBB-A18B-0036E871A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678638-D560-4924-B574-249BFF97F3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D202F8-ED8A-475A-B807-6EFA1A9AD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3A72AF-3185-4DB9-B67B-FDF3A91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553980-DA40-4A37-BC7D-7AA25FD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B9140C-E493-49AF-997C-A5BF6592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0F7E27-7D1F-477E-836E-AA8E77F3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3EB581-3ED6-402F-A162-B45FC4B6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E088C7-308E-427E-B1A7-F2E37C00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4EF0F2-A275-40EE-A922-11FF693A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1A63D0-F488-47B9-8E49-0F884D21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258D7-98E0-4FCB-BF1C-E4F4FEA82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2FE2C9-150C-4D5D-8AA8-E1876179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03CF77-BC1E-48F0-9B41-2C51E87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5082A2-2AF6-4CA4-9305-355DA38C8C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4666ADC-9378-4627-AB84-9C49DEE5C3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F32D82C-DA66-4A2D-A71E-24B3CD25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7FABDCE-60AD-48A8-9D8F-2FD3274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577ABB8-9992-4B10-8E4D-456A4D86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71609D-2BE2-428D-AC03-6244F203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F180AE1-9198-491B-BEC2-1067DA1C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7220B19-D58D-45F9-99B0-4A21F389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00BBA-BDBF-45CE-AAF8-E3B71590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BF291C3-8716-4829-AB9A-7BA7325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C10160C-5DB2-4D15-AB9A-0CA28136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E7CC91B-F3FC-4AFC-B34C-CF8FB78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5E67309-5DE9-4979-A009-4F90B1F8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07E4085-01BF-4CD1-88A2-CA82D56105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76B3B08-9E00-424E-978B-A24D7BBBD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6734FEC-CB8E-4164-AFB8-A5F568F7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94BCF03-A293-4676-9B80-D58063C8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375472A-BEB2-4473-ADAD-4269A4FE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2B53B5A-009F-4425-BEE5-10E26543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18515-CEDD-4430-BA0F-205A4DD9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839C948-EA8D-48B8-9B72-66E5BE22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300ACD8-0D70-4666-9133-C1CD105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5AA98B8-FF7A-48E1-85CD-D3D47ACD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11B21E4-ADC3-40AF-B51A-8AC959FB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E8838EB-9686-47A1-9A87-98CB8C2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8C6A6D8-A752-4E72-8234-25D3B47E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DBD3234-4EDF-4F97-B561-429F0C970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B8019D-278E-481C-AFDC-ADBF4AB79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EF2312-620C-45F9-8529-F30E462B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EA927C-4F9D-4E80-BA98-11AE2972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11E2-31FC-4F9A-A2AF-89FD0739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F10422-C517-4CD5-AB9D-86F38FA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2EA850-77AD-4C32-8525-1D757477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AABAAC-8B84-4258-8E70-30961F97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35EEB5-1CF2-44DB-84F1-9D6B631F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606BCF-F702-4838-B5F0-629A740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CCCB9E-93B6-4D9F-98CF-205301F8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BEAF2C-5E9F-4AF8-807F-7FFFADCB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3ADA17-2BE0-46CB-83CD-BE3BF1A5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2F727E-7510-48ED-9DD3-4417C0C5C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76E95E7-4A04-4D9C-A1F9-3A776E21B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40D6-3A0A-4F89-9CB1-39504A8A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ED27C0A-7E91-4548-81E3-1490DD5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A138753-91D8-4072-AFCE-2095CE4F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EB2C524-268B-4296-BA50-72340F39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0AB7D83-BA77-42CB-A3FF-9A6BFC1C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04EE2A7-4D41-4579-A85B-17574285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314943-DE7C-46F0-8F93-AC040D4C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C36373-BDDF-4CFC-AF7C-21146DA5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323803E-B837-46F8-B1AA-BDB8284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7726055-383C-4706-8F87-5A51C4B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2F9E26-2455-4D95-B904-D2CAC7D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111F-5AFF-4E1A-BDA3-4CFC424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8E218CE-14C5-471D-8C9F-006988A1BD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4F0B79A-AB8E-4E42-8E45-FABD48B85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B771F10-058B-4BB3-B8E6-9262F08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D42B2FA-1ED6-4373-B0BE-4CB3DACA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878DE58-3CDE-4424-9FF4-89909B7B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59F2261-2F1B-4FE4-9DF0-7BF815B7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523D4BC-096E-48F8-8229-795708CF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3B2C6B7-CEA3-4D64-9821-D12E41B9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2C9094B-2F67-42FC-8DFA-B03994B1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BF36FCA-0C01-4B6D-9DC5-7CC3ED2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CF24C-A79A-4863-A4F9-1ED0B973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5EC3067-8D95-4D45-9164-F0236138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4584327-6213-4264-88CE-7A23CF9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E00AA64-DE67-44E0-91B2-5BA22D082E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C64EFE-EE26-4BE7-8BEA-DD209F565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F8802CB-A748-4228-8827-910AFD6B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3BFBF0A-26D0-40CF-BFB3-8EF9B1AD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C41EAD-697A-4565-A69A-898CA2D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A32A12-31D0-4407-A1D9-1878F78F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C05A97-769D-468C-A441-6F07184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DB0AEF-81A3-47E4-937D-205BB27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996CB-59E9-4A62-ADE3-D3B52234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BF18B4-7D5B-40F4-8E7C-473F580B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87215D-DF4D-4E5E-A88C-814390E6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EFC9E4-62B2-44F0-8721-98B29834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77B61E-6C60-4D10-8120-AF5BEC5D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764628-8B48-49B2-A2CB-1B68F8C45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1338092-4160-4C54-9661-705C22E0D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9FD2580-1305-4E6A-B336-94A8B53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1AC22E8-9359-49BD-96F5-5568235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509D2FD-9271-4E24-9822-978B2BEF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21F725B-21D2-4D2B-AA71-F2234B4B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FABD-C0A5-41D4-8DBD-05D65D1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3A260ED-ECAE-4A78-9C2A-58D80AD7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32C11DE-1832-4FB6-9225-271A0863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96137E2-CB4C-4DBD-9596-91FE2F01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4AC3CCA-E75B-4010-B142-2AE6F9C8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A3FA322-627B-422B-A5DF-56049F10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A6F477E-8A42-471F-99A1-9426ABA2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4AB2AEA-428C-4C0D-B7BA-1362D4BD30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E169A0B-4CCC-4E03-A13B-7422171F97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CC7AA9C-7BDD-4DDB-8474-98245400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A21800B-4885-48CF-87BC-996A0905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A65A-69F4-4A2E-9F6E-950E2B0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DD52-377C-4285-9AAB-7D126AB5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432F61A-ACC7-4C58-BED5-B7BAC2D6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8AF777F-1F20-412F-84E2-550CBB2C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A4D6EA7-6CCE-4971-A72B-8618E8D4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AF90CCC-4231-4605-BA4C-8352E5DE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89BAA88-2591-405E-88CB-E0DA3B0A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D3B1685-4260-4ABB-83D9-26C16533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CC82CBF-D3B9-48DD-9C3D-47F21E57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79AF1DB-9E54-4FC1-9432-DF1F043C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F32F274-ACA0-4CFC-9AD8-80B04A99BE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D4064D-5CCB-4B73-A7C5-C7B08D05F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6559-5918-4E89-82C4-76434F2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00046E-2034-4E33-BA86-C726EB2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439A4D-2CED-484B-8833-809079EA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81DBB78-2713-4D81-93FF-33FBA632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9D1548-475B-44E0-ABD5-F42D14BE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B4527F-A9AD-4701-8AFA-38505531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5D8094-B010-4680-ACC7-0E3730CF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0A907A-6409-46F3-9F31-FDDC8C17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E8B3A3-FB53-4AAC-8977-4FFD9261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43F16D6-D411-4149-8EF9-76D1B708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C80EAB-D6F6-4923-9BDF-E9F2636C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74B3-D736-4FD5-8415-8F67110178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019307-45C9-4434-8E47-69134AB119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E9CC1CC-1F79-4C5C-9358-194E855603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22619D5-F49F-4CB5-9471-8C27EF34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11AB8DC-2CCC-4F3E-B375-E285EA57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C0A8098-0E62-4E02-A5E0-84B9DCE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357E3F7-3890-4C0F-AB90-04BAB756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1A77464-33F6-4CAD-A3DD-9B2A02B3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EAE57AB-0E55-4039-A162-C2365128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1879DA7-BE88-4431-9012-7CF3A300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2AA1968-F3DF-4928-93D6-B5AF8940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F5D78-51BA-47BA-B60D-F5DF81B00B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6C01CDF-E229-44F4-BFEE-8249F681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BBF789A-7AFD-42CC-A2E6-14FCDDA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8096F5A-16DD-4BF3-8B04-6A71018311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C9D4946-F7C0-4B98-ADBE-E1B9150B05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274DC58-2E66-49E4-8B15-479BDF5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919A0DD-9111-4BFD-8E53-DB95E521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B89F857-AC0A-43E5-B455-A786F656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85BE548-7A22-4674-813E-0E53A339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EEB88C7-0ADD-4AC2-B12D-71090359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4067B9E-B5EC-47D1-8801-378735D4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F6380-B782-4D80-A2BC-360DC496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2722061-9FF6-465C-B434-C2CFD70C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214C0C4-EBC3-4B41-A165-4086F224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8E7D7C5-C051-49B6-AD17-7E254887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AA773E5-D073-4902-8ACC-4CD242EF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F87F264-D85A-4F2B-9C50-4363621B68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53D34E-9438-4675-BB61-8AA5FA22C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35FC79-7945-4101-8E02-71AFDCA7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03BC95-CFED-44A8-AEB4-806E9199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78E577-65D1-4F18-90EA-95BD9B7A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6D9B17-B76A-4CFB-B3DF-6D191D26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913C8-BBA1-433E-BE27-4717AB35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F018A93-E6D5-4E72-8F64-AF50C7CD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8D48AC-F5CB-47DF-AAFE-CD6B5CBD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0B2F55-F976-45DC-97DE-449EC2D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571811-7F77-445C-B904-B8DE3AF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735F7B-2213-49CA-B545-AE911BD9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FA90F7-2D57-46B6-957F-6C86FDA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81025D-6910-47FA-B57C-5CD1935E6C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456B7E3-4043-413D-A913-D0B492ECF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CF28C73-883B-48DD-8B41-904185F0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0C760EC-9922-4B35-A329-722CE8AD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444A0-13DD-42BD-B200-C7D712F9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6A561A6-AD90-4929-87FE-E6F7D1A7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90E5791-A1A8-48D5-9672-F5896219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3131D61-8266-4C8D-8E38-D97E19C4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35A7760-DEB6-45C5-A101-64E16E9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4EB9BF3-B0DB-4C3B-8227-BF8F1BD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51AC865-6C3E-4314-B9A9-4579544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5430049-AC39-47AF-9B2B-C845E041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6EB7F18-FF28-4C2E-946C-D881265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461FDCA-39E4-4450-8252-03DA1897A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AF90858-5AAB-49B3-B99A-58919B13B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FCB8E-C574-422E-B257-45EC3855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1F1E546-0E75-4062-973C-60F8D670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46D6BE9-6204-4838-AF5D-7C79E72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2B429C4-4FC0-4396-9529-743D961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0D6C181-5056-4DF3-89F0-00444DE9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31F126C-3B3E-4EC5-A03A-592A424E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51F1E52-BE5F-459D-A69B-08B7064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DB5E01B-DCFD-410E-924D-B980EA0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B84B587-7F1E-4B08-9013-FEED1B67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349446A-10D4-4F22-ADA6-3E05F48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B2A33A1-AB5A-44CA-8A41-77D87AA7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ECD96-5D6C-4532-8D90-F0D62DF6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A2A7318-98C0-4886-80D3-E8D010843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98407D-E617-4D27-836E-9945E31B03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5245AD3-7DFB-4450-B4D6-E8353A0D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136D2E2-7793-435B-B044-DD988713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A84C17-DF7D-46F7-A5C8-2E10003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0BC40C-D4C5-4B2D-A975-1DE5E11C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F53BC9-D2AE-4EF7-8B4F-6E5DF527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B35571-AC42-4FC3-87F2-90C03830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53A56D-1248-433B-B97D-88295B0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8EFECA-CADF-453A-BF64-A313F0B7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7EF9A-8355-4EEE-B807-B7640ED2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34041D-90FE-425D-92B6-1F67961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EA98294-F5A9-457A-BD25-12F4049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A6D13C-2D5B-4B2D-AF4F-3CEF3D641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ACC7C35-C63A-485B-9C51-FA8F075596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E109CD8-2426-412E-B97F-06303C07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9C92E3B-CB18-41C2-8B1E-1F50A1E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13B5631-A4A6-4A39-A24D-240BCC33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F8BA7FE-5019-45A5-B9D5-35E3037F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77ED0A1-3009-4157-98E4-F50E26E6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4D750BA-A449-4499-B176-59E1DC2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3C05-3C7E-4CC1-8880-A7214792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4446D-5BCF-4617-943B-7BB9B70C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E0CA229-DC98-47A5-BE24-3CF95D2E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0751302-3CAA-422C-B5C7-DB86525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95D6427-BC71-495D-A7CD-2966563E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227A363-89F8-4F6C-A176-A40392E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83518BE-68E7-4C50-B250-B125ADE63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ED59E15-E70A-492A-AABA-575AD543EB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76201A4-DFED-47E9-93B5-F24A33EB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73AD887-D7BC-480F-9CD4-6EFA661E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12A3537-D63A-42F9-966A-68186819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5C92267-289C-4C49-82A4-5189E9FF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564EF-9A43-445A-8148-BC14D4B7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23C55E0-E73E-4933-97F1-0519E8D0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EC4C49E-97BF-486B-8229-2BF21681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1F3FEFE-0C0E-4623-875C-834795D2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0C1E8C4-1DC2-4893-83CE-F97AD943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52C8091-107E-4C19-A75D-15D83999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E78FCF5-03D7-4003-8BD5-B1F64EAC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6CC9B1A-4C76-4EAF-BABF-2D24015C0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EAD430-72F7-48F7-9F66-0DA303249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DE7CBC7-DE0A-4F04-8B48-1459815E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D3AD59-9009-4831-ACEE-E99FA195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32F2A-9C2A-4E0B-86D6-742BA3CD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98440EE-2827-4F8C-A3F5-0A88EC3A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FA84BC-5701-461A-842C-99F9DC60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F52C7A-5A37-49A4-B51D-174F9611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0ECD93-0280-4218-8449-BD3BDA2E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9D038F-FC1A-4D31-B8AE-CAAB1A31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BF7BA4-544C-45CE-A987-73E9F985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FE1B3A4-CF8B-4E21-A698-AD56C704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404942-14F7-437D-9A09-A369421A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4C7544D-711F-4691-8AF7-84EEF8F678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696D8ED-A16F-4305-A01D-B30CB92A2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D419F-2CD2-4776-ADB0-D19B43E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C4F211B-5697-4E67-B941-443C1BB0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4581CCD-FE9D-4822-970D-E06755F7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719BDE0-DE4E-44BB-9C53-A9280F1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4BA10D4-B5D1-421D-892C-96B2FECB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14F3A29-3987-4D04-AC84-35AF4AA4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2C6E271-E435-4494-9806-443A87DA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7F5ED88-E1CC-4588-AC66-3C8C8B7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40CB0C5-AE35-4AC3-9B44-E68BC763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C4AC8C2-9542-4ECE-AE23-B470957F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9B032F6-E555-4032-BC61-D396A14F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A3F4F-36F0-4459-ABCE-363719B8EC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29599FB-E9C8-4303-8370-3D00A6DCB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931ACB9-FD70-492E-A095-7702A133B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8088213-02B7-476E-B89A-CFBC4E7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E8D5A6B-5302-44F9-8F1C-A38E86D4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1E37ABB-B2A3-4F7C-A0F8-C11CAEEE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5CA09C2-04E3-4B72-BA16-EBCF8D0C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C78B52F-5FB0-4772-905B-19D8F4B2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9B4328F-71C4-4908-B701-8760811E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6B83B84-6215-4C70-8702-1BB310CB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895CCD7-4152-4B7C-A5B1-FCE8C50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8942AC-2844-4F89-8F13-AEC53E5BD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BC06FE1-3325-4DCF-A2B2-70D690D6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C3A0211-9586-41F8-9519-79395B7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0B3F2B1-B744-48B4-A899-BEB47A4E8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FE7F0D-B742-4C1F-819F-3DA6D5DB3F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9F6027-DB3B-46AA-9139-2632F423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0C73926-E110-43FC-B69D-B991CF98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D29DF2-961F-4F6A-902C-00658380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40E371-BE88-45C6-8DCF-52A95CAC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1DA33CE-8042-455B-84FD-5250DF2F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6B2801-3281-402D-94AC-22CCDC49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CB8C8-388C-42EA-A0F6-B099F797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0AE8C44-2203-4BA3-A7C4-9B23022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AA16A9-9C96-4D45-A21B-300F4872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E3E6B1-0519-4F63-9320-C8F94960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518173-1A67-4EE1-B386-476E329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D111CE-7144-4A84-A41D-1BE5A77372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3FF9E1D-2D92-4397-A978-44AA74E0E7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E21750C-070E-4E37-B059-BFC4C725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9626BDA-80AE-4DEC-A2B9-6608110D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A4BC504-9DA9-43D7-B123-6CC8104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3171B11-339B-4E0A-90B2-893BC7CD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34E68-2447-47CF-A033-D86B6B0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C12B608-52E9-49AB-AFF2-DECBD9E6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34E71C1-7326-470E-AC85-2A8AC0B3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DDB81AC-C536-40DB-959C-CE713C3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904B314-3BE4-42A8-8209-E419B3EF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C53FC2E-AC44-453E-AB47-AA23C4D3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6C76B66-3179-46F0-AEF3-3EE6EA7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9109598-90E4-440D-AA82-AFD7654856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6B4DC3D-2FAF-470F-A34A-A87F1BC32A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B8E69F0-3653-49A3-B31D-7F42281E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9C9CEA3-A74C-4D8E-AD85-848B601C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59F9CE-21CB-4A33-BFB7-C21D29D7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394544B-638A-44AE-8814-3838E665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96B69CC-1CC0-474D-8456-E4137587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1BFDCDB-0C46-4138-9058-83A36042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F4A36F1-1680-44EB-BF4A-9C7AE8E0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59B7A30-D830-4FF6-9DB1-774F4BA2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65A6F7A-8AD9-4952-8D6B-3E4489E5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D8BEC76-9236-4494-BDC1-44DC0938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350640A-2FA9-46ED-BAF3-377CFFB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BD9CBD2-61AD-4E2F-ACC7-805DF2124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827DB9-63E5-4AB0-AE1A-86D08132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5582-0A04-4293-884C-42743ADD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CB3993-0442-4E5A-B8FA-BBA57244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E6CB3-96BB-4EB2-A1CA-873D6056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6C977-85FF-49CF-9FC6-0986448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E649B-0A11-4B55-8230-B9BDC4E7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01428-0F86-48C5-A38A-3C4AE058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AC5D7C-CFA9-46BD-8B20-4149E81F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8B0B8-47E5-4441-B91D-75C218CD6C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09FFA-1D24-448C-BB66-B6EDE5F27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9D00-34E3-4177-AFBE-91DFFE31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C37E0-E4A7-4C79-9B16-14B9BDEE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C41F6-BB40-4770-8E10-22391B0FFD6C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6E1CC-F94C-496D-BB92-944F81F1116A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0A942-58EF-4A85-8267-62BAE2978E6A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33B78-54A0-439E-8E4E-E307E6291FCF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2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24DE0-AB94-4AAF-ACE8-F28E3480F49A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E9BF5-869D-4F07-AAF2-E2850FA64B49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E653F-9F74-45F0-8706-BEDDEE345E03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0AA6E-696A-4334-9D12-5831F9F95AE8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3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005F2-A4C0-4F6E-8186-58471EB6DF43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3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sldNum" idx="3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6C36D-C1A6-4452-BD79-B5F6B85BF176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3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49701-6187-492C-941D-AC196657C84A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9BD30-B3D2-43FD-8BBD-27B02BDB83B2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3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4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15CD2-767E-4696-B599-D42720688665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4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DD7B0-7FB7-420B-8A39-9BA4917AA51A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4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45FDF-D715-45DF-9399-45A1AE82287D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4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sldNum" idx="4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7CC9C-4A72-4559-BD49-3DAFAD8C735C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4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4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65505-133E-480B-B043-1572868530C7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4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sldNum" idx="5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9DEB5-9693-4A22-B028-F22EACBCCB91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5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sldNum" idx="5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F69CF-CE42-4C4B-AEC5-23CB6CB85C5C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 type="dt" idx="5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 type="sldNum" idx="5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DF1BE-7A9C-4386-A56E-D432E8F04BC7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5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sldNum" idx="5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2B71A-5ACC-4531-B995-4687D80C2227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5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5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37E28-4B71-48BE-AE42-B34B256E80CF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596EE-B66D-46D0-B41B-5F7486025F4F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5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6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B5A26-F38C-4724-A157-A181A28B5DF8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6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sldNum" idx="6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9037A-D98C-4FDE-BE1F-993CDDE131AF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6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sldNum" idx="6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53F42-547A-4B2D-A2E9-CC1DB7BD3075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dt" idx="6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sldNum" idx="6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6F6BC-8251-48EE-AF8F-26C8347711E0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6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6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605B0-A581-4BAD-9383-D85A19D9AFE5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6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sldNum" idx="7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DCDD0-0102-4C7B-80C2-D5F63BAD0AFE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 type="dt" idx="7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 type="sldNum" idx="7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4479F-C38B-4159-8AB8-1998C6C2572A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7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sldNum" idx="7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795FF-C80A-4451-9A66-08182BAACE99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7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sldNum" idx="7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95EA9-7011-4889-93E2-BFD50F300E34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7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7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597F9-A2C1-42C3-9DD4-B917D79FB4D8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0" y="228600"/>
            <a:ext cx="1969920" cy="6627960"/>
            <a:chOff x="0" y="228600"/>
            <a:chExt cx="1969920" cy="6627960"/>
          </a:xfrm>
        </p:grpSpPr>
        <p:sp>
          <p:nvSpPr>
            <p:cNvPr id="124" name="AutoShape 2"/>
            <p:cNvSpPr/>
            <p:nvPr/>
          </p:nvSpPr>
          <p:spPr>
            <a:xfrm>
              <a:off x="0" y="2575080"/>
              <a:ext cx="58680" cy="614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37" h="387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3"/>
            <p:cNvSpPr/>
            <p:nvPr/>
          </p:nvSpPr>
          <p:spPr>
            <a:xfrm>
              <a:off x="88920" y="3156120"/>
              <a:ext cx="438120" cy="231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311200"/>
                <a:gd name="textAreaBottom" fmla="*/ 2311560 h 2311200"/>
              </a:gdLst>
              <a:ahLst/>
              <a:rect l="textAreaLeft" t="textAreaTop" r="textAreaRight" b="textAreaBottom"/>
              <a:pathLst>
                <a:path w="276" h="1456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4"/>
            <p:cNvSpPr/>
            <p:nvPr/>
          </p:nvSpPr>
          <p:spPr>
            <a:xfrm>
              <a:off x="560520" y="5446800"/>
              <a:ext cx="411120" cy="140796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407960"/>
                <a:gd name="textAreaBottom" fmla="*/ 1408320 h 1407960"/>
              </a:gdLst>
              <a:ahLst/>
              <a:rect l="textAreaLeft" t="textAreaTop" r="textAreaRight" b="textAreaBottom"/>
              <a:pathLst>
                <a:path w="259" h="887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5"/>
            <p:cNvSpPr/>
            <p:nvPr/>
          </p:nvSpPr>
          <p:spPr>
            <a:xfrm>
              <a:off x="666720" y="6504120"/>
              <a:ext cx="108000" cy="352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68" h="222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69840" y="3200400"/>
              <a:ext cx="558720" cy="33177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352" h="2090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5840" y="228600"/>
              <a:ext cx="61920" cy="2916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916360"/>
                <a:gd name="textAreaBottom" fmla="*/ 2916720 h 2916360"/>
              </a:gdLst>
              <a:ahLst/>
              <a:rect l="textAreaLeft" t="textAreaTop" r="textAreaRight" b="textAreaBottom"/>
              <a:pathLst>
                <a:path w="39" h="1837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54000" y="2944800"/>
              <a:ext cx="42840" cy="482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" h="304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534960" y="5478480"/>
              <a:ext cx="120600" cy="10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76" h="638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538200" y="1398600"/>
              <a:ext cx="1431720" cy="403704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902" h="2543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41520" y="6529320"/>
              <a:ext cx="101520" cy="325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64" h="205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2"/>
            <p:cNvSpPr/>
            <p:nvPr/>
          </p:nvSpPr>
          <p:spPr>
            <a:xfrm>
              <a:off x="534960" y="5359320"/>
              <a:ext cx="14400" cy="20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132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590400" y="6245280"/>
              <a:ext cx="154080" cy="6112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11280"/>
                <a:gd name="textAreaBottom" fmla="*/ 611280 h 611280"/>
              </a:gdLst>
              <a:ahLst/>
              <a:rect l="textAreaLeft" t="textAreaTop" r="textAreaRight" b="textAreaBottom"/>
              <a:pathLst>
                <a:path w="97" h="38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20520" y="0"/>
            <a:ext cx="1941480" cy="6842160"/>
            <a:chOff x="20520" y="0"/>
            <a:chExt cx="1941480" cy="6842160"/>
          </a:xfrm>
        </p:grpSpPr>
        <p:sp>
          <p:nvSpPr>
            <p:cNvPr id="137" name="AutoShape 15"/>
            <p:cNvSpPr/>
            <p:nvPr/>
          </p:nvSpPr>
          <p:spPr>
            <a:xfrm>
              <a:off x="20520" y="0"/>
              <a:ext cx="398520" cy="4389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389480"/>
                <a:gd name="textAreaBottom" fmla="*/ 4389840 h 4389480"/>
              </a:gdLst>
              <a:ahLst/>
              <a:rect l="textAreaLeft" t="textAreaTop" r="textAreaRight" b="textAreaBottom"/>
              <a:pathLst>
                <a:path w="251" h="2765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453960" y="4316400"/>
              <a:ext cx="339840" cy="15699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569960"/>
                <a:gd name="textAreaBottom" fmla="*/ 1570320 h 1569960"/>
              </a:gdLst>
              <a:ahLst/>
              <a:rect l="textAreaLeft" t="textAreaTop" r="textAreaRight" b="textAreaBottom"/>
              <a:pathLst>
                <a:path w="214" h="989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831960" y="5862600"/>
              <a:ext cx="345960" cy="979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218" h="61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430200" y="4363920"/>
              <a:ext cx="446040" cy="2224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81" h="1401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385920" y="1289160"/>
              <a:ext cx="133200" cy="30160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016080"/>
                <a:gd name="textAreaBottom" fmla="*/ 3016440 h 3016080"/>
              </a:gdLst>
              <a:ahLst/>
              <a:rect l="textAreaLeft" t="textAreaTop" r="textAreaRight" b="textAreaBottom"/>
              <a:pathLst>
                <a:path w="84" h="1900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919080" y="6570720"/>
              <a:ext cx="100080" cy="2696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3" h="170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414360" y="4106880"/>
              <a:ext cx="57240" cy="500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36" h="315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804960" y="3146400"/>
              <a:ext cx="1157040" cy="270504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729" h="1704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887400" y="6600960"/>
              <a:ext cx="88920" cy="241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6" h="1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24"/>
            <p:cNvSpPr/>
            <p:nvPr/>
          </p:nvSpPr>
          <p:spPr>
            <a:xfrm>
              <a:off x="804960" y="5897520"/>
              <a:ext cx="102960" cy="663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5" h="418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>
              <a:off x="804960" y="5772240"/>
              <a:ext cx="20520" cy="215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" h="136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831960" y="6323040"/>
              <a:ext cx="163440" cy="519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03" h="327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  <a:effectLst>
            <a:outerShdw dist="255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1395413" h="78105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8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75346F0-FA4C-4B1B-A576-AAB9203284E3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dt" idx="79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 type="sldNum" idx="80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DE271E3-429F-4CD8-92DE-7A971E6C0E01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81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sldNum" idx="82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A7B1917-68D0-4E84-88A0-1E3E0BA7177A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dt" idx="83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sldNum" idx="84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5D1264-C7A6-4E04-A78B-6F7572DEAD73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85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sldNum" idx="86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8A9629D-C7FC-4EF0-9443-ECDFA2F04899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 type="dt" idx="87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 type="sldNum" idx="88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7DB0271-E7F3-408C-B1A9-33F477AE5C76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dt" idx="89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sldNum" idx="90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DFFA3E-29CC-44EF-942D-BA5EBDE5DA46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 type="dt" idx="91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 type="sldNum" idx="92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1F0F641-30F4-4020-BE86-6C07FCEF5D30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 type="dt" idx="93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 type="sldNum" idx="94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31D2021-AAE4-4E11-A055-D8AB9D49D810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 type="dt" idx="95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 type="sldNum" idx="96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7AFA96C-A780-4620-9C45-5757D2416BEA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 type="dt" idx="97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 type="sldNum" idx="98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5032A7-63BD-436A-8220-E804C3E6EAD0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34800" y="457200"/>
            <a:ext cx="2776680" cy="95400"/>
          </a:xfrm>
          <a:prstGeom prst="rect">
            <a:avLst/>
          </a:prstGeom>
          <a:solidFill>
            <a:srgbClr val="366658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031080" y="453960"/>
            <a:ext cx="2776320" cy="98640"/>
          </a:xfrm>
          <a:prstGeom prst="rect">
            <a:avLst/>
          </a:prstGeom>
          <a:solidFill>
            <a:srgbClr val="969fa7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81320" y="457200"/>
            <a:ext cx="2776680" cy="90360"/>
          </a:xfrm>
          <a:prstGeom prst="rect">
            <a:avLst/>
          </a:prstGeom>
          <a:solidFill>
            <a:srgbClr val="8cb64a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36600" y="5141880"/>
            <a:ext cx="84675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34880" y="5951520"/>
            <a:ext cx="518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0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458B62-A086-42E3-8B59-933725C6ADED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 type="dt" idx="99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 type="sldNum" idx="100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CAB627B-D7F6-43C9-8966-EF85211655E7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101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sldNum" idx="102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1A792AA-2A53-4D62-8D70-7E01C35B4EF0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03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sldNum" idx="104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0BAE432-090C-4404-ADD0-70EAE35AC413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05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sldNum" idx="106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AF7AF8A-8E92-48BA-8236-C313E8A02422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 type="dt" idx="107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 type="sldNum" idx="108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F3DB2A-FF25-4A10-95C8-8F2FEBB67798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 type="dt" idx="109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 type="sldNum" idx="110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6D1F4F2-AAC2-469D-B06F-57FD45F8E6B0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 type="dt" idx="111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 type="sldNum" idx="112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70475C6-D7E9-41BE-9294-984F887DF217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13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sldNum" idx="114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9F1BFF8-AF9B-47FA-BB2F-D4EA6644A8C3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 type="dt" idx="115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 type="sldNum" idx="116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4BC4030-72A3-4FCF-94CC-0A2DBDDE17DF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 type="dt" idx="117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 type="sldNum" idx="118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F4D2576-6C31-4E70-A4C9-E293900E04E1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"/>
          <p:cNvGrpSpPr/>
          <p:nvPr/>
        </p:nvGrpSpPr>
        <p:grpSpPr>
          <a:xfrm>
            <a:off x="0" y="228600"/>
            <a:ext cx="1976400" cy="6634080"/>
            <a:chOff x="0" y="228600"/>
            <a:chExt cx="1976400" cy="6634080"/>
          </a:xfrm>
        </p:grpSpPr>
        <p:sp>
          <p:nvSpPr>
            <p:cNvPr id="238" name="AutoShape 2"/>
            <p:cNvSpPr/>
            <p:nvPr/>
          </p:nvSpPr>
          <p:spPr>
            <a:xfrm>
              <a:off x="0" y="2575080"/>
              <a:ext cx="65160" cy="6206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41" h="391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AutoShape 3"/>
            <p:cNvSpPr/>
            <p:nvPr/>
          </p:nvSpPr>
          <p:spPr>
            <a:xfrm>
              <a:off x="88920" y="3156120"/>
              <a:ext cx="444600" cy="23176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80" h="1460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AutoShape 4"/>
            <p:cNvSpPr/>
            <p:nvPr/>
          </p:nvSpPr>
          <p:spPr>
            <a:xfrm>
              <a:off x="560520" y="5446800"/>
              <a:ext cx="417240" cy="141444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263" h="891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5"/>
            <p:cNvSpPr/>
            <p:nvPr/>
          </p:nvSpPr>
          <p:spPr>
            <a:xfrm>
              <a:off x="666720" y="6504120"/>
              <a:ext cx="114480" cy="358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72" h="226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AutoShape 6"/>
            <p:cNvSpPr/>
            <p:nvPr/>
          </p:nvSpPr>
          <p:spPr>
            <a:xfrm>
              <a:off x="69840" y="3200400"/>
              <a:ext cx="565200" cy="332424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3324240"/>
                <a:gd name="textAreaBottom" fmla="*/ 3324600 h 3324240"/>
              </a:gdLst>
              <a:ahLst/>
              <a:rect l="textAreaLeft" t="textAreaTop" r="textAreaRight" b="textAreaBottom"/>
              <a:pathLst>
                <a:path w="356" h="2094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"/>
            <p:cNvSpPr/>
            <p:nvPr/>
          </p:nvSpPr>
          <p:spPr>
            <a:xfrm>
              <a:off x="15840" y="228600"/>
              <a:ext cx="68400" cy="2922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922480"/>
                <a:gd name="textAreaBottom" fmla="*/ 2922840 h 2922480"/>
              </a:gdLst>
              <a:ahLst/>
              <a:rect l="textAreaLeft" t="textAreaTop" r="textAreaRight" b="textAreaBottom"/>
              <a:pathLst>
                <a:path w="43" h="1841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54000" y="2944800"/>
              <a:ext cx="49320" cy="488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1" h="308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9"/>
            <p:cNvSpPr/>
            <p:nvPr/>
          </p:nvSpPr>
          <p:spPr>
            <a:xfrm>
              <a:off x="534960" y="5478480"/>
              <a:ext cx="127080" cy="1019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80" h="64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0"/>
            <p:cNvSpPr/>
            <p:nvPr/>
          </p:nvSpPr>
          <p:spPr>
            <a:xfrm>
              <a:off x="538200" y="1398600"/>
              <a:ext cx="1438200" cy="404352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4043520"/>
                <a:gd name="textAreaBottom" fmla="*/ 4043880 h 4043520"/>
              </a:gdLst>
              <a:ahLst/>
              <a:rect l="textAreaLeft" t="textAreaTop" r="textAreaRight" b="textAreaBottom"/>
              <a:pathLst>
                <a:path w="906" h="2547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1"/>
            <p:cNvSpPr/>
            <p:nvPr/>
          </p:nvSpPr>
          <p:spPr>
            <a:xfrm>
              <a:off x="641520" y="6529320"/>
              <a:ext cx="107640" cy="331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68" h="209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2"/>
            <p:cNvSpPr/>
            <p:nvPr/>
          </p:nvSpPr>
          <p:spPr>
            <a:xfrm>
              <a:off x="534960" y="5359320"/>
              <a:ext cx="20520" cy="216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" h="136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590400" y="6245280"/>
              <a:ext cx="160560" cy="6174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617400"/>
                <a:gd name="textAreaBottom" fmla="*/ 617400 h 617400"/>
              </a:gdLst>
              <a:ahLst/>
              <a:rect l="textAreaLeft" t="textAreaTop" r="textAreaRight" b="textAreaBottom"/>
              <a:pathLst>
                <a:path w="101" h="389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20520" y="0"/>
            <a:ext cx="1947960" cy="6848640"/>
            <a:chOff x="20520" y="0"/>
            <a:chExt cx="1947960" cy="6848640"/>
          </a:xfrm>
        </p:grpSpPr>
        <p:sp>
          <p:nvSpPr>
            <p:cNvPr id="251" name="AutoShape 15"/>
            <p:cNvSpPr/>
            <p:nvPr/>
          </p:nvSpPr>
          <p:spPr>
            <a:xfrm>
              <a:off x="20520" y="0"/>
              <a:ext cx="405000" cy="43959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4395960"/>
                <a:gd name="textAreaBottom" fmla="*/ 4396320 h 4395960"/>
              </a:gdLst>
              <a:ahLst/>
              <a:rect l="textAreaLeft" t="textAreaTop" r="textAreaRight" b="textAreaBottom"/>
              <a:pathLst>
                <a:path w="255" h="2769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6"/>
            <p:cNvSpPr/>
            <p:nvPr/>
          </p:nvSpPr>
          <p:spPr>
            <a:xfrm>
              <a:off x="453960" y="4316400"/>
              <a:ext cx="346320" cy="157644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1576440"/>
                <a:gd name="textAreaBottom" fmla="*/ 1576800 h 1576440"/>
              </a:gdLst>
              <a:ahLst/>
              <a:rect l="textAreaLeft" t="textAreaTop" r="textAreaRight" b="textAreaBottom"/>
              <a:pathLst>
                <a:path w="218" h="993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831960" y="5862600"/>
              <a:ext cx="352440" cy="9860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222" h="621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430200" y="4363920"/>
              <a:ext cx="452520" cy="223056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230560"/>
                <a:gd name="textAreaBottom" fmla="*/ 2230920 h 2230560"/>
              </a:gdLst>
              <a:ahLst/>
              <a:rect l="textAreaLeft" t="textAreaTop" r="textAreaRight" b="textAreaBottom"/>
              <a:pathLst>
                <a:path w="285" h="1405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385920" y="1289160"/>
              <a:ext cx="139680" cy="3022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88" h="1904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20"/>
            <p:cNvSpPr/>
            <p:nvPr/>
          </p:nvSpPr>
          <p:spPr>
            <a:xfrm>
              <a:off x="919080" y="6570720"/>
              <a:ext cx="106560" cy="2761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67" h="174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21"/>
            <p:cNvSpPr/>
            <p:nvPr/>
          </p:nvSpPr>
          <p:spPr>
            <a:xfrm>
              <a:off x="414360" y="4106880"/>
              <a:ext cx="63360" cy="506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0" h="319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22"/>
            <p:cNvSpPr/>
            <p:nvPr/>
          </p:nvSpPr>
          <p:spPr>
            <a:xfrm>
              <a:off x="804960" y="3146400"/>
              <a:ext cx="1163520" cy="27115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2711520"/>
                <a:gd name="textAreaBottom" fmla="*/ 2711880 h 2711520"/>
              </a:gdLst>
              <a:ahLst/>
              <a:rect l="textAreaLeft" t="textAreaTop" r="textAreaRight" b="textAreaBottom"/>
              <a:pathLst>
                <a:path w="733" h="170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887400" y="6600960"/>
              <a:ext cx="95400" cy="247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0" h="156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804960" y="5897520"/>
              <a:ext cx="109440" cy="669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69" h="422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804960" y="5772240"/>
              <a:ext cx="27000" cy="222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7" h="140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26"/>
            <p:cNvSpPr/>
            <p:nvPr/>
          </p:nvSpPr>
          <p:spPr>
            <a:xfrm>
              <a:off x="831960" y="6323040"/>
              <a:ext cx="169920" cy="5256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07" h="33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  <a:effectLst>
            <a:outerShdw dist="255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1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1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1395413" h="78105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2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D5AF6FF-C5C9-491F-AB95-9C9039D44FE7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 type="dt" idx="119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 type="sldNum" idx="120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11CB39A-946F-4783-A17A-D6D00AE66D40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 type="dt" idx="121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 type="sldNum" idx="122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87B4962-1839-4A12-BDEF-3A5EC7FC9B54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 type="dt" idx="123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 type="sldNum" idx="124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D8CFDA8-B7E6-4C38-AA01-AB598F051735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25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sldNum" idx="126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1DC47A7-A6FA-4383-888E-8BE6187C4334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 type="dt" idx="127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 type="sldNum" idx="128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044C98C-788F-4642-BFC4-19EAF27F6504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 type="dt" idx="129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 type="sldNum" idx="130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D3FA976-9625-4535-935D-DD34A05A083B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dt" idx="131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 type="sldNum" idx="132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A0359B5-EB1B-4EA4-9E5D-F3CD2E76EBF8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33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sldNum" idx="134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25262C8-352C-45DE-8BEA-1F9A588C55B3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 type="dt" idx="135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 type="sldNum" idx="136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80441E3-5BEF-47A7-9C27-B219106A6BA5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 type="dt" idx="137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 type="sldNum" idx="138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3BB0CB2-B4FD-42C2-B7C4-C3D4688C7451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AE85E-77D5-412F-9FE2-45EACF3F76CA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 type="dt" idx="139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 type="sldNum" idx="140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78F502A-6996-43E4-8345-B7AB3F29F37B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 type="dt" idx="141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 type="sldNum" idx="142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DE3EFAB-5BF6-4D3F-969E-A7FCF85788EE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 type="dt" idx="143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 type="sldNum" idx="144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9D2BF1A-DC55-4B62-93BA-F4B939EA008F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 type="dt" idx="145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 type="sldNum" idx="146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7D1FD99-5316-438E-9F53-F282AB909AE1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 type="dt" idx="147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 type="sldNum" idx="148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4166075-EA14-47C5-A8ED-25273B4657B0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83346-5436-496B-8F3F-BDA1371B4683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D8C96-CE31-49EC-95E5-BAD44DD2AA55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299880" y="494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Розробники курсу: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Проректор 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з науково-педагогічної роботи</a:t>
            </a: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Каганов Ю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.</a:t>
            </a: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О., 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znuhist@gmail.com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Проректор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 </a:t>
            </a: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з науково</a:t>
            </a:r>
            <a:r>
              <a:rPr b="1" i="1" lang="uk-UA" sz="1200" spc="-1" strike="noStrike">
                <a:solidFill>
                  <a:srgbClr val="262699"/>
                </a:solidFill>
                <a:latin typeface="Myriad Pro"/>
              </a:rPr>
              <a:t>ї</a:t>
            </a: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 роботи</a:t>
            </a: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Васильчук Г.М., 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historyhena@gmail.co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TextBox 2"/>
          <p:cNvSpPr/>
          <p:nvPr/>
        </p:nvSpPr>
        <p:spPr>
          <a:xfrm>
            <a:off x="971640" y="1197000"/>
            <a:ext cx="74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yriad Pro"/>
              </a:rPr>
              <a:t>Академічна доброчесніс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yriad Pro"/>
              </a:rPr>
              <a:t>у закладах осві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1" name="Рисунок 5" descr=""/>
          <p:cNvPicPr/>
          <p:nvPr/>
        </p:nvPicPr>
        <p:blipFill>
          <a:blip r:embed="rId1"/>
          <a:stretch/>
        </p:blipFill>
        <p:spPr>
          <a:xfrm>
            <a:off x="297000" y="3357720"/>
            <a:ext cx="3178080" cy="31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262699"/>
                </a:solidFill>
                <a:latin typeface="Myriad Pro"/>
              </a:rPr>
              <a:t>Плагі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Оприлюднення (опублікування),  повністю   або частково,  чужого  твору під іменем особи,  як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не є автором цього тв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yriad Pro"/>
              </a:rPr>
              <a:t>Про авторське право і суміжні права, ст. 50.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Оприлюднення (частково або повністю) наукових результатів, отриманих іншими особами, як результатів власного дослідження та/або відтворенню опублікованих текстів інших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авторів без відповідного посил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yriad Pro"/>
              </a:rPr>
              <a:t>Про вищу освіту, ст. 6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262699"/>
                </a:solidFill>
                <a:latin typeface="Myriad Pro"/>
              </a:rPr>
              <a:t>Плагі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академічний плагіат - оприлюднення (частково або повністю) наукових (творчих) результатів, отриманих іншими особами, як результатів власного дослідження (творчості), та/або відтворення опублікованих текстів (оприлюднених творів мистецтва) інших авторів без зазначення авторства під іменем особи, яка  не приймала участі у їх створенн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600" spc="-1" strike="noStrike">
                <a:solidFill>
                  <a:srgbClr val="a50021"/>
                </a:solidFill>
                <a:latin typeface="Myriad Pro"/>
              </a:rPr>
              <a:t>плагіат – оприлюднення (опублікування), повністю або частково, чужого наукового (творчого) результату, під іменем особи (учасника освітнього процесу), яка не є автором цього наукового (творчого) результа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Самоплагі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1) самоплагіат – відтворення у наукових виданнях без посилання на джерело власних раніше опублікованих у відповідних виданнях наукових результа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самоплагіат – оприлюднення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у наукових виданнях (частково або повністю) власних раніше опублікованих наукових (творчих) результатів, отриманих автором, як нових наукових (творчих) результатів</a:t>
            </a:r>
            <a:r>
              <a:rPr b="0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Фабрикац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фабрикація - фальсифікація результатів досліджень, посилань у власних публікаціях, будь-яких інших даних, у тому числі статистичних, що стосуються освітнього процесу та наукових досліджен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a50021"/>
                </a:solidFill>
                <a:latin typeface="Myriad Pro"/>
              </a:rPr>
              <a:t>фабрикація – штучне створення вигаданих даних чи фактів, що стосуються освітнього процесу та наукових досліджен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a50021"/>
                </a:solidFill>
                <a:latin typeface="Myriad Pro"/>
              </a:rPr>
              <a:t>фальсифікація – свідома зміна чи модифікація вже наявних даних, що стосуються освітнього процесу та наукових досліджень</a:t>
            </a:r>
            <a:r>
              <a:rPr b="1" lang="ru-RU" sz="2700" spc="-1" strike="noStrike">
                <a:solidFill>
                  <a:srgbClr val="a50021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yriad Pro"/>
              </a:rPr>
              <a:t>http://education-ua.org/ua/articles/930-akademichna-dobrochesnist-mifichna-kontseptsiya-chi-dievij-instrument-zabezpechennya-yakosti-vishchoji-osv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Обман, спис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обман -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списування – використання без відповідного дозволу зовнішніх джерел інформації </a:t>
            </a: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чи допомоги</a:t>
            </a:r>
            <a:r>
              <a:rPr b="0" lang="uk-UA" sz="3200" spc="-1" strike="noStrike">
                <a:solidFill>
                  <a:srgbClr val="262699"/>
                </a:solidFill>
                <a:latin typeface="Myriad Pro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під час оцінювання результатів навчання;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Хабарниц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абарництво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a50021"/>
                </a:solidFill>
                <a:latin typeface="Calibri"/>
              </a:rPr>
              <a:t>Неправомірна вигода – грошові кошти або інше майно, переваги, пільги, послуги, нематеріальні активи, будь-які інші вигоди нематеріального чи негрошового характеру, які обіцяють, пропонують, надають або одержують учасники освітнього процесу без законних на те підстав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ttp://www.kmu.gov.ua/control/uk/publish/article?art_id=248207001&amp;cat_id=24820676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Оцінювання, сабо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Myriad Pro"/>
              </a:rPr>
              <a:t>необ’єктивне оцінювання – свідоме завищення або заниження оцінок здобувачів освіти педагогічними та науково-педагогічними працівниками.</a:t>
            </a:r>
            <a:r>
              <a:rPr b="0" lang="ru-RU" sz="27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a50021"/>
                </a:solidFill>
                <a:latin typeface="Myriad Pro"/>
              </a:rPr>
              <a:t>академічний саботаж – вчинення учасником освітнього процесу дій, що надають йому можливість отримати нелегітимну академічну вигоду, чи зменшити таку для інших членів академічної групи чи спільноти.</a:t>
            </a:r>
            <a:r>
              <a:rPr b="0" lang="ru-RU" sz="27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yriad Pro"/>
              </a:rPr>
              <a:t>http://education-ua.org/ua/articles/930-akademichna-dobrochesnist-mifichna-kontseptsiya-chi-dievij-instrument-zabezpechennya-yakosti-vishchoji-osv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За порушення академічної доброчесності педагогічні, науково-педагогічні та наукові працівники закладів освіти можуть бути притягнені до такої академічної відповідальності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відмова у присудженні наукового ступеня чи присвоєнні вченого званн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позбавлення присудженого наукового ступеня чи присвоєного вченого званн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600" spc="-1" strike="noStrike">
                <a:solidFill>
                  <a:srgbClr val="339933"/>
                </a:solidFill>
                <a:latin typeface="Myriad Pro"/>
              </a:rPr>
              <a:t>відмова в присудженні або позбавлення присудженого педагогічного звання, кваліфікаційної категорії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позбавлення права брати участь у роботі визначених законом органів чи займати визначені законом посади.</a:t>
            </a:r>
            <a:r>
              <a:rPr b="0" lang="ru-RU" sz="26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За порушення академічної доброчесності здобувачі освіти можуть бути притягнені до такої академічної відповідальності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повторне проходження оцінювання (контрольна робота, іспит, залік тощо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повторне проходження відповідного освітнього компонента освітньої прогр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відрахування із закладу освіти (крім осіб, що здобувають загальну середню освіту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262699"/>
                </a:solidFill>
                <a:latin typeface="Myriad Pro"/>
              </a:rPr>
              <a:t>позбавлення академічної стипенді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262699"/>
                </a:solidFill>
                <a:latin typeface="Myriad Pro"/>
              </a:rPr>
              <a:t>позбавлення пільг з оплати навчання (при навчанні за кошти фізичних осіб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262699"/>
                </a:solidFill>
                <a:latin typeface="Myriad Pro"/>
              </a:rPr>
              <a:t>припинення договору про оплату навчання (при навчанні за кошти юридичних осіб).</a:t>
            </a:r>
            <a:r>
              <a:rPr b="0" lang="ru-RU" sz="27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424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0000ff"/>
                </a:solidFill>
                <a:latin typeface="Myriad Pro"/>
              </a:rPr>
              <a:t> </a:t>
            </a: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За порушення академічної доброчесності заклади освіти можуть бути притягнені до такої академічної відповідальності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позбавлення ліцензії на певні види освітньої діяльності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сертифікату акредитації освітньої програ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акредитації освітньої програ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акредитації спеціалізованої вченої ради із захисту дисертаці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позбавлення права на отримання державного (регіонального) замовлення на підготовку фахівці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наукових проектів, що фінансуються за кошти державного (регіональних) бюджеті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призупинення фінансування наукових проектів за кошти державного (регіональних) бюджетів до усунення виявлених порушень.</a:t>
            </a:r>
            <a:r>
              <a:rPr b="0" lang="ru-RU" sz="26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179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Myriad Pro"/>
              </a:rPr>
              <a:t>Бухарестська декларація етичних цінностей </a:t>
            </a:r>
            <a:br>
              <a:rPr sz="1800"/>
            </a:br>
            <a:r>
              <a:rPr b="1" i="1" lang="ru-RU" sz="1800" spc="-1" strike="noStrike">
                <a:solidFill>
                  <a:srgbClr val="262699"/>
                </a:solidFill>
                <a:latin typeface="Myriad Pro"/>
              </a:rPr>
              <a:t>і принципів вищої освіти в Європ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Text Box 2"/>
          <p:cNvSpPr/>
          <p:nvPr/>
        </p:nvSpPr>
        <p:spPr>
          <a:xfrm>
            <a:off x="1187280" y="1268280"/>
            <a:ext cx="73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yriad Pro"/>
                <a:ea typeface="Tahoma"/>
              </a:rPr>
              <a:t>«…Кожен член академічної та освітньої спільноти повинен прагнути до чесності і поширювати це прагнення на інших учасників освітнього та наукового процесу, послідовно утримуючись від брехні, шахрайства, крадіжок та інших форм нечесної поведінки, що викривляють парадигму освіти і науки…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Інші</a:t>
            </a:r>
            <a:r>
              <a:rPr b="0" lang="uk-UA" sz="3200" spc="-1" strike="noStrike">
                <a:solidFill>
                  <a:srgbClr val="3333cc"/>
                </a:solidFill>
                <a:latin typeface="Myriad Pro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види академічної відповідальності учасників освітнього процесу</a:t>
            </a:r>
            <a:r>
              <a:rPr b="0" lang="uk-UA" sz="3200" spc="-1" strike="noStrike">
                <a:solidFill>
                  <a:srgbClr val="3333cc"/>
                </a:solidFill>
                <a:latin typeface="Myriad Pro"/>
              </a:rPr>
              <a:t>, </a:t>
            </a: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а також їх відповідальність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 за конкретні порушення академічної доброчесності визначаються спеціальними зако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Заклади освіти можуть встановлювати додаткові види відповідальності за порушення академічної доброчесності відповідно до законодавства.</a:t>
            </a:r>
            <a:r>
              <a:rPr b="0" lang="ru-RU" sz="32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У випадках, передбачених законодавством, учасники освітнього процесу можуть притягатися до інших видів відповідальності за порушення академічної доброчесності.</a:t>
            </a:r>
            <a:r>
              <a:rPr b="1" lang="ru-RU" sz="32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Myriad Pro"/>
              </a:rPr>
              <a:t>Порядок виявлення та встановлення фактів порушення академічної доброчесності визначаються </a:t>
            </a:r>
            <a:r>
              <a:rPr b="1" lang="uk-UA" sz="2300" spc="-1" strike="noStrike">
                <a:solidFill>
                  <a:srgbClr val="ff0066"/>
                </a:solidFill>
                <a:latin typeface="Myriad Pro"/>
              </a:rPr>
              <a:t>правилами внутрішнього розпорядку закладів освіти</a:t>
            </a:r>
            <a:r>
              <a:rPr b="0" lang="ru-RU" sz="23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уповноваженим колегіальним органом управління закладу освіти з урахуванням вимог цього Закону та спеціальних законі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Особа, яка притягається до академічної відповідальності, має такі прав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1) знати про дату, час і місце та бути присутньою під час розгляду питання про притягнення її до академічної відповідальності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2) знайомитися із </a:t>
            </a:r>
            <a:r>
              <a:rPr b="1" lang="uk-UA" sz="2300" spc="-1" strike="noStrike">
                <a:solidFill>
                  <a:srgbClr val="262699"/>
                </a:solidFill>
                <a:latin typeface="Myriad Pro"/>
              </a:rPr>
              <a:t>з усіма </a:t>
            </a: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матеріалами перевірки щодо встановлення фактів порушення академічної доброчесності, подавати до них зауваження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3) особисто або через представника надавати усні та письмові пояснення або відмовитися від надання будь-яких пояснень, брати участь у дослідженні доказів порушення академічної доброчесності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4) оскаржити рішення про притягнення до академічної відповідальності до органу, уповноваженого розглядати апеляції, або до суду.</a:t>
            </a:r>
            <a:r>
              <a:rPr b="1" lang="ru-RU" sz="23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Форми та види академічної відповідальності закладів освіти визначаються спеціальними законами.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За дії (бездіяльність), що цим законом визнані порушенням академічної доброчесності, особа може бути притягнута до </a:t>
            </a:r>
            <a:r>
              <a:rPr b="1" lang="uk-UA" sz="3200" spc="-1" strike="noStrike">
                <a:solidFill>
                  <a:srgbClr val="ff0066"/>
                </a:solidFill>
                <a:latin typeface="Myriad Pro"/>
              </a:rPr>
              <a:t>інших видів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 юридичної відповідальності з підстав та в порядку, визначених відповідними законами.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yriad Pro"/>
              </a:rPr>
              <a:t>Закордонний досв</a:t>
            </a:r>
            <a:r>
              <a:rPr b="1" lang="uk-UA" sz="4400" spc="-1" strike="noStrike">
                <a:solidFill>
                  <a:srgbClr val="262699"/>
                </a:solidFill>
                <a:latin typeface="Myriad Pro"/>
              </a:rPr>
              <a:t>і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Text Box 2"/>
          <p:cNvSpPr/>
          <p:nvPr/>
        </p:nvSpPr>
        <p:spPr>
          <a:xfrm>
            <a:off x="539640" y="836640"/>
            <a:ext cx="8074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668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Myriad Pro"/>
                <a:ea typeface="Tahoma"/>
              </a:rPr>
              <a:t>Кодекси честі закордонних університетів  є продуктом освітянської культури, яка формувалася не одне століття. Її суб’єктом є вільний інтелектуал, який власноруч будує своє майбутн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8" name="Picture 3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01812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 Box 1"/>
          <p:cNvSpPr/>
          <p:nvPr/>
        </p:nvSpPr>
        <p:spPr>
          <a:xfrm>
            <a:off x="539640" y="1628640"/>
            <a:ext cx="7920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Myriad Pro"/>
                <a:ea typeface="Tahoma"/>
              </a:rPr>
              <a:t>Кодекс честі 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  <a:ea typeface="Tahoma"/>
              </a:rPr>
              <a:t>як форма інституціоналізації системи цінностей навчального закладу, окреслення етичної моделі поведінки й діяльності кожного члена академічної громади, фіксації механізмів боротьби із проявами академічної недоброчеснос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Rectangle 1"/>
          <p:cNvSpPr/>
          <p:nvPr/>
        </p:nvSpPr>
        <p:spPr>
          <a:xfrm>
            <a:off x="1332000" y="260280"/>
            <a:ext cx="75596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lang="uk-UA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1" lang="uk-UA" sz="2800" spc="-1" strike="noStrike">
                <a:solidFill>
                  <a:srgbClr val="262699"/>
                </a:solidFill>
                <a:latin typeface="Myriad Pro"/>
                <a:ea typeface="Tahoma"/>
              </a:rPr>
              <a:t>Кодекс честі</a:t>
            </a:r>
            <a:r>
              <a:rPr b="0" lang="uk-UA" sz="2800" spc="-1" strike="noStrike">
                <a:solidFill>
                  <a:srgbClr val="262699"/>
                </a:solidFill>
                <a:latin typeface="Myriad Pro"/>
                <a:ea typeface="Tahoma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– це сукупність моральних принципів, якими людина керується в особистій і громадській поведінц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Rectangle 2"/>
          <p:cNvSpPr/>
          <p:nvPr/>
        </p:nvSpPr>
        <p:spPr>
          <a:xfrm>
            <a:off x="425520" y="1717560"/>
            <a:ext cx="842472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Кодекс честі науковця та освітянина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це набір правил або етичних принципів, що регулюють діяльність академічного співтовариства, заснованої на ідеалах, які визначають, що являє собою доброчесна поведінка в межах цієї спільноти. Кодекси честі є інструментом запобігання академічної нечеснос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Rectangle 4"/>
          <p:cNvSpPr/>
          <p:nvPr/>
        </p:nvSpPr>
        <p:spPr>
          <a:xfrm>
            <a:off x="758880" y="5229360"/>
            <a:ext cx="8018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Myriad Pro"/>
                <a:ea typeface="Tahoma"/>
              </a:rPr>
              <a:t>Головна функція кодексів честі (етичних кодексів) –</a:t>
            </a:r>
            <a:r>
              <a:rPr b="0" lang="uk-UA" sz="2400" spc="-1" strike="noStrike">
                <a:solidFill>
                  <a:srgbClr val="000000"/>
                </a:solidFill>
                <a:latin typeface="Myriad Pro"/>
                <a:ea typeface="Tahom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Myriad Pro"/>
                <a:ea typeface="Tahoma"/>
              </a:rPr>
              <a:t>це формування системи соціальної відповідальності науковця та освітянин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3" name="Рисунок 1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115704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4" name="Рисунок 1" descr=""/>
          <p:cNvPicPr/>
          <p:nvPr/>
        </p:nvPicPr>
        <p:blipFill>
          <a:blip r:embed="rId1"/>
          <a:stretch/>
        </p:blipFill>
        <p:spPr>
          <a:xfrm>
            <a:off x="17640" y="1484280"/>
            <a:ext cx="9144000" cy="4619520"/>
          </a:xfrm>
          <a:prstGeom prst="rect">
            <a:avLst/>
          </a:prstGeom>
          <a:ln w="0">
            <a:noFill/>
          </a:ln>
        </p:spPr>
      </p:pic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-3600" y="115560"/>
            <a:ext cx="914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Участь Запорізького національного університету у</a:t>
            </a:r>
            <a:br>
              <a:rPr sz="2800"/>
            </a:b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Проекті сприяння академічній доброчес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-3600" y="115560"/>
            <a:ext cx="914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Участь Запорізького національного університету у</a:t>
            </a:r>
            <a:br>
              <a:rPr sz="2800"/>
            </a:b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Проекті сприяння академічній доброчес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7" name="Рисунок 3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5121360" cy="3840120"/>
          </a:xfrm>
          <a:prstGeom prst="rect">
            <a:avLst/>
          </a:prstGeom>
          <a:ln w="0">
            <a:noFill/>
          </a:ln>
        </p:spPr>
      </p:pic>
      <p:pic>
        <p:nvPicPr>
          <p:cNvPr id="3088" name="Рисунок 2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91644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Myriad Pro"/>
              </a:rPr>
              <a:t> </a:t>
            </a:r>
            <a:r>
              <a:rPr b="1" lang="uk-UA" sz="4000" spc="-1" strike="noStrike">
                <a:solidFill>
                  <a:srgbClr val="3333cc"/>
                </a:solidFill>
                <a:latin typeface="Myriad Pro"/>
              </a:rPr>
              <a:t>Контак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0" name="Picture 2" descr=""/>
          <p:cNvPicPr/>
          <p:nvPr/>
        </p:nvPicPr>
        <p:blipFill>
          <a:blip r:embed="rId1"/>
          <a:stretch/>
        </p:blipFill>
        <p:spPr>
          <a:xfrm>
            <a:off x="3059280" y="3476520"/>
            <a:ext cx="6084720" cy="3381480"/>
          </a:xfrm>
          <a:prstGeom prst="rect">
            <a:avLst/>
          </a:prstGeom>
          <a:ln w="0">
            <a:noFill/>
          </a:ln>
        </p:spPr>
      </p:pic>
      <p:sp>
        <p:nvSpPr>
          <p:cNvPr id="3091" name="Text Box 3"/>
          <p:cNvSpPr/>
          <p:nvPr/>
        </p:nvSpPr>
        <p:spPr>
          <a:xfrm>
            <a:off x="468360" y="6308640"/>
            <a:ext cx="55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trengthening Academic Integrity in Ukraine Project (SAIUP), 20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2" name="Picture 4" descr=""/>
          <p:cNvPicPr/>
          <p:nvPr/>
        </p:nvPicPr>
        <p:blipFill>
          <a:blip r:embed="rId2"/>
          <a:stretch/>
        </p:blipFill>
        <p:spPr>
          <a:xfrm>
            <a:off x="0" y="1442880"/>
            <a:ext cx="9144000" cy="3386160"/>
          </a:xfrm>
          <a:prstGeom prst="rect">
            <a:avLst/>
          </a:prstGeom>
          <a:ln w="0">
            <a:noFill/>
          </a:ln>
        </p:spPr>
      </p:pic>
      <p:sp>
        <p:nvSpPr>
          <p:cNvPr id="3093" name="Text Box 5"/>
          <p:cNvSpPr/>
          <p:nvPr/>
        </p:nvSpPr>
        <p:spPr>
          <a:xfrm>
            <a:off x="468360" y="4869000"/>
            <a:ext cx="646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saiup.org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americancouncils.org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facebook/saiu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vk.com/sai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Rectangle 2"/>
          <p:cNvSpPr/>
          <p:nvPr/>
        </p:nvSpPr>
        <p:spPr>
          <a:xfrm>
            <a:off x="274680" y="5524560"/>
            <a:ext cx="853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262699"/>
                </a:solidFill>
                <a:latin typeface="Myriad Pro"/>
                <a:ea typeface="Tahoma"/>
              </a:rPr>
              <a:t>* Цю листівку виготовлено за підтримки Відділу преси, освіти та культури Посольства США в Україні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262699"/>
                </a:solidFill>
                <a:latin typeface="Myriad Pro"/>
                <a:ea typeface="Tahoma"/>
              </a:rPr>
              <a:t>Точка зору, відображена у ній, може не співпадати з офіційною позицією уряду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5" name="Рисунок 2" descr=""/>
          <p:cNvPicPr/>
          <p:nvPr/>
        </p:nvPicPr>
        <p:blipFill>
          <a:blip r:embed="rId1"/>
          <a:stretch/>
        </p:blipFill>
        <p:spPr>
          <a:xfrm>
            <a:off x="1763640" y="96840"/>
            <a:ext cx="58705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352000" cy="505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262699"/>
                </a:solidFill>
                <a:latin typeface="Myriad Pro"/>
              </a:rPr>
              <a:t>Академічна доброчесність</a:t>
            </a:r>
            <a:br>
              <a:rPr sz="3100"/>
            </a:br>
            <a:br>
              <a:rPr sz="3100"/>
            </a:br>
            <a:r>
              <a:rPr b="0" lang="en-US" sz="2700" spc="-1" strike="noStrike">
                <a:solidFill>
                  <a:srgbClr val="262626"/>
                </a:solidFill>
                <a:latin typeface="Myriad Pro"/>
              </a:rPr>
              <a:t>Academic Integr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Термін </a:t>
            </a:r>
            <a:r>
              <a:rPr b="1" i="1" lang="en-US" sz="2400" spc="-1" strike="noStrike">
                <a:solidFill>
                  <a:srgbClr val="262626"/>
                </a:solidFill>
                <a:latin typeface="Myriad Pro"/>
              </a:rPr>
              <a:t>integer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 з лат. означає 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«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довершений, повний, цілісний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»</a:t>
            </a:r>
            <a:br>
              <a:rPr sz="2400"/>
            </a:br>
            <a:r>
              <a:rPr b="1" i="1" lang="en-US" sz="2400" spc="-1" strike="noStrike">
                <a:solidFill>
                  <a:srgbClr val="262626"/>
                </a:solidFill>
                <a:latin typeface="Myriad Pro"/>
              </a:rPr>
              <a:t>Integrity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 – 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«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довершеність, повнота, цілісність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»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 – означає такий психологічний стан людини, який характеризується її в</a:t>
            </a:r>
            <a:r>
              <a:rPr b="0" lang="en-US" sz="2000" spc="-1" strike="noStrike">
                <a:solidFill>
                  <a:srgbClr val="262626"/>
                </a:solidFill>
                <a:latin typeface="Myriad Pro"/>
              </a:rPr>
              <a:t>нутрішньою гармонією, стійкістю і послідовністю морального образу (Killinger 2010)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262626"/>
                </a:solidFill>
                <a:latin typeface="Myriad Pro"/>
              </a:rPr>
              <a:t>Академічна доброчесність </a:t>
            </a:r>
            <a:r>
              <a:rPr b="0" lang="en-US" sz="2000" spc="-1" strike="noStrike">
                <a:solidFill>
                  <a:srgbClr val="262626"/>
                </a:solidFill>
                <a:latin typeface="Myriad Pro"/>
              </a:rPr>
              <a:t>– це відданість академічної спільноти, навіть перед лицем труднощів, шести фундаментальним цінностям: чесності, довірі, справедливості, повазі, </a:t>
            </a:r>
            <a:r>
              <a:rPr b="1" lang="en-US" sz="2000" spc="-1" strike="noStrike">
                <a:solidFill>
                  <a:srgbClr val="262626"/>
                </a:solidFill>
                <a:latin typeface="Myriad Pro"/>
              </a:rPr>
              <a:t>відповідальності і мужності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Myriad Pro"/>
              </a:rPr>
              <a:t>(The International Center for Academic Integrity 201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Myriad Pro"/>
              </a:rPr>
              <a:t>Основні форми проявів </a:t>
            </a:r>
            <a:br>
              <a:rPr sz="3200"/>
            </a:br>
            <a:r>
              <a:rPr b="1" lang="ru-RU" sz="3200" spc="-1" strike="noStrike">
                <a:solidFill>
                  <a:srgbClr val="262699"/>
                </a:solidFill>
                <a:latin typeface="Myriad Pro"/>
              </a:rPr>
              <a:t>академічної недоброчесност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Text Box 2"/>
          <p:cNvSpPr/>
          <p:nvPr/>
        </p:nvSpPr>
        <p:spPr>
          <a:xfrm>
            <a:off x="457200" y="1600200"/>
            <a:ext cx="822960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лагіат (у тому числі самоплагіат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списування під час контрольних заході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ридбання з наступним поданням як власних результатів навчальної та наукової діяльност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академічне шахрайств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фабрикація/фальсифікаці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надання відгуків/рецензій без належної експертиз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сування/саботаж навчальної або наукової роботи інших осі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несправедливе співавторств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ропонування/прийняття несправедливої винагород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конфлікт інтересів тощ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Myriad Pro"/>
              </a:rPr>
              <a:t>Проект Закону України «Про освіт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yriad Pro"/>
              </a:rPr>
              <a:t>Стаття 6. Принципи державної політики у сфері освіти та засади освітньої діяльност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yriad Pro"/>
              </a:rPr>
              <a:t>академічна доброчесніс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yriad Pro"/>
              </a:rPr>
              <a:t>Стаття 42. Академічна доброчесні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Myriad Pro"/>
              </a:rPr>
              <a:t>Поняття академічної доброчеснос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Rectangle 2"/>
          <p:cNvSpPr/>
          <p:nvPr/>
        </p:nvSpPr>
        <p:spPr>
          <a:xfrm>
            <a:off x="395280" y="2205000"/>
            <a:ext cx="835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1. 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Академічна доброчесність 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– це сукупність етичних принципів та визначених законом правил, якими мають керуватися учасники освітнього процесу під час навчання, викладання та провадження наукової (творчої) діяльності з метою забезпечення довіри до результатів навчання та/або наукових (творчих) досягн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2. Дотримання академічної доброчесності педагогічними, науково-педагогічними та науковими працівниками передбачає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посилання на джерела інформації у разі використання ідей, тверджень, відомост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дотримання норм законодавства про авторське право </a:t>
            </a:r>
            <a:r>
              <a:rPr b="1" lang="uk-UA" sz="2700" spc="-1" strike="noStrike">
                <a:solidFill>
                  <a:srgbClr val="339933"/>
                </a:solidFill>
                <a:latin typeface="Myriad Pro"/>
              </a:rPr>
              <a:t>і суміжні пра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надання достовірної інформації про </a:t>
            </a:r>
            <a:r>
              <a:rPr b="1" lang="uk-UA" sz="2700" spc="-1" strike="noStrike">
                <a:solidFill>
                  <a:srgbClr val="3333cc"/>
                </a:solidFill>
                <a:latin typeface="Myriad Pro"/>
              </a:rPr>
              <a:t>методики</a:t>
            </a:r>
            <a:r>
              <a:rPr b="1" lang="uk-UA" sz="2700" spc="-1" strike="noStrike">
                <a:solidFill>
                  <a:srgbClr val="0000ff"/>
                </a:solidFill>
                <a:latin typeface="Myriad Pro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і</a:t>
            </a: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 результати досліджень, </a:t>
            </a:r>
            <a:r>
              <a:rPr b="1" lang="uk-UA" sz="2700" spc="-1" strike="noStrike">
                <a:solidFill>
                  <a:srgbClr val="3333cc"/>
                </a:solidFill>
                <a:latin typeface="Myriad Pro"/>
              </a:rPr>
              <a:t>джерела використаної інформації</a:t>
            </a:r>
            <a:r>
              <a:rPr b="0" lang="uk-UA" sz="2700" spc="-1" strike="noStrike">
                <a:solidFill>
                  <a:srgbClr val="3333cc"/>
                </a:solidFill>
                <a:latin typeface="Myriad Pro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та власну педагогічну (науково-педагогічну, творчу) діяльніс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контроль за дотриманням академічної доброчесності здобувачами осві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3333cc"/>
                </a:solidFill>
                <a:latin typeface="Myriad Pro"/>
              </a:rPr>
              <a:t>об’єктивне та справедливе оцінювання здобувачів освіти</a:t>
            </a:r>
            <a:r>
              <a:rPr b="0" lang="ru-RU" sz="2700" spc="-1" strike="noStrike">
                <a:solidFill>
                  <a:srgbClr val="3333cc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374320" cy="47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100" spc="-1" strike="noStrike">
                <a:solidFill>
                  <a:srgbClr val="3333cc"/>
                </a:solidFill>
                <a:latin typeface="Myriad Pro"/>
              </a:rPr>
              <a:t>         </a:t>
            </a:r>
            <a:r>
              <a:rPr b="1" lang="uk-UA" sz="3100" spc="-1" strike="noStrike">
                <a:solidFill>
                  <a:srgbClr val="3333cc"/>
                </a:solidFill>
                <a:latin typeface="Myriad Pro"/>
              </a:rPr>
              <a:t>Ознаки плагіату (правило Фішмана)</a:t>
            </a:r>
            <a:br>
              <a:rPr sz="3100"/>
            </a:br>
            <a:br>
              <a:rPr sz="3100"/>
            </a:br>
            <a:r>
              <a:rPr b="1" lang="uk-UA" sz="2700" spc="-1" strike="noStrike">
                <a:solidFill>
                  <a:srgbClr val="262626"/>
                </a:solidFill>
                <a:latin typeface="Myriad Pro"/>
              </a:rPr>
              <a:t>ПЛАГІАТ – це</a:t>
            </a:r>
            <a:br>
              <a:rPr sz="2700"/>
            </a:br>
            <a:r>
              <a:rPr b="0" lang="uk-UA" sz="2800" spc="-1" strike="noStrike">
                <a:solidFill>
                  <a:srgbClr val="262626"/>
                </a:solidFill>
                <a:latin typeface="Myriad Pro"/>
              </a:rPr>
              <a:t>«коли певна особа використовує слова, ідеї чи результати праці, що належать іншому визначеному джерелу чи людині без вказування посилання на джерело, з якого вона була запозичена, у ситуації, в якій правомірно очікується вказування авторства оригіналу, з метою отримати певну користь, пошану, вигоду, які не обов’язково мають бути матеріального чи грошового характеру»</a:t>
            </a:r>
            <a:br>
              <a:rPr sz="2800"/>
            </a:br>
            <a:r>
              <a:rPr b="0" lang="uk-UA" sz="2400" spc="-1" strike="noStrike">
                <a:solidFill>
                  <a:srgbClr val="262626"/>
                </a:solidFill>
                <a:latin typeface="Myriad Pro"/>
              </a:rPr>
              <a:t>                                                    </a:t>
            </a:r>
            <a:br>
              <a:rPr sz="2400"/>
            </a:br>
            <a:r>
              <a:rPr b="0" lang="uk-UA" sz="2400" spc="-1" strike="noStrike">
                <a:solidFill>
                  <a:srgbClr val="262626"/>
                </a:solidFill>
                <a:latin typeface="Myriad Pro"/>
              </a:rPr>
              <a:t> </a:t>
            </a:r>
            <a:r>
              <a:rPr b="0" i="1" lang="uk-UA" sz="2400" spc="-1" strike="noStrike">
                <a:solidFill>
                  <a:srgbClr val="262626"/>
                </a:solidFill>
                <a:latin typeface="Myriad Pro"/>
              </a:rPr>
              <a:t>Fishman 2009, с. 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4T10:44:43Z</dcterms:created>
  <dc:creator>user_accels</dc:creator>
  <dc:description/>
  <dc:language>en-US</dc:language>
  <cp:lastModifiedBy>user</cp:lastModifiedBy>
  <dcterms:modified xsi:type="dcterms:W3CDTF">2020-02-12T09:37:02Z</dcterms:modified>
  <cp:revision>72</cp:revision>
  <dc:subject/>
  <dc:title>Слайд 1</dc:title>
</cp:coreProperties>
</file>